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media/image54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F69-8BAF-425B-A8B3-6E0EAF8A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B07-74F3-4204-96A7-FF825FAB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37F-0327-447B-89BE-05112F60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8DD-FB06-4090-9867-5F3FFB84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5DB-53B8-496B-A85C-748CFDB0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899-4BA8-4A59-8586-938BBE9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65F-C026-4597-BC07-906AF9A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8E9-762C-4980-A33D-C2A90F0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59A-C8D4-43D1-9475-AC1D52B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6E2-8432-4703-803A-023E4DD9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943-AD6E-4FE2-B1FD-9E6B07E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D25-2B4D-4953-A210-157CDCA6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C684-C0C1-453E-855F-C318CA57B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-30240" y="825480"/>
            <a:ext cx="4376880" cy="5767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08000" y="-27000"/>
            <a:ext cx="57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 е к о р а т и в н о е   у б р а н с т в 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у с с к о й   и з б 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4211640" y="3505320"/>
            <a:ext cx="4821120" cy="3233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>
            <a:off x="4614840" y="825480"/>
            <a:ext cx="416412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6600960" y="825480"/>
            <a:ext cx="10080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4417920" y="0"/>
            <a:ext cx="4740480" cy="3556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0" y="17640"/>
            <a:ext cx="2313000" cy="3581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3"/>
          <a:stretch/>
        </p:blipFill>
        <p:spPr>
          <a:xfrm>
            <a:off x="5475240" y="3822840"/>
            <a:ext cx="3562560" cy="2563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4"/>
          <a:stretch/>
        </p:blipFill>
        <p:spPr>
          <a:xfrm>
            <a:off x="1784520" y="2201760"/>
            <a:ext cx="3457440" cy="4656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5"/>
          <a:stretch/>
        </p:blipFill>
        <p:spPr>
          <a:xfrm>
            <a:off x="65160" y="3889440"/>
            <a:ext cx="1703160" cy="2563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6"/>
          <a:stretch/>
        </p:blipFill>
        <p:spPr>
          <a:xfrm>
            <a:off x="2411280" y="189000"/>
            <a:ext cx="2448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826920" y="3124080"/>
            <a:ext cx="2314800" cy="3432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"/>
          <p:cNvPicPr/>
          <p:nvPr/>
        </p:nvPicPr>
        <p:blipFill>
          <a:blip r:embed="rId2"/>
          <a:stretch/>
        </p:blipFill>
        <p:spPr>
          <a:xfrm>
            <a:off x="322200" y="298440"/>
            <a:ext cx="3586320" cy="2625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3"/>
          <a:stretch/>
        </p:blipFill>
        <p:spPr>
          <a:xfrm>
            <a:off x="4932360" y="298440"/>
            <a:ext cx="3697200" cy="2825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4"/>
          <a:stretch/>
        </p:blipFill>
        <p:spPr>
          <a:xfrm>
            <a:off x="5796000" y="3381480"/>
            <a:ext cx="2663640" cy="3149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3348000" y="3381480"/>
            <a:ext cx="24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ничные  дос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3348000" y="5589720"/>
            <a:ext cx="2448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лониц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годская губ.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79280" y="0"/>
            <a:ext cx="48499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4994280" y="0"/>
            <a:ext cx="39798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4881600" y="212760"/>
            <a:ext cx="4014720" cy="50878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tretch/>
        </p:blipFill>
        <p:spPr>
          <a:xfrm>
            <a:off x="5392800" y="5423040"/>
            <a:ext cx="2992320" cy="857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3"/>
          <a:stretch/>
        </p:blipFill>
        <p:spPr>
          <a:xfrm>
            <a:off x="179280" y="212760"/>
            <a:ext cx="4348440" cy="5210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4"/>
          <a:stretch/>
        </p:blipFill>
        <p:spPr>
          <a:xfrm>
            <a:off x="826920" y="5452920"/>
            <a:ext cx="27370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5016600" y="73080"/>
            <a:ext cx="4035240" cy="5967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4927680" y="5925960"/>
            <a:ext cx="4216320" cy="640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4"/>
          <a:stretch/>
        </p:blipFill>
        <p:spPr>
          <a:xfrm>
            <a:off x="395280" y="1557360"/>
            <a:ext cx="106056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969840" y="-1440"/>
            <a:ext cx="5618160" cy="6859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3" name="Рисунок 2" descr=""/>
          <p:cNvPicPr/>
          <p:nvPr/>
        </p:nvPicPr>
        <p:blipFill>
          <a:blip r:embed="rId2"/>
          <a:stretch/>
        </p:blipFill>
        <p:spPr>
          <a:xfrm>
            <a:off x="6618240" y="5040360"/>
            <a:ext cx="2282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4529160" y="241200"/>
            <a:ext cx="4506840" cy="57848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-33480" y="241200"/>
            <a:ext cx="4562640" cy="5784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1476360" y="60260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ые гребни.                                         Костяная  коробоч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лмогоры.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70600" cy="6742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292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538520" cy="6480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38941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345200" cy="6335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33480" y="0"/>
            <a:ext cx="43099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255600"/>
            <a:ext cx="4405320" cy="6269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4673520" y="255600"/>
            <a:ext cx="440712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4611600"/>
            <a:ext cx="6526080" cy="2097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4127400" y="333360"/>
            <a:ext cx="4797360" cy="1805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562200" cy="3324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"/>
          <p:cNvPicPr/>
          <p:nvPr/>
        </p:nvPicPr>
        <p:blipFill>
          <a:blip r:embed="rId4"/>
          <a:stretch/>
        </p:blipFill>
        <p:spPr>
          <a:xfrm>
            <a:off x="38160" y="3578400"/>
            <a:ext cx="3021120" cy="3159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5"/>
          <a:srcRect l="0" t="-2047" r="-5026" b="0"/>
          <a:stretch/>
        </p:blipFill>
        <p:spPr>
          <a:xfrm>
            <a:off x="606600" y="1646280"/>
            <a:ext cx="942840" cy="703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"/>
          <p:cNvPicPr/>
          <p:nvPr/>
        </p:nvPicPr>
        <p:blipFill>
          <a:blip r:embed="rId6"/>
          <a:stretch/>
        </p:blipFill>
        <p:spPr>
          <a:xfrm>
            <a:off x="5308560" y="2293920"/>
            <a:ext cx="3041640" cy="2282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"/>
          <p:cNvPicPr/>
          <p:nvPr/>
        </p:nvPicPr>
        <p:blipFill>
          <a:blip r:embed="rId7"/>
          <a:stretch/>
        </p:blipFill>
        <p:spPr>
          <a:xfrm>
            <a:off x="6829560" y="4869000"/>
            <a:ext cx="2097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288612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"/>
          <p:cNvPicPr/>
          <p:nvPr/>
        </p:nvPicPr>
        <p:blipFill>
          <a:blip r:embed="rId2"/>
          <a:stretch/>
        </p:blipFill>
        <p:spPr>
          <a:xfrm>
            <a:off x="2793960" y="571680"/>
            <a:ext cx="6242040" cy="1201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266544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859280" y="1159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 Р Я Л К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3" descr=""/>
          <p:cNvPicPr/>
          <p:nvPr/>
        </p:nvPicPr>
        <p:blipFill>
          <a:blip r:embed="rId4"/>
          <a:stretch/>
        </p:blipFill>
        <p:spPr>
          <a:xfrm>
            <a:off x="2793960" y="1643040"/>
            <a:ext cx="4299120" cy="1762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"/>
          <p:cNvPicPr/>
          <p:nvPr/>
        </p:nvPicPr>
        <p:blipFill>
          <a:blip r:embed="rId5"/>
          <a:stretch/>
        </p:blipFill>
        <p:spPr>
          <a:xfrm>
            <a:off x="108000" y="3543480"/>
            <a:ext cx="2592360" cy="3071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"/>
          <p:cNvPicPr/>
          <p:nvPr/>
        </p:nvPicPr>
        <p:blipFill>
          <a:blip r:embed="rId6"/>
          <a:stretch/>
        </p:blipFill>
        <p:spPr>
          <a:xfrm>
            <a:off x="3549600" y="3543480"/>
            <a:ext cx="22957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371760" cy="5154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84360" y="133200"/>
            <a:ext cx="2668320" cy="636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3"/>
          <a:stretch/>
        </p:blipFill>
        <p:spPr>
          <a:xfrm>
            <a:off x="3727440" y="3197160"/>
            <a:ext cx="663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1967040" y="2462040"/>
            <a:ext cx="3024000" cy="4240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166680" y="2379600"/>
            <a:ext cx="1800360" cy="4240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3"/>
          <a:stretch/>
        </p:blipFill>
        <p:spPr>
          <a:xfrm>
            <a:off x="146160" y="260280"/>
            <a:ext cx="4852800" cy="2035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"/>
          <p:cNvPicPr/>
          <p:nvPr/>
        </p:nvPicPr>
        <p:blipFill>
          <a:blip r:embed="rId4"/>
          <a:stretch/>
        </p:blipFill>
        <p:spPr>
          <a:xfrm>
            <a:off x="4998960" y="404640"/>
            <a:ext cx="3967200" cy="536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5"/>
          <a:stretch/>
        </p:blipFill>
        <p:spPr>
          <a:xfrm>
            <a:off x="5197320" y="4129200"/>
            <a:ext cx="3924360" cy="2511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"/>
          <p:cNvPicPr/>
          <p:nvPr/>
        </p:nvPicPr>
        <p:blipFill>
          <a:blip r:embed="rId6"/>
          <a:stretch/>
        </p:blipFill>
        <p:spPr>
          <a:xfrm>
            <a:off x="6019920" y="1278000"/>
            <a:ext cx="1042920" cy="2706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"/>
          <p:cNvPicPr/>
          <p:nvPr/>
        </p:nvPicPr>
        <p:blipFill>
          <a:blip r:embed="rId7"/>
          <a:stretch/>
        </p:blipFill>
        <p:spPr>
          <a:xfrm>
            <a:off x="7093080" y="1052640"/>
            <a:ext cx="2028600" cy="3063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3" descr=""/>
          <p:cNvPicPr/>
          <p:nvPr/>
        </p:nvPicPr>
        <p:blipFill>
          <a:blip r:embed="rId8"/>
          <a:stretch/>
        </p:blipFill>
        <p:spPr>
          <a:xfrm>
            <a:off x="5197320" y="1052640"/>
            <a:ext cx="698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7:26:24Z</dcterms:created>
  <dc:creator>Тётушки</dc:creator>
  <dc:description/>
  <dc:language>en-US</dc:language>
  <cp:lastModifiedBy>Алекс</cp:lastModifiedBy>
  <dcterms:modified xsi:type="dcterms:W3CDTF">2015-01-10T14:27:03Z</dcterms:modified>
  <cp:revision>139</cp:revision>
  <dc:subject/>
  <dc:title>Презентация PowerPoint</dc:title>
</cp:coreProperties>
</file>