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18.jpeg" ContentType="image/jpeg"/>
  <Override PartName="/ppt/media/image5.jpeg" ContentType="image/jpeg"/>
  <Override PartName="/ppt/media/image20.jpeg" ContentType="image/jpeg"/>
  <Override PartName="/ppt/media/image16.jpeg" ContentType="image/jpeg"/>
  <Override PartName="/ppt/media/image62.jpeg" ContentType="image/jpeg"/>
  <Override PartName="/ppt/media/image19.png" ContentType="image/png"/>
  <Override PartName="/ppt/media/image79.jpeg" ContentType="image/jpeg"/>
  <Override PartName="/ppt/media/image3.jpeg" ContentType="image/jpeg"/>
  <Override PartName="/ppt/media/image37.jpeg" ContentType="image/jpeg"/>
  <Override PartName="/ppt/media/image14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86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01B-5BBB-4A19-A1BB-B154237B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1B5-2BCC-444F-BAF5-11EFE023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351-410F-496E-AC4B-EC94DE06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040-34A5-45D7-B51D-00900BE5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CC3-E450-406D-A1FA-BF2EB77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A29-0986-43D8-9C5F-5F46D34D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3ED-19F7-46B1-90C1-D078A95A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D6D-F3F7-4B1D-BA92-80890D28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D7E-CBB9-4531-8B17-389DE37D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45E-1C6B-48FA-ACFE-CA9C84F4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176-F78E-4BB3-AB3D-4528C6D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B66-E585-485F-ACCC-B2A198A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F25-D7C2-472E-AB48-4DDE2CABC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98280" y="44280"/>
            <a:ext cx="4861080" cy="6624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2"/>
          <a:stretch/>
        </p:blipFill>
        <p:spPr>
          <a:xfrm>
            <a:off x="5076720" y="231840"/>
            <a:ext cx="3959280" cy="64371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3"/>
          <a:stretch/>
        </p:blipFill>
        <p:spPr>
          <a:xfrm>
            <a:off x="98280" y="6391440"/>
            <a:ext cx="22417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3645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2700360" y="3198960"/>
            <a:ext cx="3529080" cy="3659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3"/>
          <a:stretch/>
        </p:blipFill>
        <p:spPr>
          <a:xfrm>
            <a:off x="4464000" y="0"/>
            <a:ext cx="4619520" cy="3645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"/>
          <p:cNvPicPr/>
          <p:nvPr/>
        </p:nvPicPr>
        <p:blipFill>
          <a:blip r:embed="rId4"/>
          <a:stretch/>
        </p:blipFill>
        <p:spPr>
          <a:xfrm>
            <a:off x="6357960" y="4118040"/>
            <a:ext cx="2663640" cy="2479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5"/>
          <a:stretch/>
        </p:blipFill>
        <p:spPr>
          <a:xfrm>
            <a:off x="179280" y="4118040"/>
            <a:ext cx="2306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219240" y="0"/>
            <a:ext cx="4352760" cy="6453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155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179280" y="0"/>
            <a:ext cx="43689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"/>
          <p:cNvPicPr/>
          <p:nvPr/>
        </p:nvPicPr>
        <p:blipFill>
          <a:blip r:embed="rId2"/>
          <a:stretch/>
        </p:blipFill>
        <p:spPr>
          <a:xfrm>
            <a:off x="4973760" y="549360"/>
            <a:ext cx="39909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98296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6095880" y="260280"/>
            <a:ext cx="2497320" cy="2541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2881440" cy="2879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4"/>
          <a:stretch/>
        </p:blipFill>
        <p:spPr>
          <a:xfrm>
            <a:off x="5796000" y="4365720"/>
            <a:ext cx="3097080" cy="2027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"/>
          <p:cNvPicPr/>
          <p:nvPr/>
        </p:nvPicPr>
        <p:blipFill>
          <a:blip r:embed="rId5"/>
          <a:stretch/>
        </p:blipFill>
        <p:spPr>
          <a:xfrm>
            <a:off x="3479760" y="2801880"/>
            <a:ext cx="152280" cy="1825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"/>
          <p:cNvPicPr/>
          <p:nvPr/>
        </p:nvPicPr>
        <p:blipFill>
          <a:blip r:embed="rId6"/>
          <a:srcRect l="-3024" t="0" r="0" b="0"/>
          <a:stretch/>
        </p:blipFill>
        <p:spPr>
          <a:xfrm>
            <a:off x="3556080" y="2801880"/>
            <a:ext cx="26985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898720" cy="2232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2"/>
          <a:stretch/>
        </p:blipFill>
        <p:spPr>
          <a:xfrm>
            <a:off x="3673440" y="260280"/>
            <a:ext cx="1758960" cy="3676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3"/>
          <a:stretch/>
        </p:blipFill>
        <p:spPr>
          <a:xfrm>
            <a:off x="5713560" y="371628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237492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"/>
          <p:cNvPicPr/>
          <p:nvPr/>
        </p:nvPicPr>
        <p:blipFill>
          <a:blip r:embed="rId5"/>
          <a:stretch/>
        </p:blipFill>
        <p:spPr>
          <a:xfrm>
            <a:off x="3825720" y="4197240"/>
            <a:ext cx="1454400" cy="2040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"/>
          <p:cNvPicPr/>
          <p:nvPr/>
        </p:nvPicPr>
        <p:blipFill>
          <a:blip r:embed="rId6"/>
          <a:stretch/>
        </p:blipFill>
        <p:spPr>
          <a:xfrm>
            <a:off x="6004080" y="396720"/>
            <a:ext cx="29080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152600" cy="6337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2"/>
          <a:stretch/>
        </p:blipFill>
        <p:spPr>
          <a:xfrm>
            <a:off x="179280" y="0"/>
            <a:ext cx="42116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4378320" cy="648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308480" cy="6408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3"/>
          <a:stretch/>
        </p:blipFill>
        <p:spPr>
          <a:xfrm>
            <a:off x="6156360" y="6269040"/>
            <a:ext cx="2724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3240" y="115920"/>
            <a:ext cx="5505480" cy="6742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2"/>
          <a:stretch/>
        </p:blipFill>
        <p:spPr>
          <a:xfrm>
            <a:off x="6189840" y="2157480"/>
            <a:ext cx="2312640" cy="22082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"/>
          <p:cNvPicPr/>
          <p:nvPr/>
        </p:nvPicPr>
        <p:blipFill>
          <a:blip r:embed="rId3"/>
          <a:stretch/>
        </p:blipFill>
        <p:spPr>
          <a:xfrm>
            <a:off x="6588000" y="4356000"/>
            <a:ext cx="1914480" cy="2279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"/>
          <p:cNvPicPr/>
          <p:nvPr/>
        </p:nvPicPr>
        <p:blipFill>
          <a:blip r:embed="rId4"/>
          <a:stretch/>
        </p:blipFill>
        <p:spPr>
          <a:xfrm>
            <a:off x="5934240" y="476280"/>
            <a:ext cx="25682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611280" y="0"/>
            <a:ext cx="4356000" cy="6742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2813040" cy="2714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"/>
          <p:cNvPicPr/>
          <p:nvPr/>
        </p:nvPicPr>
        <p:blipFill>
          <a:blip r:embed="rId3"/>
          <a:stretch/>
        </p:blipFill>
        <p:spPr>
          <a:xfrm>
            <a:off x="5219640" y="3208320"/>
            <a:ext cx="317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3027240" y="27000"/>
            <a:ext cx="6135840" cy="6642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2"/>
          <a:srcRect l="5381" t="0" r="11236" b="0"/>
          <a:stretch/>
        </p:blipFill>
        <p:spPr>
          <a:xfrm>
            <a:off x="254160" y="476280"/>
            <a:ext cx="28065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"/>
          <p:cNvPicPr/>
          <p:nvPr/>
        </p:nvPicPr>
        <p:blipFill>
          <a:blip r:embed="rId1"/>
          <a:stretch/>
        </p:blipFill>
        <p:spPr>
          <a:xfrm>
            <a:off x="900000" y="-88920"/>
            <a:ext cx="7128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3708360" y="2852640"/>
            <a:ext cx="5327640" cy="3899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108000" y="233280"/>
            <a:ext cx="3998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250920" y="263520"/>
            <a:ext cx="4489200" cy="4486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"/>
          <p:cNvPicPr/>
          <p:nvPr/>
        </p:nvPicPr>
        <p:blipFill>
          <a:blip r:embed="rId2"/>
          <a:stretch/>
        </p:blipFill>
        <p:spPr>
          <a:xfrm>
            <a:off x="4740120" y="284040"/>
            <a:ext cx="3973680" cy="3865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468360" y="5102280"/>
            <a:ext cx="83278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71524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179280" y="0"/>
            <a:ext cx="8923320" cy="1149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2"/>
          <a:stretch/>
        </p:blipFill>
        <p:spPr>
          <a:xfrm>
            <a:off x="2395440" y="1519200"/>
            <a:ext cx="2032200" cy="4502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3"/>
          <a:stretch/>
        </p:blipFill>
        <p:spPr>
          <a:xfrm>
            <a:off x="395280" y="1646280"/>
            <a:ext cx="1816200" cy="4375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4"/>
          <a:stretch/>
        </p:blipFill>
        <p:spPr>
          <a:xfrm>
            <a:off x="4905360" y="2077920"/>
            <a:ext cx="1854360" cy="3678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5"/>
          <a:stretch/>
        </p:blipFill>
        <p:spPr>
          <a:xfrm>
            <a:off x="6659640" y="1984320"/>
            <a:ext cx="1766880" cy="3772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"/>
          <p:cNvPicPr/>
          <p:nvPr/>
        </p:nvPicPr>
        <p:blipFill>
          <a:blip r:embed="rId6"/>
          <a:stretch/>
        </p:blipFill>
        <p:spPr>
          <a:xfrm>
            <a:off x="5334120" y="1149480"/>
            <a:ext cx="2852640" cy="3902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5003640" y="1363680"/>
            <a:ext cx="32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ямые, волнистые и зигзагообразные  линии  символизируют  движение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-46080" y="-19080"/>
            <a:ext cx="9190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5156280" cy="3573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3987720" y="3013200"/>
            <a:ext cx="5156280" cy="384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3"/>
          <a:stretch/>
        </p:blipFill>
        <p:spPr>
          <a:xfrm>
            <a:off x="5759280" y="20520"/>
            <a:ext cx="3022920" cy="2992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4"/>
          <a:stretch/>
        </p:blipFill>
        <p:spPr>
          <a:xfrm>
            <a:off x="2089080" y="3591000"/>
            <a:ext cx="1892520" cy="1238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5"/>
          <a:stretch/>
        </p:blipFill>
        <p:spPr>
          <a:xfrm>
            <a:off x="2044800" y="5495760"/>
            <a:ext cx="1936800" cy="1363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6"/>
          <a:stretch/>
        </p:blipFill>
        <p:spPr>
          <a:xfrm>
            <a:off x="0" y="4557600"/>
            <a:ext cx="20890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818400" cy="56926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3357720" y="1925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 О Н Е 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2951280" y="836640"/>
            <a:ext cx="33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5" descr=""/>
          <p:cNvPicPr/>
          <p:nvPr/>
        </p:nvPicPr>
        <p:blipFill>
          <a:blip r:embed="rId1"/>
          <a:stretch/>
        </p:blipFill>
        <p:spPr>
          <a:xfrm>
            <a:off x="714240" y="552600"/>
            <a:ext cx="7775640" cy="591012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8" descr=""/>
          <p:cNvPicPr/>
          <p:nvPr/>
        </p:nvPicPr>
        <p:blipFill>
          <a:blip r:embed="rId2"/>
          <a:stretch/>
        </p:blipFill>
        <p:spPr>
          <a:xfrm>
            <a:off x="1352520" y="731880"/>
            <a:ext cx="69325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4329000" cy="4243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2"/>
          <a:stretch/>
        </p:blipFill>
        <p:spPr>
          <a:xfrm>
            <a:off x="4332240" y="15840"/>
            <a:ext cx="2551320" cy="19731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"/>
          <p:cNvPicPr/>
          <p:nvPr/>
        </p:nvPicPr>
        <p:blipFill>
          <a:blip r:embed="rId3"/>
          <a:stretch/>
        </p:blipFill>
        <p:spPr>
          <a:xfrm>
            <a:off x="2160720" y="4243320"/>
            <a:ext cx="2377800" cy="20098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4"/>
          <a:stretch/>
        </p:blipFill>
        <p:spPr>
          <a:xfrm>
            <a:off x="4427640" y="2122560"/>
            <a:ext cx="31240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141120" y="115920"/>
            <a:ext cx="4114800" cy="655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4370400" y="0"/>
            <a:ext cx="46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4589640" cy="6721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0" y="6237360"/>
            <a:ext cx="2050920" cy="496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" descr=""/>
          <p:cNvPicPr/>
          <p:nvPr/>
        </p:nvPicPr>
        <p:blipFill>
          <a:blip r:embed="rId3"/>
          <a:stretch/>
        </p:blipFill>
        <p:spPr>
          <a:xfrm>
            <a:off x="4998960" y="208080"/>
            <a:ext cx="3591000" cy="517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4"/>
          <a:stretch/>
        </p:blipFill>
        <p:spPr>
          <a:xfrm>
            <a:off x="4603680" y="880920"/>
            <a:ext cx="1914480" cy="1900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5"/>
          <a:stretch/>
        </p:blipFill>
        <p:spPr>
          <a:xfrm>
            <a:off x="7093080" y="873000"/>
            <a:ext cx="1884240" cy="1898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"/>
          <p:cNvPicPr/>
          <p:nvPr/>
        </p:nvPicPr>
        <p:blipFill>
          <a:blip r:embed="rId6"/>
          <a:stretch/>
        </p:blipFill>
        <p:spPr>
          <a:xfrm>
            <a:off x="4816440" y="4648320"/>
            <a:ext cx="1974960" cy="1898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"/>
          <p:cNvPicPr/>
          <p:nvPr/>
        </p:nvPicPr>
        <p:blipFill>
          <a:blip r:embed="rId7"/>
          <a:stretch/>
        </p:blipFill>
        <p:spPr>
          <a:xfrm>
            <a:off x="6945480" y="4678200"/>
            <a:ext cx="2025360" cy="1900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"/>
          <p:cNvPicPr/>
          <p:nvPr/>
        </p:nvPicPr>
        <p:blipFill>
          <a:blip r:embed="rId8"/>
          <a:stretch/>
        </p:blipFill>
        <p:spPr>
          <a:xfrm>
            <a:off x="5602320" y="2895480"/>
            <a:ext cx="23781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4424400" y="115920"/>
            <a:ext cx="4468680" cy="6626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63440" y="189000"/>
            <a:ext cx="440856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0" y="4567320"/>
            <a:ext cx="4390920" cy="2165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4"/>
          <a:stretch/>
        </p:blipFill>
        <p:spPr>
          <a:xfrm>
            <a:off x="1401840" y="2781360"/>
            <a:ext cx="18748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7:26:24Z</dcterms:created>
  <dc:creator>Тётушки</dc:creator>
  <dc:description/>
  <dc:language>en-US</dc:language>
  <cp:lastModifiedBy>Алекс</cp:lastModifiedBy>
  <dcterms:modified xsi:type="dcterms:W3CDTF">2015-01-10T14:29:07Z</dcterms:modified>
  <cp:revision>139</cp:revision>
  <dc:subject/>
  <dc:title>Презентация PowerPoint</dc:title>
</cp:coreProperties>
</file>