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281-96FB-48C9-A54B-D7C16AB2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65F-0186-4404-B077-438E5E1C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2DE-B45C-495B-B71A-1B22688E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623-3C8C-4F7B-8D64-723387E3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3213-EC3C-44A4-94F5-42C60E66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11B0-B395-4AB3-85E4-850DED60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B0AC-0777-4E55-8962-7B8B516A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C9D2-8104-49B1-ACA1-8CDFADC7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A199-AB0A-4BD0-A7E1-BACC5B0B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0EEF-3BC7-46A1-B690-5510D3E3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D1B1-A618-4716-BD6B-99101427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111-383C-4812-8C67-38ABC4B1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1505-4176-41D9-A892-88E06E8A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C972-6285-4936-881A-73B6EFEE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822F-A36C-4442-8324-13AF9BE2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8547-7574-4E85-8B24-DECF1BE8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0C74-6D11-40E0-8FBC-175790F6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20C-81CB-4675-B60F-EC3374CD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454-4C5B-48DF-BF2A-120ADAE5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CE0-E14C-4F68-A18C-B059A92A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A26-9550-4CBF-8047-CB85F598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CFA-0954-4AFE-869D-92C37555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672-DF9B-47F9-B9A4-A4688845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AAF-CA3D-4735-8495-FB0AFC4B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A45C-90F1-4CED-9A89-7B04B0D1A1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FE1B-AC1D-4EDC-9BD3-38FC79B8F5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ИММУНИТЕТ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28191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 лат. immunitas —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вобождение, избавле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j0240719"/>
          <p:cNvPicPr/>
          <p:nvPr/>
        </p:nvPicPr>
        <p:blipFill>
          <a:blip r:embed="rId1"/>
          <a:stretch/>
        </p:blipFill>
        <p:spPr>
          <a:xfrm>
            <a:off x="6934320" y="304920"/>
            <a:ext cx="196344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10020901"/>
          <p:cNvPicPr/>
          <p:nvPr/>
        </p:nvPicPr>
        <p:blipFill>
          <a:blip r:embed="rId2"/>
          <a:stretch/>
        </p:blipFill>
        <p:spPr>
          <a:xfrm>
            <a:off x="304920" y="4267080"/>
            <a:ext cx="28573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АНТИГЕН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(от греч. anti- — против  и ген) - вещества, которые воспринимаются организмом как чужеродные и вызывают специфический иммунный отве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пособны взаимодействовать с клетками иммунной системы и антителам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елки, полисахариды, целые органы (при трансплантации), растительные и животные клетки, бактерии, вирус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946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Verdana"/>
              </a:rPr>
              <a:t>Т-киллер </a:t>
            </a:r>
            <a:br>
              <a:rPr sz="3400"/>
            </a:b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(клеточный иммунитет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2514240"/>
            <a:ext cx="3772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клетка иммунно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системы (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фотографи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обозначен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голубым цветом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атакует раковую клетк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495680" y="4114800"/>
            <a:ext cx="520092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ерез проделанное в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зматической мембра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верс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да проникает внутрь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ковая клетка набухает 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опает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Фагоцитоз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4723920"/>
            <a:ext cx="5977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фагоцит уничтожает бактериальные клет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(на фотографии выделен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ярко-жёлтым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Вирус СПИД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876560" y="9903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на фотографии отмечен голубы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Эдуард Дженне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нглийский врач в 1796 году сделал первую прививку против оспы, болезни, эпидемии которой уносили жизни сотен тысяч жизней. С помощи острой палочки он ввел под кожу одиннадцатилетнему мальчику содержимое оспенного пузырька больной коровы, или, говоря языком медиков, произвел вакцинацию. К своему великому открытию Дженнер пришел, задавшись вопросом, почему скотницы, переболевшие коровьей оспой, человеческой оспой уже не заражаются. Само слово «вакцина» происходит от латинского «vacca», что означает «коров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следний в истории нашей планеты случай заболевания оспой был зафиксирован 1977 году в Сомали. В СССР с оспой было покончено в 1936 год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jenner"/>
          <p:cNvPicPr/>
          <p:nvPr/>
        </p:nvPicPr>
        <p:blipFill>
          <a:blip r:embed="rId1"/>
          <a:stretch/>
        </p:blipFill>
        <p:spPr>
          <a:xfrm>
            <a:off x="7315200" y="228600"/>
            <a:ext cx="1428840" cy="19051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5257800" y="1676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749-18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АКЦИН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0" y="320040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ММУНИЗАЦИЯ = вакцинация -  создание искусственного иммунитета — активного (при введении вакцин и анатоксинов) или пассивного (при введении сывороток и гамма-глобулинов). Применяют в лечебных и профилактических цел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(от лат. vaccina — коровья) -  препарат из живых (обезвреженных) или убитых микроорганизмов, продуктов их жизнедеятель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рименяется с лечебными и профилактическими целя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181480" y="15228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ИММУНОЛОГ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7524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ука о защитных свойствах организма, его иммуните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ff"/>
                </a:solidFill>
                <a:latin typeface="Verdana"/>
              </a:rPr>
              <a:t>изучает общебиологические основы иммунитета, его происхождение и эволюцию (иммунобиология), генетическую обусловленность его факторов, внутривидовое разнообразие и наследование тканевых антигенов (иммуногенетика), химическое строение и свойства антител и антигенов и закономерности их взаимодействия (иммунохими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Verdana"/>
              </a:rPr>
              <a:t>Практическая</a:t>
            </a:r>
            <a:br>
              <a:rPr sz="3400"/>
            </a:br>
            <a:r>
              <a:rPr b="1" lang="ru-RU" sz="3400" spc="-1" strike="noStrike">
                <a:solidFill>
                  <a:srgbClr val="ffff00"/>
                </a:solidFill>
                <a:latin typeface="Verdana"/>
              </a:rPr>
              <a:t> (клиническая) иммунолог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Verdana"/>
              </a:rPr>
              <a:t>использует иммунологические реакции для профилактики, диагностики и лечения ряда заболе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Verdana"/>
              </a:rPr>
              <a:t>возникновение иммунологии как самостоятельной науки связано с именами Л. Пастера, П. Эрлиха, И. И. Мечнико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ипы (виды) иммунитет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естественный пассивный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(например, у новорождённого) - готовые антитела передаются от одного индивидуума к другому (того же вида); обеспечивает лишь кратковременную защиту от инфекции вследствие естественного разрушения антител в организме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приобретённый пассивный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- выделяют готовые антитела в организме одного индивидуума (лечебные сыворотки) и вводят их в кровь другому; сохраняется непродолжительное врем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естественный активный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- вырабатываются собственные антитела при инфицировани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приобретённый активный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-  в организм вводятся небольшие количества иммуногенов в виде </a:t>
            </a: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вакцины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– убитых или ослабленных микроорганизмов, их молекул, в т.ч. и полученных методами генной инженерии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Клеточный иммуните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T-лимфоци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сут на своих мембранах рецепторы соответствующих веществ, распознают иммуноге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множаясь, образуют клон таких же T-клеток и уничтожают микроорганизм или вызывают отторжение чужеродной ткан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mechnikov"/>
          <p:cNvPicPr/>
          <p:nvPr/>
        </p:nvPicPr>
        <p:blipFill>
          <a:blip r:embed="rId1"/>
          <a:stretch/>
        </p:blipFill>
        <p:spPr>
          <a:xfrm>
            <a:off x="7391520" y="228600"/>
            <a:ext cx="1428480" cy="19051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98" name="Text Box 5"/>
          <p:cNvSpPr/>
          <p:nvPr/>
        </p:nvSpPr>
        <p:spPr>
          <a:xfrm>
            <a:off x="7086600" y="22860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Илья Ильич Мечни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Гуморальный иммуните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B-лимфоцит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спознают антиген, после чего синтезируют соответствующие антитела и выделяют их в кров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титела связываются с антигенами на поверхности бактерий и ускоряют их захват фагоцитами либо нейтрализуют бактериальные токси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8" descr="ehrlich"/>
          <p:cNvPicPr/>
          <p:nvPr/>
        </p:nvPicPr>
        <p:blipFill>
          <a:blip r:embed="rId1"/>
          <a:stretch/>
        </p:blipFill>
        <p:spPr>
          <a:xfrm>
            <a:off x="7467480" y="4800600"/>
            <a:ext cx="1428840" cy="19051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02" name="Text Box 9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ауль Эрл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227040" y="22860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Врожденный иммунит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хема иммунной реакции организм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2578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а</cp:lastModifiedBy>
  <dcterms:modified xsi:type="dcterms:W3CDTF">2012-01-14T15:02:2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