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DC15-DD6A-4A0A-B440-41D7C706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E419-507A-4863-8FC0-0BFD6F49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9F9F-E5BE-4F00-89C4-CEC632FC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5677-A38F-4241-AD8F-ADD2B8A1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CE7C-D52B-4A3F-B014-9762D176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4D97-11DA-4C3E-A3A6-CC415890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4E63-4802-486A-8CF4-EBABD168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FF62-150D-472C-9C11-572A4B92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CBBB-F97E-4623-BE6A-AE5AE7D5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62B2-498B-476A-B5AF-BD4ABD9A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FF01-D481-48A9-8A24-12CBF48E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36FA-F15F-4B2D-9B21-5F3F5931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5519-748D-4ABC-A19E-BA95818D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6E70-3F25-4B29-B5F9-9D957404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06E6-EC97-49E4-9584-0BC9F881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AA91-88E4-41F3-AAC2-5C692389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22EF-B16B-45F8-8B4D-AFC4F84D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FFC7EA-7494-48CF-8654-31F4A73FD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EB34B1-F530-4616-9AD5-4501346F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C3A555-8677-45F9-B6EE-A0CCBC23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22AEE9-711A-45B8-A390-FE27E251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8247E5-E43D-452F-B374-C356A1E4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478B-9231-42AB-9E53-7F48502D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09CCB2-2532-46EC-A5CC-27568553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EAA05-94EB-443C-8463-6BE0C406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4A1C64-7544-46EC-AE03-01E92E56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7A26DE-3F3B-4E9F-AC32-5A7D9801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D49576-CD71-429F-B072-E265F98D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8354A2-5B4E-40C1-8E6B-134ECA9D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2D5DC-C0AB-43DC-A059-EB73532D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3A52B-101A-4E24-B021-160AA484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68ACD-E8B6-434E-9D15-BDB1E5F8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06C72-CE06-4B82-A415-E2B1CADB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BB95-51F0-4162-BEEC-ED0D45BC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7B13A-1ABA-4AE0-9910-D69D1EF8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250F8-86B2-41C5-B429-CDEE469A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17F75-A2A3-4315-8CBF-969DE158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18CE7-87F4-4962-AD05-17AC6159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093A8-3E95-45FE-A010-94246DE2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3876F-93C6-402D-AD0C-8F217BE2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3EC90-77C7-4E39-B23A-02FE5868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4EF35-7731-44B2-95DA-3BC0D98A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9E611-5FF7-4F18-8CA8-FF04875C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472CF7-F634-422C-94F7-0F716964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C6C8-D897-4E27-AF37-CE093C00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D73464-DDD8-4A34-89D2-F5B2D260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CAD2FE-B7F8-40FF-A6A9-2A482AFA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A7984F-B0B3-4B09-8FC6-94F4AFC0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1A6AFB-0F96-4085-AAA7-A2207A8A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05ECFC-1B1D-4F3D-85D5-940E4BD4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6CB3B2-8317-48DD-8987-755D414F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9A26D2-7B0C-4854-8520-BB52A275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20E00F-B943-43B9-99E1-EDB09274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5E04B5-ED99-42B8-8857-71379784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DB6A8C-C702-4FA9-BF73-8E612918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205-4215-4F09-896F-22216269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7326CF-A88B-4441-A6D9-0F78E175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85293B-1C49-47B1-BB01-96917969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14F746-611C-4D82-BEC0-B883615B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4162B6-8B3D-47D7-8C6C-2EF12FAC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839273-B66F-41AE-ABED-F543F666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6D6B4E-8A35-42A8-BF5E-45B846AB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84F0E1-DAF0-4FF0-8C99-BDFC422B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FD8253-F8AA-4915-9C7C-CF895643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CB21E5-D771-4A5A-BF75-DA528859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4A0440-3255-4AA2-8B5C-09183D5E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E248-A3AB-45DB-9A2F-DB0348F1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8D87A8-A1C9-4F81-ACE6-CA1D7A65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B25F15-382C-4A88-B86D-A6288CBE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CD8974-9B62-4923-A022-190692894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D6DE0A-B0D4-4945-BCA6-FB87F562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FD0CC6-A4B5-4E3D-97C7-61F65B8C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7B2D7A-C0E0-4C9C-BA37-45F5646C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954533-83B6-4783-96D8-92319C6C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362F77-A566-46EE-8A69-1058DC23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52327F-C758-425E-9504-8C841D21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B90441-A809-489A-A2F7-8B71A82F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6804-FA35-45BA-B77B-9E46FBB8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3CA9C0-2F8B-4267-868A-B322591B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5C2CB3-2E62-4C0F-866F-3C962E85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ADCD9C-D5B6-41DF-8CE1-31B1A3B8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5907E9-A53E-48A5-A3CB-3FABC43F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66C01D-D104-4A73-84B3-FA3BF216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10C6-BE95-4E03-8D8E-E184D594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4FE0-AEA6-4B58-A86E-B44D4CC506A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36E4-16E2-4A1C-A874-55D2000AC15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75BB-5F96-4D3C-8D09-D6DF45C4D57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E2C0-8697-4C6D-BA94-123B5242CF5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FB13-6314-46EF-9D2A-9FD53F75376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420C-0C96-4A67-B964-1F030D9599E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A563-9DFB-4625-937A-B9AC3548EBF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4167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3e42"/>
                </a:solidFill>
                <a:latin typeface="Arial"/>
              </a:rPr>
              <a:t>КНИЖКА-МАЛЫШКА ДЛЯ ДЕТЕЙ ДОШКОЛЬНОГО ВОЗРАСТА</a:t>
            </a:r>
            <a:br>
              <a:rPr sz="2000"/>
            </a:br>
            <a:r>
              <a:rPr b="1" lang="ru-RU" sz="2000" spc="-1" strike="noStrike">
                <a:solidFill>
                  <a:srgbClr val="3c3e42"/>
                </a:solidFill>
                <a:latin typeface="Arial"/>
              </a:rPr>
              <a:t>ПОВЫШАЮЩАЯ ИНТЕРЕС К ХУДОЖЕСТВЕННОЙ ЛИТЕРАТУРЕ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3600" spc="-1" strike="noStrike">
                <a:solidFill>
                  <a:srgbClr val="3c3e42"/>
                </a:solidFill>
                <a:latin typeface="Arial"/>
              </a:rPr>
              <a:t>КНИЖКА - МАЛЫШКА</a:t>
            </a:r>
            <a:br>
              <a:rPr sz="2000"/>
            </a:br>
            <a:r>
              <a:rPr b="1" lang="ru-RU" sz="2000" spc="-1" strike="noStrike">
                <a:solidFill>
                  <a:srgbClr val="3c3e42"/>
                </a:solidFill>
                <a:latin typeface="Arial"/>
              </a:rPr>
              <a:t> (ВТОРАЯ МЛАДШАЯ ГРУППА 3-4 ГОДА) </a:t>
            </a:r>
            <a:br>
              <a:rPr sz="2000"/>
            </a:br>
            <a:endParaRPr b="0" lang="en-US" sz="2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907640" y="5850000"/>
            <a:ext cx="6409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Arial"/>
              </a:rPr>
              <a:t>Автор: воспитатель «МБДОУ №189 «Солнышко» г.Камень-на-Об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Arial"/>
              </a:rPr>
              <a:t>Баргатина Лариса Викто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Рисунок 6" descr="д16.jpg"/>
          <p:cNvPicPr/>
          <p:nvPr/>
        </p:nvPicPr>
        <p:blipFill>
          <a:blip r:embed="rId1"/>
          <a:stretch/>
        </p:blipFill>
        <p:spPr>
          <a:xfrm>
            <a:off x="4211640" y="3068640"/>
            <a:ext cx="1944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Прямоугольник 1"/>
          <p:cNvSpPr/>
          <p:nvPr/>
        </p:nvSpPr>
        <p:spPr>
          <a:xfrm>
            <a:off x="539640" y="33336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3e42"/>
                </a:solidFill>
                <a:latin typeface="Arial"/>
              </a:rPr>
              <a:t>Книжка-малышка для детей дошкольного возраста</a:t>
            </a:r>
            <a:br>
              <a:rPr sz="1800"/>
            </a:br>
            <a:r>
              <a:rPr b="1" lang="ru-RU" sz="1800" spc="-1" strike="noStrike">
                <a:solidFill>
                  <a:srgbClr val="3c3e42"/>
                </a:solidFill>
                <a:latin typeface="Arial"/>
              </a:rPr>
              <a:t>повышающая интерес к восприят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3e42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c3e42"/>
                </a:solidFill>
                <a:latin typeface="Arial"/>
              </a:rPr>
              <a:t>художественной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2"/>
          <p:cNvSpPr/>
          <p:nvPr/>
        </p:nvSpPr>
        <p:spPr>
          <a:xfrm>
            <a:off x="1332000" y="436572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воспитатель «МБДОУ №189 «Солнышко» г.Камень-на-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ргатина Ларис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стихотворения «Книжка-малышка»: Баргатина Л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графии из личного арх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Рисунок 5" descr="з2.jpg"/>
          <p:cNvPicPr/>
          <p:nvPr/>
        </p:nvPicPr>
        <p:blipFill>
          <a:blip r:embed="rId1"/>
          <a:stretch/>
        </p:blipFill>
        <p:spPr>
          <a:xfrm>
            <a:off x="2050920" y="549360"/>
            <a:ext cx="4846680" cy="3600360"/>
          </a:xfrm>
          <a:prstGeom prst="rect">
            <a:avLst/>
          </a:prstGeom>
          <a:ln w="0">
            <a:noFill/>
          </a:ln>
        </p:spPr>
      </p:pic>
      <p:sp>
        <p:nvSpPr>
          <p:cNvPr id="379" name="TextBox 9"/>
          <p:cNvSpPr/>
          <p:nvPr/>
        </p:nvSpPr>
        <p:spPr>
          <a:xfrm>
            <a:off x="2178720" y="4581360"/>
            <a:ext cx="48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ижка-малышка к нам в группу приш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ные сказки с собой прине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Рисунок 1" descr="001.jpg"/>
          <p:cNvPicPr/>
          <p:nvPr/>
        </p:nvPicPr>
        <p:blipFill>
          <a:blip r:embed="rId1"/>
          <a:stretch/>
        </p:blipFill>
        <p:spPr>
          <a:xfrm>
            <a:off x="1908000" y="620640"/>
            <a:ext cx="5328000" cy="35546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3"/>
          <p:cNvSpPr/>
          <p:nvPr/>
        </p:nvSpPr>
        <p:spPr>
          <a:xfrm>
            <a:off x="2438640" y="4508640"/>
            <a:ext cx="44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азки мы слушали, в сказки игра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друг нашу книжку мы потерял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Рисунок 1" descr="002.jpg"/>
          <p:cNvPicPr/>
          <p:nvPr/>
        </p:nvPicPr>
        <p:blipFill>
          <a:blip r:embed="rId1"/>
          <a:stretch/>
        </p:blipFill>
        <p:spPr>
          <a:xfrm>
            <a:off x="1979640" y="620640"/>
            <a:ext cx="5291280" cy="3529080"/>
          </a:xfrm>
          <a:prstGeom prst="rect">
            <a:avLst/>
          </a:prstGeom>
          <a:ln w="0">
            <a:noFill/>
          </a:ln>
        </p:spPr>
      </p:pic>
      <p:sp>
        <p:nvSpPr>
          <p:cNvPr id="383" name="TextBox 2"/>
          <p:cNvSpPr/>
          <p:nvPr/>
        </p:nvSpPr>
        <p:spPr>
          <a:xfrm>
            <a:off x="2356920" y="4508640"/>
            <a:ext cx="456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ижка-малышка, откликнись! Ты гд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обыскали, смотрели вез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ло нам грустно и скучно одним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 больше сказок, играть не хоти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Рисунок 1" descr="з25.jpg"/>
          <p:cNvPicPr/>
          <p:nvPr/>
        </p:nvPicPr>
        <p:blipFill>
          <a:blip r:embed="rId1"/>
          <a:stretch/>
        </p:blipFill>
        <p:spPr>
          <a:xfrm>
            <a:off x="2340000" y="404640"/>
            <a:ext cx="4263840" cy="3529080"/>
          </a:xfrm>
          <a:prstGeom prst="rect">
            <a:avLst/>
          </a:prstGeom>
          <a:ln w="0">
            <a:noFill/>
          </a:ln>
        </p:spPr>
      </p:pic>
      <p:sp>
        <p:nvSpPr>
          <p:cNvPr id="385" name="TextBox 3"/>
          <p:cNvSpPr/>
          <p:nvPr/>
        </p:nvSpPr>
        <p:spPr>
          <a:xfrm>
            <a:off x="2428560" y="4292640"/>
            <a:ext cx="429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енький Саша нам тихо сказ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ростите ребята, я книжку порв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анички разорваны, корочки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ите меня! Ее больше не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Рисунок 1" descr="з26.jpg"/>
          <p:cNvPicPr/>
          <p:nvPr/>
        </p:nvPicPr>
        <p:blipFill>
          <a:blip r:embed="rId1"/>
          <a:stretch/>
        </p:blipFill>
        <p:spPr>
          <a:xfrm>
            <a:off x="2340000" y="404640"/>
            <a:ext cx="4267080" cy="3313440"/>
          </a:xfrm>
          <a:prstGeom prst="rect">
            <a:avLst/>
          </a:prstGeom>
          <a:ln w="0">
            <a:noFill/>
          </a:ln>
        </p:spPr>
      </p:pic>
      <p:sp>
        <p:nvSpPr>
          <p:cNvPr id="387" name="TextBox 2"/>
          <p:cNvSpPr/>
          <p:nvPr/>
        </p:nvSpPr>
        <p:spPr>
          <a:xfrm>
            <a:off x="2489760" y="4005360"/>
            <a:ext cx="400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лакала Маша. И Катя рыд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Вова кулак за спиною сжим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Даша сказа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ы вылечим книжк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си к нам больну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годный мальчишк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Рисунок 1" descr="003.jpg"/>
          <p:cNvPicPr/>
          <p:nvPr/>
        </p:nvPicPr>
        <p:blipFill>
          <a:blip r:embed="rId1"/>
          <a:stretch/>
        </p:blipFill>
        <p:spPr>
          <a:xfrm>
            <a:off x="2124000" y="404640"/>
            <a:ext cx="5073840" cy="3384720"/>
          </a:xfrm>
          <a:prstGeom prst="rect">
            <a:avLst/>
          </a:prstGeom>
          <a:ln w="0">
            <a:noFill/>
          </a:ln>
        </p:spPr>
      </p:pic>
      <p:sp>
        <p:nvSpPr>
          <p:cNvPr id="389" name="TextBox 2"/>
          <p:cNvSpPr/>
          <p:nvPr/>
        </p:nvSpPr>
        <p:spPr>
          <a:xfrm>
            <a:off x="2124000" y="40766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"/>
          <p:cNvSpPr/>
          <p:nvPr/>
        </p:nvSpPr>
        <p:spPr>
          <a:xfrm>
            <a:off x="2209680" y="4156920"/>
            <a:ext cx="501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м скотч пригодился и кисточка с кле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Книжка-малышка сейчас тебя склеим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чудо случилось с ней. Глазки откры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ножки вскочила, всех нас удив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Спасибо, ребята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асли вы меня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х нас обнимает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ует лю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Рисунок 1" descr="Untitled-001.jpg"/>
          <p:cNvPicPr/>
          <p:nvPr/>
        </p:nvPicPr>
        <p:blipFill>
          <a:blip r:embed="rId1"/>
          <a:stretch/>
        </p:blipFill>
        <p:spPr>
          <a:xfrm>
            <a:off x="1692360" y="404640"/>
            <a:ext cx="5613480" cy="3745080"/>
          </a:xfrm>
          <a:prstGeom prst="rect">
            <a:avLst/>
          </a:prstGeom>
          <a:ln w="0">
            <a:noFill/>
          </a:ln>
        </p:spPr>
      </p:pic>
      <p:sp>
        <p:nvSpPr>
          <p:cNvPr id="392" name="TextBox 2"/>
          <p:cNvSpPr/>
          <p:nvPr/>
        </p:nvSpPr>
        <p:spPr>
          <a:xfrm>
            <a:off x="1619280" y="4508640"/>
            <a:ext cx="61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т Ульяна подошла, Сашу за руку взя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тыдно, Саша, книжки рвать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ижки надо уважать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т книги нас добру, в  каждом видеть красот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ига мастер на все руки, и всегда спасет от скук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Рисунок 3" descr="0000.jpg"/>
          <p:cNvPicPr/>
          <p:nvPr/>
        </p:nvPicPr>
        <p:blipFill>
          <a:blip r:embed="rId1"/>
          <a:stretch/>
        </p:blipFill>
        <p:spPr>
          <a:xfrm>
            <a:off x="755640" y="692280"/>
            <a:ext cx="3746520" cy="561636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2" descr="U.jpg"/>
          <p:cNvPicPr/>
          <p:nvPr/>
        </p:nvPicPr>
        <p:blipFill>
          <a:blip r:embed="rId2"/>
          <a:stretch/>
        </p:blipFill>
        <p:spPr>
          <a:xfrm>
            <a:off x="5003640" y="692280"/>
            <a:ext cx="374652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04:37:22Z</dcterms:created>
  <dc:creator>Dom</dc:creator>
  <dc:description/>
  <dc:language>en-US</dc:language>
  <cp:lastModifiedBy>Dom</cp:lastModifiedBy>
  <dcterms:modified xsi:type="dcterms:W3CDTF">2013-01-28T02:20:40Z</dcterms:modified>
  <cp:revision>16</cp:revision>
  <dc:subject/>
  <dc:title>Книжка-малышка для детей дошкольного возраста повышающая интерес к восприятию художественной литературы     КНИЖКА - МАЛЫШКА  </dc:title>
</cp:coreProperties>
</file>