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0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15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19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E70-DECC-4336-AC89-201014E8D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50F7-76ED-46D1-A9A9-B387FBA14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CA3F-BC55-4FBE-B0C1-CFD9C4BD0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5370-F501-45FF-9A5A-FA019E24E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270-00B4-46C9-A1AE-6722AABF0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4392-84F2-48E3-82DE-5792209938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C136-A1BB-4236-AB14-1AEC363DD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721-B353-4269-AA09-43C5FED94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794B-A020-4ACE-AAA9-77E70EFDC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E1E-3E47-410F-BB9F-1C43B7F66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123D-E106-46D5-90E3-C145E4ED0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C4AB-A761-4FFC-A2FD-A0E2D1754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5406-2A90-4EF4-A011-680687ED5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D17-7E31-4F59-9160-E91310000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6CF9-F8C2-4D99-9EDC-EEB91B226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DA8A-2773-4761-A1EE-189492A29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B70-A652-4BD8-AB52-A990618AD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4824-562E-4B70-ACDD-AA57A0B66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8D8D-3C71-4389-9AA7-35896F462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785B-CBB2-469E-AAB8-28EB4DE47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927-F227-491F-9BD9-E2C6A3188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A213-7EEC-43AA-B70D-9C42847CF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5B7E-B18F-48FE-9825-D7C68CA42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3B3F-D626-4DCE-9919-31A80B402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29D5-F75E-4D23-B445-0985BC4AC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EB2-DAED-4FE5-8C13-A17C67269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15B-1A4D-4E6D-91D9-2E3031EE9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46B6-1994-47C3-9602-B924B5D9D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7AD0-674A-4797-BF5C-A0CD5816F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B522-BC3F-4278-902B-52239B85A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E9B8-C824-4A6D-A45B-4C2FFB4A2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9EDC-7634-43A6-A7B6-764D2F97B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AA5E-79DC-4B5A-8D35-9283DEBA6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431-6BBA-4484-B06F-597DFB159B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4D1-83D8-4426-9C03-C6749F52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83B-D137-4A0E-ABA5-4AC5FF4E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D00-CF8A-4B42-8D60-836CE9F1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26C-0FEF-4D59-AB3A-89A3F42B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270-9617-43D9-BE35-467AB1E2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5EA-2C4E-4A78-B61F-531DFDB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069-AB92-4655-91C5-DCC35E1D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9CF-97E9-47E8-A142-A490115D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A5E-E615-4590-AEE1-593C12B9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12E-3181-479D-BB9A-FDA9FC4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645-87E0-439F-B20E-98AB862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720-520B-4C6A-A2C3-D7B654B8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D61-63A0-4D7E-9336-9610F52B1A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оект по литератур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 т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Влияние классической литературы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XIX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века на формирование человека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XXI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ве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3141360"/>
            <a:ext cx="815652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 социологического опр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свободу слова и печати готовы бороться молодые люди. Также они способны идти на компромисс ради сохранения согласия в обществе, они практически единогласно отвергают революционный путь. Среди выступающих за демократический путь развития страны гораздо больше молодежи. Либеральные реформы поддерживают пенсионеры, а в снижении социальной напряженности заинтересованы и те, и другие. Бороться с бедностью готовы представители самого мудрого поко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18-2"/>
          <p:cNvPicPr/>
          <p:nvPr/>
        </p:nvPicPr>
        <p:blipFill>
          <a:blip r:embed="rId1"/>
          <a:stretch/>
        </p:blipFill>
        <p:spPr>
          <a:xfrm>
            <a:off x="2411280" y="0"/>
            <a:ext cx="41767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ван Александрович Гонча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goncharov"/>
          <p:cNvPicPr/>
          <p:nvPr/>
        </p:nvPicPr>
        <p:blipFill>
          <a:blip r:embed="rId2"/>
          <a:stretch/>
        </p:blipFill>
        <p:spPr>
          <a:xfrm>
            <a:off x="2714760" y="1428840"/>
            <a:ext cx="35719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Роман «Облом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Конкретно-исторический смысл ром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репостное право - зло и позор России, оно уродует жизнь господ и крестьян, так как первые привыкают жить за чужой счет, а вторые не знакомы со свободным и результативным трудом. Это ведет к кризису и распаду госуда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ломовщина — отображенное Гончаровым явление помещичьего строя эпохи распада крепостничества в России. Писатель рисует образ живого, любознательного мальчика Илюши Обломова и показывает вредное влияние на него патриархально-помещичьей среды и обломовской системы воспит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ломов - последний в ряду «лишних» людей (сначала Чацкий, потом Онегин, Печорин, а теперь Обломов), у которых расходятся слово и дело. Богатство внутреннего мира и практическая никчемность приводят человека к жизненной трагедии. Необходима гармония внутреннего мира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ловека и внешней ср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74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. Общечеловеческий смысл ром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Смешной Обломов бросает вызов современному обществу, цивилизации, готов выйти из суетного круга истории. Он мечтает, чтобы люди перестали гоняться за комфортом, излишествами, техническим прогрессом, а стремились к простой и непритязательной жизни, соединенной с природой. Духовные ценности Обломов ставит выше материальных и экономическ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Социологический 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628640"/>
          <a:ext cx="9144000" cy="5042160"/>
        </p:xfrm>
        <a:graphic>
          <a:graphicData uri="http://schemas.openxmlformats.org/drawingml/2006/table">
            <a:tbl>
              <a:tblPr/>
              <a:tblGrid>
                <a:gridCol w="2633760"/>
                <a:gridCol w="2487600"/>
                <a:gridCol w="1901880"/>
                <a:gridCol w="21207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Студенты и школь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Средни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Пожилы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1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Отсутствие сословного нераве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озможность получения образования и хорошего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3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Самореализация личности в трудовой деятельности, финансовая не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765000"/>
          <a:ext cx="9144000" cy="5735880"/>
        </p:xfrm>
        <a:graphic>
          <a:graphicData uri="http://schemas.openxmlformats.org/drawingml/2006/table">
            <a:tbl>
              <a:tblPr/>
              <a:tblGrid>
                <a:gridCol w="2633760"/>
                <a:gridCol w="2487600"/>
                <a:gridCol w="1901880"/>
                <a:gridCol w="212076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4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Чистая совесть, жизнь в гармонии с самим собой и окружающим 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5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реобладание духовных ценностей над материальны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6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Умение ценить малое, не гнаться за излишествами, внешними атрибутами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539640" y="692280"/>
          <a:ext cx="8028000" cy="557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92280"/>
                    <a:ext cx="80280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40000" y="907560"/>
            <a:ext cx="770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Результаты социологического 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 отсутствие сословного неравенства выступают пожилые люди, за возможность получения образования и хорошего воспитания голосуют молодые, кроме того, они обеспокоены проблемой самореализации. К сожалению, мы видим, что у современной молодежи материальные ценности преобладают над духовными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-642960" y="5143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Федор Михайлович Достоевс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Роман «Преступление и наказание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077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Конкретно-исторический смысл ром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Слепая вера в модные общественные теории, экономические и политические идеи, не проверенные жизнью и временем, а также атеизм приводят к крайнему индивидуализму личности, нигилизму, потере традиций, исторической памяти, а в итоге - к преступлениям, к физической и духовной смерти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ера в Бога, соблюдение христианских заповедей, нравственное и духовное совершенствование – это единственный путь сохранения человека и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мость литературной классики заключается прежде всего в том, что она утверждает ценности, не зависящие от предпочтений и капризов отдельного человека. Классику нужно читать, поскольку в ней содержится огромный опыт человечества, воспользоваться которым просто необходим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796000" y="4797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tclassic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щечеловеческий смысл ром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дейные преступления во имя лучшего будущего, уничтожение себе подобных из-за идейных разногласий – это путь к апокалипсису, уничтожению целых народов и государств, о чем пророчески предупреждает Достоевский в последнем сне Раскольникова (трихины).Общечеловеческие (божеские законы) непреложны, никакая благая цель не может быть оправданием насилия, но необходимо понимать разницу между социальными преступлениями и идей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ледствием физического насилия является духовная смерть преступника, но путь к спасению души есть: через наказание, раскаяние, страд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1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4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оциологический 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803160"/>
          <a:ext cx="8786880" cy="5650200"/>
        </p:xfrm>
        <a:graphic>
          <a:graphicData uri="http://schemas.openxmlformats.org/drawingml/2006/table">
            <a:tbl>
              <a:tblPr/>
              <a:tblGrid>
                <a:gridCol w="2965680"/>
                <a:gridCol w="1928520"/>
                <a:gridCol w="1895760"/>
                <a:gridCol w="199692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уденты и школь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редний возр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жилые лю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.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ера в Бога, соблюдение нравственных зак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.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уховное совершенствование каждого человека, преодоление индивидуализма, корыстолюбия, зави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.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ловые методы борьбы за национальные, экономические, классовые интере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79280" y="620640"/>
          <a:ext cx="8786880" cy="5688000"/>
        </p:xfrm>
        <a:graphic>
          <a:graphicData uri="http://schemas.openxmlformats.org/drawingml/2006/table">
            <a:tbl>
              <a:tblPr/>
              <a:tblGrid>
                <a:gridCol w="2965680"/>
                <a:gridCol w="1928520"/>
                <a:gridCol w="1895760"/>
                <a:gridCol w="1996920"/>
              </a:tblGrid>
              <a:tr h="19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.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острадание и милосердие, терпимость, умение прощ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.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нижение социальной напряженности в обществе, меры по улучшению жизни на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.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орьба с бедностью, сокращение разрыва между бедными и богат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324000" y="692280"/>
          <a:ext cx="853272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92280"/>
                    <a:ext cx="853272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5200" y="836640"/>
            <a:ext cx="82184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 социологического опрос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а в бога является важной составляющей жизни лишь пожилых людей, к духовному совершенствованию  больше стремятся люди среднего возраста. За силовые методы в борьбе за национальные и классовые интересы выступает молодёжь. С бедностью  бороться готовы пенсион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лександр Николаевич Островски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4032360" cy="4897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476360" y="47628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ександр Николаевич 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33ff"/>
                </a:solidFill>
                <a:uFillTx/>
                <a:latin typeface="Calibri"/>
              </a:rPr>
              <a:t>Драма «Гроз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9933ff"/>
                </a:solidFill>
                <a:latin typeface="Calibri"/>
              </a:rPr>
              <a:t>. Конкретно-исторический смысл пье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Calibri"/>
              </a:rPr>
              <a:t>Островский – обличитель самодурства в купеческой среде, основанного на власти денег, правил Домостроя, социальном неравенстве людей, ханжестве , невежестве, отсутствии прав и свобод у женщ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Calibri"/>
              </a:rPr>
              <a:t>Трагизм пьесы “Гроза” — в неразрешимости конфликта между человеком новой морали, обладающим чувством собственного достоинства, и обществом самодуров, в котором никто не имеет представления о человеческом достоинств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II</a:t>
            </a: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. Общечеловеческий смысл пье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alibri"/>
              </a:rPr>
              <a:t>Искренняя вера в Бога, соблюдение нравственных принципов, одухотворенность жизни, умение отстаивать свое человеческое достоинство, готовность идти до конца, даже на смерть, за правду, справедливость, свободу, любовь – это качества православных святых и истинно народных героев, облик которых формировался веками. Катерина - одна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оциологический 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268280"/>
          <a:ext cx="8964720" cy="4830840"/>
        </p:xfrm>
        <a:graphic>
          <a:graphicData uri="http://schemas.openxmlformats.org/drawingml/2006/table">
            <a:tbl>
              <a:tblPr/>
              <a:tblGrid>
                <a:gridCol w="2776680"/>
                <a:gridCol w="2341440"/>
                <a:gridCol w="2006640"/>
                <a:gridCol w="1839960"/>
              </a:tblGrid>
              <a:tr h="792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Студенты и школь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Средни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Пожилы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1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Равноправие полов, взаимоуважение в семье, доверие, 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8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2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Духовная и материальная поддержка со стороны старшего поко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333360"/>
          <a:ext cx="9144000" cy="6048360"/>
        </p:xfrm>
        <a:graphic>
          <a:graphicData uri="http://schemas.openxmlformats.org/drawingml/2006/table">
            <a:tbl>
              <a:tblPr/>
              <a:tblGrid>
                <a:gridCol w="2832120"/>
                <a:gridCol w="2387520"/>
                <a:gridCol w="2048040"/>
                <a:gridCol w="187632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3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Право на самостоятельную жизнь, личное м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4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Готовность молодежи отстаивать свои права, бороться за своб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5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Вера в Бога, соблюдение нравственных принцип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nion Pro Med"/>
                          <a:ea typeface="Times New Roman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889440"/>
            <a:ext cx="741672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Идейное содержание произведений классиков русской литературы </a:t>
            </a:r>
            <a:r>
              <a:rPr b="1" lang="en-US" sz="3200" spc="-1" strike="noStrike">
                <a:solidFill>
                  <a:srgbClr val="9933ff"/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395280" y="981000"/>
          <a:ext cx="845964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45964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 социологического опроса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равноправие полов готовы бороться молодые люди. Они же нуждаются в поддержке со стороны старшего поколения. Но мы наблюдаем парадокс: молодежь стремится к самостоятельности, но при этом не прочь пожить за чужой счет. Отстаивать свои права готовы люди средних лет, а верят в Бога пожилые лю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Лев Николаевич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55640" y="51577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Роман «Война и ми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Конкретно-исторический смысл ром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а победы в войне 1812 года – единение народа, духовный подъем нации без оглядки на сословное неравен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ее счастье – жить простой , естественной жизнью, наполненной трудом, как живет русский деревенский муж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кабристы - лучшие представители дворянства, прошедшие путь духовных исканий и сознательно поднявшиеся на борьбу с самодержав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5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Общечеловеческий смысл ром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изненный путь человека с большой буквы – путь сближения с народом, общественно значимая деятельность, нравственное самосовершенств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мейные ценности – залог духовного здоровья н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йна – противное человеческой природе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рашное событие, которому не может быть оправд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ра в Бога, значимость духовных ценностей, внутренней красоты человека, умение прощать, жить для людей – в этом счастье и смысл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оциологический 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268280"/>
          <a:ext cx="9144000" cy="5113440"/>
        </p:xfrm>
        <a:graphic>
          <a:graphicData uri="http://schemas.openxmlformats.org/drawingml/2006/table">
            <a:tbl>
              <a:tblPr/>
              <a:tblGrid>
                <a:gridCol w="3149640"/>
                <a:gridCol w="2335320"/>
                <a:gridCol w="1844640"/>
                <a:gridCol w="18144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ы и школь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возр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илые лю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ная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о значим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е ц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115920"/>
          <a:ext cx="9144000" cy="6626160"/>
        </p:xfrm>
        <a:graphic>
          <a:graphicData uri="http://schemas.openxmlformats.org/drawingml/2006/table">
            <a:tbl>
              <a:tblPr/>
              <a:tblGrid>
                <a:gridCol w="3149640"/>
                <a:gridCol w="2335320"/>
                <a:gridCol w="1844640"/>
                <a:gridCol w="1814400"/>
              </a:tblGrid>
              <a:tr h="19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доление разобщенности в обществе, формирование активной гражданской 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иотизм, вера в свой на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помогать людям, творить до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ние духовных ценностей над материальными, внутренней красоты над внеш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539640" y="981000"/>
          <a:ext cx="7667640" cy="52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766764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99760" y="836640"/>
            <a:ext cx="76438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 социологического 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мирную жизнь респонденты проголосовали единогласно. Но  общественно значимая деятельность, как ни странно, мало кого интересует. Несмотря на то, что духовные ценности не стоят на первом месте у молодёжи, всё же семья для многих  является неотъемлемой составляющей счастья. Преодолевать разобщенность в обществе готовы люди средних лет. Любовь к родине и стремление творить добро не чужды молодежи. А вот духовным ценностям отдает первенство самое мудрое старшее поко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33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611280" y="476280"/>
            <a:ext cx="820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 не претендуем на то, чтобы все вышесказанное считалось истиной в последней инстанции, так как данные размышления и выводы субъективны, а результаты социологического опроса отражают взгляды сравнительно небольшого количества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итог работы заключается в следующем: мы поняли, что роль русской классической литературы 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 века в формировании человека Х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трудно переоценить, поскольку темы, проблемы, идеи этих произведений актуальны и современны, процесс воспитания человека и общества далеко не завершен, а все лучшее, что есть в нас, - результат воспитательного воздействия русской классическ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ван Сергеевич Турген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643120" y="1000080"/>
            <a:ext cx="428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68360" y="476280"/>
            <a:ext cx="81360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проекта.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редлагаем ряд мер, и все они направлены на усиление роли литературы в жизни современного челове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величить количество часов на изучение литературы в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вести во всех высших учебных заведениях преподавание предмета «Литерату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высить статус учителей литературы в учебных заведен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Сделать обязательным экзамен по литературе в средней школе: с 5 по 8 класс – в устной форме, 9-10 класс – в устной и письменной форме (сочинение), 11 класс – ЕГЭ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бязать Министерство культуры  создать агентство, которое бы занималось организацией выступлений артистов, мастеров художественного чтения, в шко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1 -2 раза в неделю, перед первым уроком, проводить в школе пятиминутки для чтения интересных отрывков из различных произведений (читать вслух должны наиболее способные ученики и учител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В каждом округе создать Совет современных писателей, чтобы они встречались с молодежью, организовывали диспуты, конференции, пропагандировали классику и современную литерату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рганизовать обязательное бесплатное посещение учащимися литературных музеев и литературных экскурсий по го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Снабдить школы учебными фильмами о жизни и творчестве классиков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95280" y="62064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Создать программу посещения школьниками в течение учебного года театральных постановок по произведениям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Финансировать из госбюджета создание телепередач о писателях и их произвед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Приглашать в школу людей разных профессий и разного возраста для    выступления на тему «Книга в моей жизни», «Чем я обязан литературе», «Литературный герой, похожий на меня»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Роман «Отцы и де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677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Конкретно-исторический смысл ром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ирение между либералами и демократами невозможно,  у них глубокие идейные разногласия и взаимное сословное през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енство за молодыми си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од, мало что понимая в идейной борьбе, пойдет за тем, кто сумеет его увлечь, кто понятнее, ближе народу, то есть за демокра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бералы - носители дворянской культуры, хранители исторического прошлого, связи поколений, но они далеки от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мократы готовы к решительным действиям на пути к преобразованию государства, но их радикальные, крайние, революционные взгляды грозят России гражданской вой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 Общечеловеческий смысл ром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заров после смерти соединился с родителями, Аркадий – при жизни. В этом мысль Тургенева о преемственности поколений и невозможности разры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ремление разрушать, ломать приводит к саморазрушению человека. Основа жизни – согласие, примирение, един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заровы нужны, так как молодые должны не только повторять путь «отцов», но и делать шаг вперёд, должны дерзать, искать. В этом состоит прогре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оциологический 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4200" y="1341360"/>
          <a:ext cx="8715600" cy="5327640"/>
        </p:xfrm>
        <a:graphic>
          <a:graphicData uri="http://schemas.openxmlformats.org/drawingml/2006/table">
            <a:tbl>
              <a:tblPr/>
              <a:tblGrid>
                <a:gridCol w="2878200"/>
                <a:gridCol w="2436840"/>
                <a:gridCol w="1738440"/>
                <a:gridCol w="16621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уденты и школь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редни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жилы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1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Возможность политической борьбы, открытой оппозиции власти, свобода слова и печ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огласие и компромисс между представителями разных слоев 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3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емократический путь развития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713640"/>
        </p:xfrm>
        <a:graphic>
          <a:graphicData uri="http://schemas.openxmlformats.org/drawingml/2006/table">
            <a:tbl>
              <a:tblPr/>
              <a:tblGrid>
                <a:gridCol w="3019320"/>
                <a:gridCol w="2557440"/>
                <a:gridCol w="1822680"/>
                <a:gridCol w="174456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4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еобходимость революционных преобраз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5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нижение социальной напряженности в обществе, меры по улучшению жизни народа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6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охранение культуры, национальных традиций, преемственности поко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7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Борьба с бедностью, сокращение разрыва между бедными и богаты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395280" y="692280"/>
          <a:ext cx="85327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92280"/>
                    <a:ext cx="85327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1:13:27Z</dcterms:created>
  <dc:creator>Portable</dc:creator>
  <dc:description/>
  <dc:language>en-US</dc:language>
  <cp:lastModifiedBy>Xenon</cp:lastModifiedBy>
  <dcterms:modified xsi:type="dcterms:W3CDTF">2015-01-10T14:40:47Z</dcterms:modified>
  <cp:revision>37</cp:revision>
  <dc:subject/>
  <dc:title>Слайд 1</dc:title>
</cp:coreProperties>
</file>