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5.jpeg" ContentType="image/jpeg"/>
  <Override PartName="/ppt/media/image14.gif" ContentType="image/gif"/>
  <Override PartName="/ppt/media/image3.gif" ContentType="image/gif"/>
  <Override PartName="/ppt/media/image12.png" ContentType="image/png"/>
  <Override PartName="/ppt/media/image1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13.wmf" ContentType="image/x-wmf"/>
  <Override PartName="/ppt/media/image2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38B-B75D-492C-A517-5A28FEF4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D40-B710-4E7B-88A2-A0C924BA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9BF-2905-4FFC-A12E-13623F0E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B92-E8BC-4974-A79F-8C03190D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378-775F-4617-9279-81505BDA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304-75B8-48F5-BD5F-8B8D3644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613-4DC8-46C5-A173-16B4F5C6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4C0-DF45-44AB-8A02-8AD1D67B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B4C-D346-4B6F-ACE5-4B214F02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E6E-3531-4CE2-B030-B20BCDBC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38E-CEC9-4060-8620-D59C09A8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05C-5362-42F6-B452-C1F76D2B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FD17-42D0-42B1-A7FB-0CFDE299CA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1.gif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33"/>
                </a:solidFill>
                <a:latin typeface="Comic Sans MS"/>
              </a:rPr>
              <a:t>Математику, друзья,</a:t>
            </a:r>
            <a:br>
              <a:rPr sz="6000"/>
            </a:br>
            <a:r>
              <a:rPr b="0" lang="ru-RU" sz="6000" spc="-1" strike="noStrike">
                <a:solidFill>
                  <a:srgbClr val="990033"/>
                </a:solidFill>
                <a:latin typeface="Comic Sans MS"/>
              </a:rPr>
              <a:t>Не любить никак нельзя.</a:t>
            </a:r>
            <a:br>
              <a:rPr sz="6000"/>
            </a:br>
            <a:r>
              <a:rPr b="0" lang="ru-RU" sz="6000" spc="-1" strike="noStrike">
                <a:solidFill>
                  <a:srgbClr val="990033"/>
                </a:solidFill>
                <a:latin typeface="Comic Sans MS"/>
              </a:rPr>
              <a:t>Очень строгая наука,</a:t>
            </a:r>
            <a:br>
              <a:rPr sz="6000"/>
            </a:br>
            <a:r>
              <a:rPr b="0" lang="ru-RU" sz="6000" spc="-1" strike="noStrike">
                <a:solidFill>
                  <a:srgbClr val="990033"/>
                </a:solidFill>
                <a:latin typeface="Comic Sans MS"/>
              </a:rPr>
              <a:t>Очень точная наука-</a:t>
            </a:r>
            <a:br>
              <a:rPr sz="6000"/>
            </a:br>
            <a:r>
              <a:rPr b="0" lang="ru-RU" sz="6000" spc="-1" strike="noStrike">
                <a:solidFill>
                  <a:srgbClr val="990033"/>
                </a:solidFill>
                <a:latin typeface="Comic Sans MS"/>
              </a:rPr>
              <a:t>Это математика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5219640" y="6308640"/>
            <a:ext cx="352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отряде космонавтов было 125 мужчин, а женщин на 65 человек меньше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олько всего человек было в отряде космонавтов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ROCKET8"/>
          <p:cNvPicPr/>
          <p:nvPr/>
        </p:nvPicPr>
        <p:blipFill>
          <a:blip r:embed="rId1"/>
          <a:stretch/>
        </p:blipFill>
        <p:spPr>
          <a:xfrm rot="2592000">
            <a:off x="5751000" y="4763880"/>
            <a:ext cx="24386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)125-65=60(ж.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) 125+60=185(ч.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5+(125-65)=185(ч.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185 человек было в отряде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сса первого спутника Земли 84 кг, а масса второго спутника на 424 кг больше. Найди массу второго спутни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j0233964"/>
          <p:cNvPicPr/>
          <p:nvPr/>
        </p:nvPicPr>
        <p:blipFill>
          <a:blip r:embed="rId1"/>
          <a:stretch/>
        </p:blipFill>
        <p:spPr>
          <a:xfrm>
            <a:off x="6018120" y="3689280"/>
            <a:ext cx="3125880" cy="3168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62800" cy="41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не учиться очень нравитс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вечать я не боюсь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 могу с задачей справиться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тому что не ленюсь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 прекрасна и сильн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Математик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стран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солне сс"/>
          <p:cNvPicPr/>
          <p:nvPr/>
        </p:nvPicPr>
        <p:blipFill>
          <a:blip r:embed="rId2"/>
          <a:srcRect l="14782" t="1849" r="4482" b="3893"/>
          <a:stretch/>
        </p:blipFill>
        <p:spPr>
          <a:xfrm>
            <a:off x="0" y="213372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80880" y="57150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447920" y="541008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209680" y="487692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666880" y="43434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800600" y="472428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6324480" y="419112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7086600" y="32767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8229600" y="25909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38088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зовите планеты в порядке удаления от Солн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математики во 2 классе по учебнику Л.Ф. Петерсо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перации с круглыми числами»</a:t>
            </a:r>
            <a:br>
              <a:rPr sz="4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ила Блинова С.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ОУ «ЛИЦЕЙ № 121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6,53,458,27,99,5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48,640,752,300,76,60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00,100,542,700,200,80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54,426,400,299,763,127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26,121,102,768,873,689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22,999,676,333,999,555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еши 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ря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2 ряд                                                                     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 +40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170 + 30 +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0 - 90 +200                      280 – 80 -20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0 - 150 -50                      680 – 200 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30 + 70 +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70 – 70 -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0 + 180 +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ROCKET8"/>
          <p:cNvPicPr/>
          <p:nvPr/>
        </p:nvPicPr>
        <p:blipFill>
          <a:blip r:embed="rId1"/>
          <a:stretch/>
        </p:blipFill>
        <p:spPr>
          <a:xfrm rot="2592000">
            <a:off x="225000" y="185400"/>
            <a:ext cx="24386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верь !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49976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ряд                         2 ряд                  3 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                                600                      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0                              200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350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400                        800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ROCKET8"/>
          <p:cNvPicPr/>
          <p:nvPr/>
        </p:nvPicPr>
        <p:blipFill>
          <a:blip r:embed="rId1"/>
          <a:stretch/>
        </p:blipFill>
        <p:spPr>
          <a:xfrm rot="2592000">
            <a:off x="4941360" y="4043160"/>
            <a:ext cx="24386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324000" y="35712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5050"/>
                </a:solidFill>
                <a:latin typeface="Allegretto Script One"/>
              </a:rPr>
              <a:t>Именованные единицы.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1357200"/>
            <a:ext cx="2556000" cy="3079800"/>
          </a:xfrm>
          <a:prstGeom prst="irregularSeal2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час=…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6300720" y="4437000"/>
            <a:ext cx="2843280" cy="24210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год=…м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3857760" y="3429000"/>
            <a:ext cx="2663640" cy="244800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60сек= …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28760" y="4429080"/>
            <a:ext cx="2660400" cy="1922400"/>
          </a:xfrm>
          <a:custGeom>
            <a:avLst/>
            <a:gdLst>
              <a:gd name="textAreaLeft" fmla="*/ 607320 w 2660400"/>
              <a:gd name="textAreaRight" fmla="*/ 2053080 w 2660400"/>
              <a:gd name="textAreaTop" fmla="*/ 438840 h 1922400"/>
              <a:gd name="textAreaBottom" fmla="*/ 1483560 h 1922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нед.=…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6588000" y="2133720"/>
            <a:ext cx="2425680" cy="1490400"/>
          </a:xfrm>
          <a:custGeom>
            <a:avLst/>
            <a:gdLst>
              <a:gd name="textAreaLeft" fmla="*/ 553680 w 2425680"/>
              <a:gd name="textAreaRight" fmla="*/ 1872000 w 2425680"/>
              <a:gd name="textAreaTop" fmla="*/ 340200 h 1490400"/>
              <a:gd name="textAreaBottom" fmla="*/ 1150200 h 149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 сут.= …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2571840" y="1643040"/>
            <a:ext cx="2087640" cy="2268720"/>
          </a:xfrm>
          <a:custGeom>
            <a:avLst/>
            <a:gdLst>
              <a:gd name="textAreaLeft" fmla="*/ 476640 w 2087640"/>
              <a:gd name="textAreaRight" fmla="*/ 1611000 w 2087640"/>
              <a:gd name="textAreaTop" fmla="*/ 517680 h 2268720"/>
              <a:gd name="textAreaBottom" fmla="*/ 1751040 h 226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0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см=….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ROCKET8"/>
          <p:cNvPicPr/>
          <p:nvPr/>
        </p:nvPicPr>
        <p:blipFill>
          <a:blip r:embed="rId1"/>
          <a:stretch/>
        </p:blipFill>
        <p:spPr>
          <a:xfrm rot="2592000">
            <a:off x="4306680" y="1133640"/>
            <a:ext cx="24382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6"/>
          <p:cNvSpPr txBox="1"/>
          <p:nvPr/>
        </p:nvSpPr>
        <p:spPr>
          <a:xfrm rot="5400000">
            <a:off x="-2089440" y="2744640"/>
            <a:ext cx="583272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осчитай-ка!</a:t>
            </a:r>
            <a:endParaRPr b="0" i="1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1332000" y="0"/>
            <a:ext cx="2354040" cy="1833480"/>
          </a:xfrm>
          <a:prstGeom prst="cloudCallout">
            <a:avLst>
              <a:gd name="adj1" fmla="val 13587"/>
              <a:gd name="adj2" fmla="val 56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4 ч 45 мин.- 26 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5867280" y="2205000"/>
            <a:ext cx="3097440" cy="273528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4час=…с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/>
          <p:cNvSpPr/>
          <p:nvPr/>
        </p:nvSpPr>
        <p:spPr>
          <a:xfrm>
            <a:off x="5357880" y="428760"/>
            <a:ext cx="2743200" cy="2232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4м=…д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1187280" y="3284640"/>
            <a:ext cx="3168720" cy="259236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м=…д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5143680" y="5072040"/>
            <a:ext cx="1357200" cy="928800"/>
          </a:xfrm>
          <a:prstGeom prst="cloudCallout">
            <a:avLst>
              <a:gd name="adj1" fmla="val 773"/>
              <a:gd name="adj2" fmla="val 16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460880" y="68724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00см=…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 примеры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1вар.               2вар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342+278            458+164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15+236             378+466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65-348             753-246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20-318              640-32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4" descr="j0283651"/>
          <p:cNvPicPr/>
          <p:nvPr/>
        </p:nvPicPr>
        <p:blipFill>
          <a:blip r:embed="rId1"/>
          <a:stretch/>
        </p:blipFill>
        <p:spPr>
          <a:xfrm>
            <a:off x="10693440" y="1681200"/>
            <a:ext cx="638280" cy="90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j0283651"/>
          <p:cNvPicPr/>
          <p:nvPr/>
        </p:nvPicPr>
        <p:blipFill>
          <a:blip r:embed="rId2"/>
          <a:stretch/>
        </p:blipFill>
        <p:spPr>
          <a:xfrm>
            <a:off x="10845720" y="1833480"/>
            <a:ext cx="638280" cy="90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ROCKET8"/>
          <p:cNvPicPr/>
          <p:nvPr/>
        </p:nvPicPr>
        <p:blipFill>
          <a:blip r:embed="rId3"/>
          <a:stretch/>
        </p:blipFill>
        <p:spPr>
          <a:xfrm rot="2592000">
            <a:off x="404640" y="310680"/>
            <a:ext cx="243864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/>
            <a:ahLst/>
            <a:rect l="l" t="t" r="r" b="b"/>
            <a:pathLst>
              <a:path w="1795462" h="1603375">
                <a:moveTo>
                  <a:pt x="2" y="612433"/>
                </a:moveTo>
                <a:lnTo>
                  <a:pt x="685809" y="612438"/>
                </a:lnTo>
                <a:lnTo>
                  <a:pt x="897731" y="0"/>
                </a:lnTo>
                <a:lnTo>
                  <a:pt x="1109653" y="612438"/>
                </a:lnTo>
                <a:lnTo>
                  <a:pt x="1795460" y="612433"/>
                </a:lnTo>
                <a:lnTo>
                  <a:pt x="1240628" y="990936"/>
                </a:lnTo>
                <a:lnTo>
                  <a:pt x="1452558" y="1603371"/>
                </a:lnTo>
                <a:lnTo>
                  <a:pt x="897731" y="1224861"/>
                </a:lnTo>
                <a:lnTo>
                  <a:pt x="342904" y="1603371"/>
                </a:lnTo>
                <a:lnTo>
                  <a:pt x="554834" y="990936"/>
                </a:lnTo>
                <a:lnTo>
                  <a:pt x="2" y="61243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2"/>
                </a:lnTo>
                <a:lnTo>
                  <a:pt x="757745" y="863598"/>
                </a:lnTo>
                <a:lnTo>
                  <a:pt x="468313" y="659727"/>
                </a:lnTo>
                <a:lnTo>
                  <a:pt x="178880" y="863598"/>
                </a:lnTo>
                <a:lnTo>
                  <a:pt x="289436" y="533732"/>
                </a:lnTo>
                <a:lnTo>
                  <a:pt x="1" y="329865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/>
            <a:ahLst/>
            <a:rect l="l" t="t" r="r" b="b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3" y="667165"/>
                </a:lnTo>
                <a:lnTo>
                  <a:pt x="990206" y="1079497"/>
                </a:lnTo>
                <a:lnTo>
                  <a:pt x="611982" y="824659"/>
                </a:lnTo>
                <a:lnTo>
                  <a:pt x="233757" y="1079497"/>
                </a:lnTo>
                <a:lnTo>
                  <a:pt x="378230" y="667165"/>
                </a:lnTo>
                <a:lnTo>
                  <a:pt x="1" y="412331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/>
            <a:ahLst/>
            <a:rect l="l" t="t" r="r" b="b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3"/>
                </a:lnTo>
                <a:lnTo>
                  <a:pt x="1401186" y="1655758"/>
                </a:lnTo>
                <a:lnTo>
                  <a:pt x="865982" y="1264881"/>
                </a:lnTo>
                <a:lnTo>
                  <a:pt x="330777" y="1655758"/>
                </a:lnTo>
                <a:lnTo>
                  <a:pt x="535212" y="1023313"/>
                </a:lnTo>
                <a:lnTo>
                  <a:pt x="2" y="632443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/>
            <a:ahLst/>
            <a:rect l="l" t="t" r="r" b="b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1"/>
                </a:lnTo>
                <a:lnTo>
                  <a:pt x="1284313" y="1511296"/>
                </a:lnTo>
                <a:lnTo>
                  <a:pt x="793750" y="1154523"/>
                </a:lnTo>
                <a:lnTo>
                  <a:pt x="303187" y="1511296"/>
                </a:lnTo>
                <a:lnTo>
                  <a:pt x="490570" y="934031"/>
                </a:lnTo>
                <a:lnTo>
                  <a:pt x="2" y="577264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/>
            <a:ahLst/>
            <a:rect l="l" t="t" r="r" b="b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1"/>
                </a:lnTo>
                <a:lnTo>
                  <a:pt x="1515490" y="1736721"/>
                </a:lnTo>
                <a:lnTo>
                  <a:pt x="936625" y="1326731"/>
                </a:lnTo>
                <a:lnTo>
                  <a:pt x="357760" y="1736721"/>
                </a:lnTo>
                <a:lnTo>
                  <a:pt x="578872" y="1073351"/>
                </a:lnTo>
                <a:lnTo>
                  <a:pt x="2" y="663368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3" descr="56r2"/>
          <p:cNvPicPr/>
          <p:nvPr/>
        </p:nvPicPr>
        <p:blipFill>
          <a:blip r:embed="rId15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93" name="прин110.wav" descr=""/>
          <p:cNvPicPr/>
          <p:nvPr/>
        </p:nvPicPr>
        <p:blipFill>
          <a:blip r:embed="rId16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2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0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1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3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340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3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3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389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398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4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3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3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419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9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4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4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4500"/>
                            </p:stCondLst>
                            <p:childTnLst>
                              <p:par>
                                <p:cTn id="4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3:45:20Z</dcterms:created>
  <dc:creator>1</dc:creator>
  <dc:description/>
  <dc:language>en-US</dc:language>
  <cp:lastModifiedBy>Информфиз</cp:lastModifiedBy>
  <dcterms:modified xsi:type="dcterms:W3CDTF">2015-01-10T17:52:41Z</dcterms:modified>
  <cp:revision>80</cp:revision>
  <dc:subject/>
  <dc:title>Математику, друзья, Не любить никак нельзя.</dc:title>
</cp:coreProperties>
</file>