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BB2-7C04-42AB-808A-04C7A73F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989-22C1-46EC-B87A-D76CCF85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14B-8B15-480A-AFE3-21A55E59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D2C-260E-439C-B366-33F72ECC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C1043-0E58-48CC-9B34-7CAC7CF4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B855E-C97F-49B9-BC5E-0F97AB26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BD82F-0CF9-46D5-AD60-8F6444E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2E7BA-CA91-4385-8AAF-EBF38B9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E9CC4-9F08-48B8-A2B1-9163D63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1ABA0-0E71-40B9-95D7-FA02FA8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56E6C-6E2C-47BA-86BC-B21252D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818-2723-4F4F-B8A5-C767C83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DF2C3-E212-4E79-9707-8951068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603D1-D917-4CFB-A436-318C2FD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CAFB7-55D8-402E-8809-FEE5EAB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BC89-6911-4BE3-A329-B9C4CE92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4F98-4955-4292-91EC-1569510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FDF-5246-44D8-92BE-DCC2758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CF4-43DA-4420-836E-F84F021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F42-99DD-4C66-8FEE-43E5ED7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8CD-C50A-4BDC-9E28-FB374C0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3ED-8309-4E02-BE1E-C81A66A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D6-C424-47EF-970E-6644F66A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604-97E9-4199-ACA2-228ECAC0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87E-70C5-4EC7-A125-9C4D28483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1F3A-6EA9-44A4-A3C0-9CA600094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Monotype Corsiva"/>
              </a:rPr>
              <a:t>Тема урока: сплавы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675640" y="764640"/>
            <a:ext cx="698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рка д/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тор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репление новых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ведение итогов, объявление оцен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ение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ы образования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нятие о легиров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ы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йства и применение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блема урока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материал выбрать для изготовл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ссоры – железо или сплав на основе жел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шипников – медь или сплав на основе м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шней цилиндров – алюминий или сплав на основе алюми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ение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ы образования сплавов (фаз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нятие о легиров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ы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йства и применение спла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пла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лавом называется макроскопически однородная система, состоящая из 2-х и более химических элементов (компонент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зы металлических сплав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ие раствор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ёрдые растворы внедр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ёрдые растворы заме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имические соеди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ханические смес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гиров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приготовления сплава в расплавленный металл добавляют один или несколько компонентов (металлы и неметаллы), т.е. металл легируют (улучшаю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руппы сплавов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ойства и применение сплав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а с таблиц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блема урока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материал выбрать для изготовл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ссоры – железо или сплав на основе жел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шипников – медь или сплав на основе м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шней цилиндров – алюминий или сплав на основе алюми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рка д/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тор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репление новых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ведение итогов, объявление оцен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ритерии оценок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баллов – 5 (от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балла – 4 (хо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балла – 3 (у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ь вид кристаллической решётки различных материалов: калий, натрий, вольфрам, хром, железо, кальций, свинец, никель, золото, железо, марганец, цин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кристаллических решёт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оверка правильности выполнения д/з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ЦК – калий, натрий, вольфрам, хром, желез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ЦК – кальций, свинец, никель, золото, желез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ПУ – марганец, цин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рка д/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тор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репление новых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ведение итогов, объявление оцен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Какое строение имеют метал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Дать определение процесса кристаллизации металлов.                            3. Перечислите этапы процесса кристаллизации.                                                          4. От каких факторов зависит размер зёрен метал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Как получить мелкозернистую структуру металла?                                                       6. Что такое модификаци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апы процесса кристаллизации металл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0" b="8991"/>
          <a:stretch/>
        </p:blipFill>
        <p:spPr>
          <a:xfrm>
            <a:off x="468360" y="1484280"/>
            <a:ext cx="8229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3:02:36Z</dcterms:created>
  <dc:creator>User</dc:creator>
  <dc:description/>
  <dc:language>en-US</dc:language>
  <cp:lastModifiedBy>User</cp:lastModifiedBy>
  <dcterms:modified xsi:type="dcterms:W3CDTF">2011-09-19T20:47:20Z</dcterms:modified>
  <cp:revision>9</cp:revision>
  <dc:subject/>
  <dc:title>Тема урока: сплавы</dc:title>
</cp:coreProperties>
</file>