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40E-6533-4221-9D08-6EEA6527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131-6D95-471B-AF3F-64514E9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A73-6B21-4D36-A4FA-1DF3763A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5F2-7988-46B7-AFC8-42402234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7EC-BDA3-450C-99C4-B701234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D1D-2CE4-4077-9ED0-B8A3DDF1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8CB-7090-4D7F-81CC-943B232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767-852B-48AE-ABBE-0E60CF1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6F3-0407-4307-9B39-7B71E025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8A6-6E8A-4344-B904-CC78E5E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E3A-8E5F-48CA-8E31-7591B0F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E9A-FE99-4BBE-B049-68356D6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E97C-53AA-411F-99DF-A5D2017ED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3152"/>
                </a:solidFill>
                <a:latin typeface="Calibri"/>
              </a:rPr>
              <a:t>«Правила личной гигиены и здоровье челове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2010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Бочко Ан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Учащаяся 11-А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ОШ № 7 г. Джанко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440" y="274680"/>
            <a:ext cx="47862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alibri"/>
              </a:rPr>
              <a:t>Гигиена одежды (каковы функции одежды?) Одежда должна соответствовать климатическим условиям среды обитания человека, характеру его работы, иметь покрой не затрудняющий кровообращение и дыхание, легко очищаться от пыли и грязи. Головные уборы должны быть лёгкими и не тесными. Для холодного времени – из натурального меха, для летнего – из лёгких, светлых материалов. Обувь предпочтительнее иметь из натуральной кожи: она не боится влаги, хорошо удерживает тепло и обеспечивает хорошую вентиляцию стопы. Обувь не должна стеснять ногу, препятствовать естественному движению стопы, должна соответствовать сезо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gigiena-odezhdy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60721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Гигиена жилища.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Основные гигиенические требования, предъявляемые к жилищу: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обеспечение необходимого объёма чистого воздуха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создание в жилище т. н. зоны комфорта - оптимального для организма сочетания температуры, влажности и скорости движения воздуха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обеспечение наиболее благоприятного освещения и максимально возможной звукоизоляции от шумов извне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повсеместное поддержание чистоты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соблюдение личной гигиен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110775629_1868538_69150669327_406.jpg"/>
          <p:cNvPicPr/>
          <p:nvPr/>
        </p:nvPicPr>
        <p:blipFill>
          <a:blip r:embed="rId1"/>
          <a:stretch/>
        </p:blipFill>
        <p:spPr>
          <a:xfrm>
            <a:off x="642960" y="2714760"/>
            <a:ext cx="7858080" cy="40003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Гигиена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 — это область медицины, изучающая влияние условий жизни, труда на здоровье</a:t>
            </a: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человека и разрабатывающая меры профилактики различных заболеваний, обеспечения оптимальных условий существования, сохранения здоровья и продления жизни. Гигиена относится к наиболее древним отраслям медицински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7" descr="83367.jpg"/>
          <p:cNvPicPr/>
          <p:nvPr/>
        </p:nvPicPr>
        <p:blipFill>
          <a:blip r:embed="rId1"/>
          <a:stretch/>
        </p:blipFill>
        <p:spPr>
          <a:xfrm>
            <a:off x="642960" y="1857240"/>
            <a:ext cx="800100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37148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Личная гигиена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 — совокупность гигиенических правил, выполнение которых способствует сохранению и укреплению здоровья человека. К таким правилам относят: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• разумное сочетание умственного и физического труда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• занятия физической культурой и закаливание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• рациональное питание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• чередование труда и активного отдыха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• полноценный сон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К личной гигиене относятся также требования по уходу за кожей, зубами, волосами, по содержанию в должной чистоте одежды, обуви и жилищ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9" descr="Pri-lechenii-nogtevogo-gribka-ochen-vazhno-soblyudat-pravila-lichnoy-gigienyi.jpg"/>
          <p:cNvPicPr/>
          <p:nvPr/>
        </p:nvPicPr>
        <p:blipFill>
          <a:blip r:embed="rId1"/>
          <a:stretch/>
        </p:blipFill>
        <p:spPr>
          <a:xfrm>
            <a:off x="3786120" y="428760"/>
            <a:ext cx="5143680" cy="6072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5" descr="0003-003-Gigiena-v-organizme.jpg"/>
          <p:cNvPicPr/>
          <p:nvPr/>
        </p:nvPicPr>
        <p:blipFill>
          <a:blip r:embed="rId1"/>
          <a:stretch/>
        </p:blipFill>
        <p:spPr>
          <a:xfrm>
            <a:off x="50004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7480" y="642960"/>
            <a:ext cx="368604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Гигиена кожи.</a:t>
            </a:r>
            <a:br>
              <a:rPr sz="2000"/>
            </a:b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Кожа человека </a:t>
            </a:r>
            <a:r>
              <a:rPr b="0" lang="ru-RU" sz="2000" spc="-1" strike="noStrike">
                <a:solidFill>
                  <a:srgbClr val="403152"/>
                </a:solidFill>
                <a:latin typeface="Calibri"/>
              </a:rPr>
              <a:t>– это наружный покров, который защищает организм от разных воздействий окружающей внешней среды. Кроме защитной функции кожа выполняет такие функции, как регуляция теплообразования и теплоотдачи, дыхания, всасывания, восприятия внешних раздражителей и т.п. На ее состояние влияют климатические воздействия, условия труда. Кожа тесно связана с жизнедеятельностью всего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aende-waschen.jpg"/>
          <p:cNvPicPr/>
          <p:nvPr/>
        </p:nvPicPr>
        <p:blipFill>
          <a:blip r:embed="rId1"/>
          <a:stretch/>
        </p:blipFill>
        <p:spPr>
          <a:xfrm>
            <a:off x="457200" y="42876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Уход за кожей заключается в выполнении некоторых правил: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мойтесь каждый день теплой водой с использованием специальных средств (мыло, гель и т.п.)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меняйте белье, чулки, носки, колготки, гольфы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не выдавливайте прыщи, это может привести к воспалению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старайтесь употреблять в достаточном количестве свежие фрукты и овощи, молоко, это обеспечит организм достаточным количеством минеральных веществ и витаминов, что будет способствовать гладкой и чистой коже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в холодное время года необходимо защищать кожу от обморожений;</a:t>
            </a:r>
            <a:br>
              <a:rPr sz="1800"/>
            </a:b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-не носите одежду, которая вызывает у вас раздражение кож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2cd8501d23c89085b22eb0d20c04e13f.jpg"/>
          <p:cNvPicPr/>
          <p:nvPr/>
        </p:nvPicPr>
        <p:blipFill>
          <a:blip r:embed="rId1"/>
          <a:stretch/>
        </p:blipFill>
        <p:spPr>
          <a:xfrm>
            <a:off x="4214880" y="285840"/>
            <a:ext cx="4643280" cy="6286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Гигиена зубов. 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Большое значение для здоровья человека имеет состояние зубов, поэтому так важно ухаживать за полостью рта. Предупредить появление инфекции в полости рта поможет правильный уход за зубами. Чистить их следует ежедневно, пользуясь зубной щеткой и пастой, также следует применять специальные растворы для полоскания рта. После еды необходимо прочищать межзубные промежутки с помощью зубочисток или специальных нит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i.jpg"/>
          <p:cNvPicPr/>
          <p:nvPr/>
        </p:nvPicPr>
        <p:blipFill>
          <a:blip r:embed="rId1"/>
          <a:stretch/>
        </p:blipFill>
        <p:spPr>
          <a:xfrm>
            <a:off x="857160" y="2500200"/>
            <a:ext cx="7500960" cy="41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0720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3152"/>
                </a:solidFill>
                <a:latin typeface="Calibri"/>
              </a:rPr>
              <a:t>Гигиена волос</a:t>
            </a:r>
            <a:r>
              <a:rPr b="0" lang="ru-RU" sz="1600" spc="-1" strike="noStrike">
                <a:solidFill>
                  <a:srgbClr val="403152"/>
                </a:solidFill>
                <a:latin typeface="Calibri"/>
              </a:rPr>
              <a:t>. Волосы желательно мыть в мягкой воде. Частота мытья определяется индивидуально, но следует помнить, что частое мытье шампунями усиливает работу сальных желез. Хорошо ополаскивать водой с уксусом, отваром ромашки или крапивы. Очень полезен массаж головы. Можно делать его перед каждым мытьём. Не ленитесь расчёсывать волосы утром и вечер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48c43d7da12f1cdcdcbf13d1d865dfce.jpg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3929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Рациональное питание </a:t>
            </a: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является важным аспектом личной гигиены и подразумевает правильный режим питания. Время приема пищи должно быть строго определено и приходиться на одни и те же часы. Нерегулярный прием ее ухудшает условия пищеварения и способствует развитию заболеваний желудочно-кишечного тракта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i (1).jpg"/>
          <p:cNvPicPr/>
          <p:nvPr/>
        </p:nvPicPr>
        <p:blipFill>
          <a:blip r:embed="rId1"/>
          <a:stretch/>
        </p:blipFill>
        <p:spPr>
          <a:xfrm>
            <a:off x="4214880" y="500040"/>
            <a:ext cx="4572000" cy="5929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06:12:28Z</dcterms:created>
  <dc:creator>IRONMANN (AKA SHAMAN)</dc:creator>
  <dc:description/>
  <dc:language>en-US</dc:language>
  <cp:lastModifiedBy>IRONMANN (AKA SHAMAN)</cp:lastModifiedBy>
  <dcterms:modified xsi:type="dcterms:W3CDTF">2014-12-14T07:31:02Z</dcterms:modified>
  <cp:revision>1</cp:revision>
  <dc:subject/>
  <dc:title>«Правила личной гигиены и здоровье человека»</dc:title>
</cp:coreProperties>
</file>