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232-AE49-409D-ACC3-6C9A4D47E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4A40-E872-4F03-80CE-FE4F9C717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841-7E67-42A5-99A1-8B7ED059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A43-AE60-45B0-9E09-2BE162C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8BB-3DDE-415E-9989-A436E8AA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7CB-ED58-41BD-BF80-DC8F8B78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DFF-0F2C-4729-8897-78767FCA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E47-42B8-4503-BC38-FC2723A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A12-4A87-432C-AC33-5B80CCB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05D-8BC4-4FE1-BD76-A9841F72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6AD-2E38-4041-90D8-BD10102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006-6BDD-4F6E-81FA-C480C78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56A-B9BA-4B38-A322-71181D0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A45-212D-453B-9A36-6887453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EB6-801C-48C3-B6C3-1EC6999C1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947160" y="428760"/>
            <a:ext cx="712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сударственное 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редняя образовательная школа № 4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ушкинского района Санкт-Петербур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714240" y="1357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000080" y="1571760"/>
            <a:ext cx="6858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Кон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«Помоги Земле Русс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«Храним в сердцах и помним подвиги героев и богатырей был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456560" y="4286160"/>
            <a:ext cx="62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аботу выполнила: ученица 4 «а» класса Даша Прокофь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уководитель: преподаватель  Светлана Викторовна Голуб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в. библиотекой: Наталья Юрьевна Топу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46360" y="50990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л/факс 470-05-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579840" y="5429160"/>
            <a:ext cx="17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уш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>
            <a:lum contrast="-40000"/>
          </a:blip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714240" y="0"/>
            <a:ext cx="7715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357720" y="1357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78320" y="15001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ироко ты, Русь, по лицу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587320" y="200016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се царственной развернула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572200" y="250020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ебя ли нет богатырских с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583720" y="292896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ы святой, громких подвиг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582640" y="34290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 и есть за, что Русь могу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573280" y="392904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юбить тебя, назвать матер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579040" y="4429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 за честь твою против нед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2578680" y="492912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ебя в нужде сложить голов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469260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857840" y="-142920"/>
            <a:ext cx="4286160" cy="7358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5357880" y="1000080"/>
            <a:ext cx="3143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ть в истории нашего государства славная страница летописи далёкого прошлого – это подвиги русских богатыр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рез многовековую историю нашего государства дошли до нас подвиги древних богатырей. Им приходилось вставать на защиту своей земли русской. Они преданно защищали народ. Народ почитал и любил их за стойкость, смелость. Слагал про них бы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214200" y="3632040"/>
            <a:ext cx="47149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714240" y="0"/>
            <a:ext cx="7715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714680" y="2071800"/>
            <a:ext cx="54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з русских богатырей запечатлён не только в русском народном творчестве, но и храним и помним в изобразительном искусстве, в музыке, в поэ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гие композиторы, художники, поэты считали за великую честь писать о русских богатыр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4643280" cy="307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4643280" y="142920"/>
            <a:ext cx="4349880" cy="6500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5929200" y="17146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143680" y="20073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иктор Михайлович Васнецов написал картину «Три богатыря». Смотрю и вижу могущественных, сильных защитников русской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 rot="20861400">
            <a:off x="1108080" y="707760"/>
            <a:ext cx="3876840" cy="545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4572000" y="214200"/>
            <a:ext cx="4064040" cy="6072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214200" y="214200"/>
            <a:ext cx="2095560" cy="2886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5072040" y="2012040"/>
            <a:ext cx="2857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ушая симфонию Александра Бородина «Богатырская симфония», представляешь сильного и мужественного русского богатыря, который во имя любви к своей родной земле готов сложить свою голо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:\DCIM\101MSDCF\DSC04549.JPG"/>
          <p:cNvPicPr/>
          <p:nvPr/>
        </p:nvPicPr>
        <p:blipFill>
          <a:blip r:embed="rId2"/>
          <a:srcRect l="0" t="0" r="14505" b="0"/>
          <a:stretch/>
        </p:blipFill>
        <p:spPr>
          <a:xfrm>
            <a:off x="6643800" y="1643040"/>
            <a:ext cx="2340000" cy="3649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:\DCIM\101MSDCF\DSC04547.JPG"/>
          <p:cNvPicPr/>
          <p:nvPr/>
        </p:nvPicPr>
        <p:blipFill>
          <a:blip r:embed="rId3"/>
          <a:stretch/>
        </p:blipFill>
        <p:spPr>
          <a:xfrm rot="21334200">
            <a:off x="240840" y="41868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4"/>
          <a:stretch/>
        </p:blipFill>
        <p:spPr>
          <a:xfrm>
            <a:off x="3429000" y="571680"/>
            <a:ext cx="4064040" cy="6072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3929040" y="208152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нашей школе есть музей Боевой Славы. Здесь рассказывается о людях, которые защищали наш город во врем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елик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течественной войны. Мы гордимся и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M:\DCIM\101MSDCF\DSC04550.JPG"/>
          <p:cNvPicPr/>
          <p:nvPr/>
        </p:nvPicPr>
        <p:blipFill>
          <a:blip r:embed="rId5"/>
          <a:stretch/>
        </p:blipFill>
        <p:spPr>
          <a:xfrm>
            <a:off x="142920" y="378612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571840" y="571680"/>
            <a:ext cx="4064040" cy="6072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3143160" y="2453040"/>
            <a:ext cx="2786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и в давние времена, так и в наше время на земле русской,  рождались, и будут рождаться богатыри-защитники Оте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642960" y="2214720"/>
            <a:ext cx="1428840" cy="20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14200" y="177840"/>
            <a:ext cx="2357640" cy="19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214200" y="4357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6858000" y="214200"/>
            <a:ext cx="2071800" cy="258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7"/>
          <a:stretch/>
        </p:blipFill>
        <p:spPr>
          <a:xfrm>
            <a:off x="6715080" y="3143160"/>
            <a:ext cx="2103480" cy="15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8"/>
          <a:stretch/>
        </p:blipFill>
        <p:spPr>
          <a:xfrm>
            <a:off x="6500880" y="5072040"/>
            <a:ext cx="2446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2:13:43Z</dcterms:created>
  <dc:creator>Zver</dc:creator>
  <dc:description/>
  <dc:language>en-US</dc:language>
  <cp:lastModifiedBy>User</cp:lastModifiedBy>
  <dcterms:modified xsi:type="dcterms:W3CDTF">2014-11-08T10:09:05Z</dcterms:modified>
  <cp:revision>23</cp:revision>
  <dc:subject/>
  <dc:title>Слайд 1</dc:title>
</cp:coreProperties>
</file>