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33C-A415-41C9-84F4-DCAC0BCE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2CB-378D-4C53-B6B7-335E12B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D0B-84E0-45E9-93D4-FFC065C2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837-28B9-4705-B171-5A87D936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883-0D48-41CB-BEA5-F800546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164-6568-464C-8ED1-2259888F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A0E-0746-4FF9-AE5F-0A192CC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10D-FED2-403F-8B9C-1BDA308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B47-B38D-44CB-AAFC-1BCA710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A17-2ACC-4F67-8225-B0D73F9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217-5D2E-46D3-97F7-33FB0E7D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98F-0DEC-4AED-A4D0-3083C48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A241-6C5D-465C-8F9E-9C504C60B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voyrebenok.ru/images/presentation/nice/b/014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moluch.ru/archive/46/5746/" TargetMode="External"/><Relationship Id="rId4" Type="http://schemas.openxmlformats.org/officeDocument/2006/relationships/hyperlink" Target="http://www.originalsoap.ru/soap-history.s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84;&#1091;&#1079;&#1077;&#1081;%20&#1084;&#1099;&#1083;&#1072;.pdf" TargetMode="External"/><Relationship Id="rId3" Type="http://schemas.openxmlformats.org/officeDocument/2006/relationships/hyperlink" Target="file:///&#1089;&#1090;&#1080;&#1093;&#1080;,%20&#1087;&#1086;&#1089;&#1083;&#1086;&#1074;&#1080;&#1094;&#1099;.pdf" TargetMode="External"/><Relationship Id="rId4" Type="http://schemas.openxmlformats.org/officeDocument/2006/relationships/hyperlink" Target="file:///&#1073;&#1080;&#1073;&#1083;&#1080;&#1086;&#1090;&#1077;&#1082;&#1072;&#1088;&#1100;.pdf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ustom-train.com/anton/tzipi/wallpaper-powerpoint-free-i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&#1080;&#1085;&#1089;&#1090;&#1088;&#1091;&#1082;&#1090;&#1072;&#1078;%20&#1076;&#1083;&#1103;%20&#1088;&#1072;&#1073;&#1086;&#1090;&#1099;%20&#1089;%20&#1084;&#1099;&#1083;&#1086;&#1084;.pdf" TargetMode="External"/><Relationship Id="rId4" Type="http://schemas.openxmlformats.org/officeDocument/2006/relationships/hyperlink" Target="file:///&#1101;&#1089;&#1082;&#1080;&#1079;&#1099;%20&#1084;&#1099;&#1083;&#1072;.pdf" TargetMode="External"/><Relationship Id="rId5" Type="http://schemas.openxmlformats.org/officeDocument/2006/relationships/hyperlink" Target="file:///&#1076;&#1077;&#1083;&#1072;&#1077;&#1084;%20&#1084;&#1099;&#1083;&#1086;.pdf" TargetMode="Externa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80;&#1090;&#1086;&#1075;&#1086;&#1074;&#1099;&#1081;%20&#1090;&#1072;&#1085;&#1077;&#1094;%20&#1089;%20&#1087;&#1091;&#1079;&#1099;&#1088;&#1103;&#1084;&#1080;.pdf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89;&#1090;&#1077;&#1085;&#1075;&#1072;&#1079;&#1077;&#1090;&#1072;.pdf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4ff5fca2d975e_512xau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116000" y="1125360"/>
            <a:ext cx="723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ектная деяте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ащихся начальных классо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Да здравствует мыло душистое! 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для учащихся  3-4 классов  7 ВИДА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60600" y="25560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50920" y="351360"/>
            <a:ext cx="626580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е ресур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татья по коррекционному воспитанию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спользование игр и упражнений в коррекционной работе по формированию гигиенических навыков и навыков самообслуживания у младших школьников с нарушениями интеллек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нок Я. Я. Коррекционно-развивающие упражнения и игры// Дефектология.-1996.-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овец Г. Н. Личная гигиена младшего школьник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oluch.ru/archive/46/5746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стория появления мыл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originalsoap.ru/soap-history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стория и состав мыла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treeland.ru/article/eko/soaphome/fro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ак сделать мыло своими рукам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mirsovetov.ru/a/housing/make-myself/soap-handmad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Музей гигие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proartefestival.ru/2011/festival2011/projects/main-program2011/3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Мыло Арт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bambytoys.ru/d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Мультфильмы»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mults.info/mul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61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50920" y="1341360"/>
            <a:ext cx="828036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спорт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ско-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но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еднесрочный (4 нед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астники: учитель, воспитатель ГПД, родители, библиотекарь, медсестра, учитель ритмик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закрепление гигиенически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6372360" y="0"/>
            <a:ext cx="25765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374_html_m786ac09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24000" y="1787040"/>
            <a:ext cx="8026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накомить детей с историей появления и способами изготовления, видами и свойствами мы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здать совместно с родителями «Паспорт любимого мыл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планировать свою деятельность, прогнозировать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память, внимание, мышление,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работать с информацией: находить, перерабатывать, выделять гла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культуру взаимодействия внутри коллектива, побуждать к участию в речевом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навык оценивать свою деятельность и своего товар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wallpaper-powerpoint-free-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4"/>
          <p:cNvSpPr/>
          <p:nvPr/>
        </p:nvSpPr>
        <p:spPr>
          <a:xfrm>
            <a:off x="1116000" y="4046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26"/>
          <p:cNvSpPr txBox="1"/>
          <p:nvPr/>
        </p:nvSpPr>
        <p:spPr>
          <a:xfrm>
            <a:off x="179280" y="189000"/>
            <a:ext cx="8763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Распределение деятельности по этапам проекта</a:t>
            </a:r>
            <a:endParaRPr b="1" lang="en-US" sz="3200" spc="1" strike="noStrike">
              <a:ln w="3168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8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ы , погружение в проект. Мотивация деятельности дет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ы перед коллективом детей о том, что необходимо зн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читель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мультфильм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додыр», «Королева Зубная щёт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те попробуем создать свое мыло, какие знания для этого нам потребую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ы перед коллективом детей о том, что необходимо узнать откуда мыло появилось, из чего его делают, каким оно быва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ют решение найти материалы для решения проблемы, используя различные источники: посетить библиотеку, музей гигиены, изучить литературу по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Рисунок 7" descr=""/>
          <p:cNvPicPr/>
          <p:nvPr/>
        </p:nvPicPr>
        <p:blipFill>
          <a:blip r:embed="rId2"/>
          <a:stretch/>
        </p:blipFill>
        <p:spPr>
          <a:xfrm>
            <a:off x="1846440" y="3451320"/>
            <a:ext cx="2952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wallpaper-powerpoint-free-i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68360" y="189000"/>
          <a:ext cx="8496360" cy="6494400"/>
        </p:xfrm>
        <a:graphic>
          <a:graphicData uri="http://schemas.openxmlformats.org/drawingml/2006/table">
            <a:tbl>
              <a:tblPr/>
              <a:tblGrid>
                <a:gridCol w="1079280"/>
                <a:gridCol w="1973520"/>
                <a:gridCol w="1627200"/>
                <a:gridCol w="1871640"/>
                <a:gridCol w="1944720"/>
              </a:tblGrid>
              <a:tr h="5792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Орга-низация работы над проек-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, 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блиотек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ают 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Музей гигие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ают историю появления мыла, используя С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ают библиотеку: *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подбирают стихи, пословицы, поговорки и иллюстрации про мы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яют дома совместно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«Паспорт любимого мыл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где пишут название мыла, вид, назначение, состав, подбирают к нему пословицы, загадки, стих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Учит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аспределяет детей класса по группам, дает каждой группе задания: посетить Музей гигиены, изучить историю появления мыла и его состав, используя С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оспитатель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агает детям изучить дома мыло, которым они пользуются и составить совместно с родителями «Паспорт любимого мыл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Медсестра читает лек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о средствах гигиены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ие средства гигиены вы знает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мы пользуемся мыл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им мылом вы дома пользуетес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Библиотекар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ует и проводит занятие: предлагает детям на выбор загадки, пословицы и поговорки, стихи, рассказы по теме. Коллективный просмотр иллюстраций в книг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Рисунок 6" descr=""/>
          <p:cNvPicPr/>
          <p:nvPr/>
        </p:nvPicPr>
        <p:blipFill>
          <a:blip r:embed="rId5"/>
          <a:stretch/>
        </p:blipFill>
        <p:spPr>
          <a:xfrm>
            <a:off x="0" y="3659040"/>
            <a:ext cx="29527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wallpaper-powerpoint-free-i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15920"/>
          <a:ext cx="8229600" cy="648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деятельность к решению пробле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длагает детям придумать и нарисовать эскизы их будущего мы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проводит инструктаж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Б при работе с материалами, организует практическую работу по изготовлению мыла с использованием Творческого набора для создания уникального мыла «Мыло Ар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уждают каждый этап работы – алгоритм изготовления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 за правилами безопасности при рабо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ирует процес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ет практическую помощь в изготовлении мы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ети придумывают, *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рисуют эскизы мы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*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Ребята изготавливают мыл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спользуя одноразовые защитные перчатки, </a:t>
                      </a:r>
                      <a:r>
                        <a:rPr b="0" lang="ru-RU" sz="1400" spc="-1" strike="noStrike">
                          <a:solidFill>
                            <a:srgbClr val="000101"/>
                          </a:solidFill>
                          <a:latin typeface="Arial"/>
                        </a:rPr>
                        <a:t>основу для мыл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101"/>
                          </a:solidFill>
                          <a:latin typeface="Arial"/>
                        </a:rPr>
                        <a:t>емкость для растапливания мыла, красители, ароматизаторы, палочки для размешивания,4 формочки в виде различных фруктов, овощей, рыбок и т. д.: одевают перчатки, помещают основу мыла в емкость для растапливания, растапливают на водяной бане с помощью учителя, добавляют красители и ароматизаторы,  размешивают, заливают в формочки, оставляют застывать, вынимают из формочек, демонстрируют свою работу одноклассника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Рисунок 4" descr=""/>
          <p:cNvPicPr/>
          <p:nvPr/>
        </p:nvPicPr>
        <p:blipFill>
          <a:blip r:embed="rId6"/>
          <a:stretch/>
        </p:blipFill>
        <p:spPr>
          <a:xfrm>
            <a:off x="468360" y="3541680"/>
            <a:ext cx="2952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wallpaper-powerpoint-free-i1"/>
          <p:cNvPicPr/>
          <p:nvPr/>
        </p:nvPicPr>
        <p:blipFill>
          <a:blip r:embed="rId1"/>
          <a:stretch/>
        </p:blipFill>
        <p:spPr>
          <a:xfrm>
            <a:off x="-84240" y="-73080"/>
            <a:ext cx="9144000" cy="69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79280" y="189000"/>
          <a:ext cx="8589960" cy="640872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981080"/>
                <a:gridCol w="2863800"/>
              </a:tblGrid>
              <a:tr h="64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Презентация продукта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, воспитат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и воспитатель помогают готовить презентацию мыла и организовать для детей параллельных классов выставку своих работ с показом «Да здравствует мыло душистое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ритм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ит с детьми заключительный тане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презентации «Танец с мыльными пузырям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готовят и показывают выставку «Да здравствует мыло душистое!», где представляют «Паспорт любимого мыла», мыло, которое сделали своими руками, читают стихи, загадки, пословицы про мыло. В заключении исполняют для зрителей коллективный *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танец с мыльными пузыр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29527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allpaper-powerpoint-free-i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9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11280" y="9810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Рефлексия, подведение ито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и воспитател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одят итоги, анализируют с детьми проделанную рабо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тавят новую проблему: Что мы знаем о других средствах гигиен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едлагают включить в будущий проект детей параллельных клас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уждают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равившиеся работы, что интереснее было дела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стенгазе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проделанной рабо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ебята предлагают другим классам участие в новом мульти проекте по изучению других средств гигие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2952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лето"/>
          <p:cNvPicPr/>
          <p:nvPr/>
        </p:nvPicPr>
        <p:blipFill>
          <a:blip r:embed="rId1"/>
          <a:stretch/>
        </p:blipFill>
        <p:spPr>
          <a:xfrm>
            <a:off x="0" y="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1268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ботали над про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кова Еле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– логопед ГБСКОУ №609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гвардейского района Санкт – 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тоно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БСКОУ школа №439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дворцово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кт – Петербур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ляева Анастас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ГБСКОУ школ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а) №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ого района Санкт – 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ш Анастаси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 ГБСКОУ школа №34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ско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кт – 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12:01:30Z</dcterms:created>
  <dc:creator>user</dc:creator>
  <dc:description/>
  <dc:language>en-US</dc:language>
  <cp:lastModifiedBy>Igor</cp:lastModifiedBy>
  <dcterms:modified xsi:type="dcterms:W3CDTF">2013-06-25T13:11:17Z</dcterms:modified>
  <cp:revision>59</cp:revision>
  <dc:subject/>
  <dc:title>Слайд 1</dc:title>
</cp:coreProperties>
</file>