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75A-0071-4938-BB5A-BE227C38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7FA-DBC5-483C-8CD1-5859686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0A2-0BB9-406B-9026-E0C51D80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7DE-339C-4CBE-8EC9-4CCD3CC0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BE4-7680-40D2-9445-E302EB4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8DD-316C-4C92-B791-CB27F82F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E71-A53B-4BF9-8050-78AE6E25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C51-2236-4E0C-8C1C-12107349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FE1-4EAF-41E0-9919-F0247B0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61A-13F9-4B09-84A4-CD243997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2F0-CC1A-4CF8-BE88-B3D00440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330-7727-4514-AA81-AC39EF9B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2039-4819-4889-B039-09B85A98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0FC0-A219-4DC8-95F8-18FB1209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16B7-FA71-4530-8EE4-2E290FE7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7450-C883-40B3-82A6-5030F2F5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6D0-64A7-4E0D-A7B1-B5E8B923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0AAA-9E90-4A67-B0AE-609E3D94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1787-6661-4176-8749-DB54DC2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DE23-238B-455B-96A8-2D6FCCB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25A5-5DD5-4ADC-A6A6-1B2C7EA5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B36F-B012-410B-9DB4-7C82179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47D5-E6DA-4D17-BDC3-22E80F45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583C-4279-45A3-9D99-564F6DD6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F123-3F69-48D9-BA85-07BF44227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B0B-0EAD-4B7A-99E6-2CC3CC7FF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90;&#1088;&#1086;&#1083;&#1100;%20&#1079;&#1072;%20&#1074;&#1099;&#1087;&#1086;&#1083;&#1085;&#1077;&#1085;&#1080;&#1077;&#1084;%20&#1096;&#1082;&#1086;&#1083;&#1100;&#1085;&#1080;&#1082;&#1086;&#1084;%20&#1076;&#1086;&#1084;&#1072;&#1096;&#1085;&#1080;&#1093;%20&#1079;&#1072;&#1076;&#1072;&#1085;&#1080;&#1081;.doc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3284640"/>
            <a:ext cx="578664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Script"/>
              </a:rPr>
              <a:t>Роль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Segoe Script"/>
              </a:rPr>
              <a:t>домашнего задания в самообразовании школьника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786040" cy="2617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10844087"/>
          <p:cNvPicPr/>
          <p:nvPr/>
        </p:nvPicPr>
        <p:blipFill>
          <a:blip r:embed="rId2"/>
          <a:stretch/>
        </p:blipFill>
        <p:spPr>
          <a:xfrm>
            <a:off x="179280" y="260280"/>
            <a:ext cx="4753080" cy="2643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808356630"/>
          <p:cNvPicPr/>
          <p:nvPr/>
        </p:nvPicPr>
        <p:blipFill>
          <a:blip r:embed="rId3"/>
          <a:stretch/>
        </p:blipFill>
        <p:spPr>
          <a:xfrm>
            <a:off x="6012000" y="3645000"/>
            <a:ext cx="2808000" cy="2685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8240"/>
            <a:ext cx="8753760" cy="4621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34.jpg"/>
          <p:cNvPicPr/>
          <p:nvPr/>
        </p:nvPicPr>
        <p:blipFill>
          <a:blip r:embed="rId2"/>
          <a:stretch/>
        </p:blipFill>
        <p:spPr>
          <a:xfrm>
            <a:off x="0" y="100008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1500120" y="101520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ормирование исследовательских  умений ученика (сопоставление, сравнение, предположение, построение гипотезы и т.д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9720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домашнего задания.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619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"/>
              </a:rPr>
              <a:t>Выравнивание знаний и умений ребёнка, его навы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"/>
              </a:rPr>
              <a:t>Стимулирование познавательного интереса учащегося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"/>
              </a:rPr>
              <a:t>Развитие самостоятельности ученика, его усидчивости и ответственности за выполняемое учебное задание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50" name="Picture 8" descr="matem"/>
          <p:cNvPicPr/>
          <p:nvPr/>
        </p:nvPicPr>
        <p:blipFill>
          <a:blip r:embed="rId1"/>
          <a:stretch/>
        </p:blipFill>
        <p:spPr>
          <a:xfrm>
            <a:off x="6280200" y="3860640"/>
            <a:ext cx="2657520" cy="280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4" descr="34.jpg"/>
          <p:cNvPicPr/>
          <p:nvPr/>
        </p:nvPicPr>
        <p:blipFill>
          <a:blip r:embed="rId1"/>
          <a:stretch/>
        </p:blipFill>
        <p:spPr>
          <a:xfrm>
            <a:off x="0" y="2000160"/>
            <a:ext cx="2833560" cy="371484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4"/>
          <p:cNvSpPr/>
          <p:nvPr/>
        </p:nvSpPr>
        <p:spPr>
          <a:xfrm>
            <a:off x="785880" y="42876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се эти проблемы решаемы, необходимо только внимание и терпение взрос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370480" cy="2935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75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«Само воспитание, если оно желает счастья человеку, должно воспитывать его не для счастья, а приготовлять к труду жизни… Труд, конечно, бремя, но бремя, без которого возможное соединение человеческого достоинства и счастья невозможно»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55" name="Picture 5" descr="cdd3e0ab490839d55994210d4fa773c3_doman_method_big"/>
          <p:cNvPicPr/>
          <p:nvPr/>
        </p:nvPicPr>
        <p:blipFill>
          <a:blip r:embed="rId1"/>
          <a:stretch/>
        </p:blipFill>
        <p:spPr>
          <a:xfrm>
            <a:off x="5003640" y="4076640"/>
            <a:ext cx="3924360" cy="2610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6275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блема глазами учеников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6408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"/>
              </a:rPr>
              <a:t>Почему вам трудно выполнять домашнее задание?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"/>
              </a:rPr>
              <a:t>Что вам мешает дома?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"/>
              </a:rPr>
              <a:t>Что можно изменить?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58" name="Picture 5" descr="foto-chtenie-2"/>
          <p:cNvPicPr/>
          <p:nvPr/>
        </p:nvPicPr>
        <p:blipFill>
          <a:blip r:embed="rId1"/>
          <a:stretch/>
        </p:blipFill>
        <p:spPr>
          <a:xfrm>
            <a:off x="4859280" y="2205000"/>
            <a:ext cx="4129200" cy="2747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index2"/>
          <p:cNvPicPr/>
          <p:nvPr/>
        </p:nvPicPr>
        <p:blipFill>
          <a:blip r:embed="rId2"/>
          <a:stretch/>
        </p:blipFill>
        <p:spPr>
          <a:xfrm>
            <a:off x="179280" y="3284640"/>
            <a:ext cx="4105440" cy="2728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59720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ременные рамки домашней работы школьников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79280" y="1773360"/>
          <a:ext cx="5400720" cy="4535280"/>
        </p:xfrm>
        <a:graphic>
          <a:graphicData uri="http://schemas.openxmlformats.org/drawingml/2006/table">
            <a:tbl>
              <a:tblPr/>
              <a:tblGrid>
                <a:gridCol w="2293920"/>
                <a:gridCol w="3106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1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2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3-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5-6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7-8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9-11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2" name="Picture 30" descr="img4"/>
          <p:cNvPicPr/>
          <p:nvPr/>
        </p:nvPicPr>
        <p:blipFill>
          <a:blip r:embed="rId1"/>
          <a:stretch/>
        </p:blipFill>
        <p:spPr>
          <a:xfrm>
            <a:off x="5867280" y="3500280"/>
            <a:ext cx="2946600" cy="2946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9720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ребенок не укладывается в отведенное время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работает нерационально;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нет условий для занятий;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испытывает трудности;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дозировка домашнего задания превышает норму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65" name="Picture 5" descr="0_41113_cd5ff7de_XL"/>
          <p:cNvPicPr/>
          <p:nvPr/>
        </p:nvPicPr>
        <p:blipFill>
          <a:blip r:embed="rId1"/>
          <a:stretch/>
        </p:blipFill>
        <p:spPr>
          <a:xfrm>
            <a:off x="5292720" y="3860640"/>
            <a:ext cx="3265560" cy="2857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4087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анкетирования детей.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Большинство школьников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83 %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считают, что выполнять домашние задания необходимо,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17 %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относятся к ним отрицательно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42 %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школьников выполняют домашнее задание всегда,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33 %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- выполняют по мере своих сил и способностей и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25 %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не всегда выполняют домашнее задание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При выполнении домашних заданий школьники испытывают трудности от: непонимания темы по предмету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42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собственной лени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25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усталости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17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большого объема заданий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8%)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Наиболее трудными предметами дети считают: немецкий язык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50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русский язык и физику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33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литературу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25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математику, химию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17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биологию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8 %)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При выполнении домашних заданий детям помогают: родители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67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одноклассники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17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бабушка, учитель,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8 %)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Большинство родителей не ругают своих детей за невыполненные домашние задания, вследствие непонимания темы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92 %)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Учителя, чаще всего ругают за невыполненное домашнее задание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58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обсуждают на уроке домашнее задание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92 %),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поощряют школьников за  выполненное домашнее задание хорошей оценкой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83 %)</a:t>
            </a:r>
            <a:r>
              <a:rPr b="0" lang="ru-RU" sz="1800" spc="-1" strike="noStrike">
                <a:solidFill>
                  <a:srgbClr val="000000"/>
                </a:solidFill>
                <a:latin typeface="Segoe"/>
              </a:rPr>
              <a:t> или одобрительными словами </a:t>
            </a:r>
            <a:r>
              <a:rPr b="1" i="1" lang="ru-RU" sz="1800" spc="-1" strike="noStrike">
                <a:solidFill>
                  <a:srgbClr val="000000"/>
                </a:solidFill>
                <a:latin typeface="Segoe"/>
              </a:rPr>
              <a:t>(17 %)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0200" y="428760"/>
            <a:ext cx="6886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Как помочь ребенку в подготовке домашнего задания?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9" name="Рисунок 5" descr="12.jpg"/>
          <p:cNvPicPr/>
          <p:nvPr/>
        </p:nvPicPr>
        <p:blipFill>
          <a:blip r:embed="rId2"/>
          <a:stretch/>
        </p:blipFill>
        <p:spPr>
          <a:xfrm>
            <a:off x="6877080" y="2708280"/>
            <a:ext cx="1595520" cy="3357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mokey3"/>
          <p:cNvPicPr/>
          <p:nvPr/>
        </p:nvPicPr>
        <p:blipFill>
          <a:blip r:embed="rId3"/>
          <a:stretch/>
        </p:blipFill>
        <p:spPr>
          <a:xfrm>
            <a:off x="539640" y="2637000"/>
            <a:ext cx="3537000" cy="374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561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комендации «Садимся за уроки»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Садимся за уроки всегда в одно и то же время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Проветриваем комнату до начала занятий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Выключи телевизор, компьютер. 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Уточни расписание уроков на завтра. Проверь, все ли задания записаны в дневнике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Приготовь все принадлежности, положи их на определенные места на столе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Убери со стола все лишнее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Placeholder 3" descr="111111.jpg"/>
          <p:cNvPicPr/>
          <p:nvPr/>
        </p:nvPicPr>
        <p:blipFill>
          <a:blip r:embed="rId1"/>
          <a:stretch/>
        </p:blipFill>
        <p:spPr>
          <a:xfrm>
            <a:off x="285840" y="857160"/>
            <a:ext cx="885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9" name="Рисунок 4" descr="34.jpg"/>
          <p:cNvPicPr/>
          <p:nvPr/>
        </p:nvPicPr>
        <p:blipFill>
          <a:blip r:embed="rId2"/>
          <a:stretch/>
        </p:blipFill>
        <p:spPr>
          <a:xfrm>
            <a:off x="0" y="2000160"/>
            <a:ext cx="2552760" cy="37735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 flipV="1" rot="10800000">
            <a:off x="571680" y="1197720"/>
            <a:ext cx="82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наши дети хотят быть людьми, в самом деле, образованными, они должны приобретать образование самостоятельными занят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6"/>
          <p:cNvSpPr/>
          <p:nvPr/>
        </p:nvSpPr>
        <p:spPr>
          <a:xfrm>
            <a:off x="2643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Arial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мендации родителям по контрол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ыполнением школьником домашних заданий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75" name="Picture 7" descr="meditatii"/>
          <p:cNvPicPr/>
          <p:nvPr/>
        </p:nvPicPr>
        <p:blipFill>
          <a:blip r:embed="rId1"/>
          <a:stretch/>
        </p:blipFill>
        <p:spPr>
          <a:xfrm>
            <a:off x="2050920" y="3500280"/>
            <a:ext cx="4681800" cy="3122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bloknot"/>
          <p:cNvPicPr/>
          <p:nvPr/>
        </p:nvPicPr>
        <p:blipFill>
          <a:blip r:embed="rId2"/>
          <a:stretch/>
        </p:blipFill>
        <p:spPr>
          <a:xfrm>
            <a:off x="7236000" y="189000"/>
            <a:ext cx="1649160" cy="2133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360360"/>
            <a:ext cx="8747280" cy="53514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"/>
          <p:cNvSpPr/>
          <p:nvPr/>
        </p:nvSpPr>
        <p:spPr>
          <a:xfrm>
            <a:off x="357120" y="805680"/>
            <a:ext cx="84297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a452a"/>
                </a:solidFill>
                <a:latin typeface="Arial"/>
                <a:ea typeface="Times New Roman"/>
              </a:rPr>
              <a:t>Занятие в школе может только  доставить ограниченному рассудку  и как бы вдолбить  в него  все правила, добытые чужим пониманием, но способность правильно пользоваться ими  разовьет только домашний самостоятельный труд</a:t>
            </a: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.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4a452a"/>
                </a:solidFill>
                <a:latin typeface="Arial"/>
                <a:ea typeface="Times New Roman"/>
              </a:rPr>
              <a:t>И.К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785960" y="500040"/>
            <a:ext cx="71438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Segoe"/>
              </a:rPr>
              <a:t>	</a:t>
            </a:r>
            <a:r>
              <a:rPr b="1" i="1" lang="ru-RU" sz="6600" spc="-1" strike="noStrike">
                <a:solidFill>
                  <a:srgbClr val="c00000"/>
                </a:solidFill>
                <a:latin typeface="Segoe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4500720" y="3500280"/>
            <a:ext cx="22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4643280" y="4357800"/>
            <a:ext cx="27147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rodit_sobr"/>
          <p:cNvPicPr/>
          <p:nvPr/>
        </p:nvPicPr>
        <p:blipFill>
          <a:blip r:embed="rId1"/>
          <a:stretch/>
        </p:blipFill>
        <p:spPr>
          <a:xfrm>
            <a:off x="395280" y="3068640"/>
            <a:ext cx="2538360" cy="338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Segoe Script"/>
              </a:rPr>
              <a:t>Д.И Писарев</a:t>
            </a: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23" name="Picture Placeholder 5" descr="111111.jpg"/>
          <p:cNvPicPr/>
          <p:nvPr/>
        </p:nvPicPr>
        <p:blipFill>
          <a:blip r:embed="rId1"/>
          <a:stretch/>
        </p:blipFill>
        <p:spPr>
          <a:xfrm>
            <a:off x="-219240" y="981000"/>
            <a:ext cx="9582480" cy="38228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4" descr="34.jpg"/>
          <p:cNvPicPr/>
          <p:nvPr/>
        </p:nvPicPr>
        <p:blipFill>
          <a:blip r:embed="rId2"/>
          <a:stretch/>
        </p:blipFill>
        <p:spPr>
          <a:xfrm>
            <a:off x="357120" y="-1000080"/>
            <a:ext cx="2214720" cy="32734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286080"/>
            <a:ext cx="1928880" cy="23763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7"/>
          <p:cNvSpPr/>
          <p:nvPr/>
        </p:nvSpPr>
        <p:spPr>
          <a:xfrm>
            <a:off x="0" y="2009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составляется из мелких крупинок ежедневного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516720" cy="564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0000"/>
                </a:solidFill>
                <a:uFillTx/>
                <a:latin typeface="Segoe Script"/>
              </a:rPr>
              <a:t>Задачи собрания: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Segoe Script"/>
              </a:rPr>
              <a:t>1.Показать  родителям знач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мость выполнения учащимися </a:t>
            </a:r>
            <a:r>
              <a:rPr b="1" lang="ru-RU" sz="2300" spc="-1" strike="noStrike">
                <a:solidFill>
                  <a:srgbClr val="000000"/>
                </a:solidFill>
                <a:latin typeface="Segoe Script"/>
              </a:rPr>
              <a:t>домашн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1" lang="ru-RU" sz="2300" spc="-1" strike="noStrike">
                <a:solidFill>
                  <a:srgbClr val="000000"/>
                </a:solidFill>
                <a:latin typeface="Segoe Script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заданий</a:t>
            </a:r>
            <a:r>
              <a:rPr b="1" lang="ru-RU" sz="2300" spc="-1" strike="noStrike">
                <a:solidFill>
                  <a:srgbClr val="000000"/>
                </a:solidFill>
                <a:latin typeface="Segoe Script"/>
              </a:rPr>
              <a:t>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Segoe Script"/>
              </a:rPr>
              <a:t>2.Обсудить проблемы подготовки домашних заданий учащимися класса, определить  возможные пути  решения  данной проблемы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Segoe Script"/>
              </a:rPr>
              <a:t>3. Предложить  родителям рекомендации по контролю выполнения домашних заданий школьником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Segoe Script"/>
              </a:rPr>
              <a:t>4.Дать рекомендации родителям по организации самообразования школьника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Segoe"/>
              </a:rPr>
              <a:t>«Не опекайте меня, не ходите за мной, не связывайте каждый мой шаг, не свивайте меня пеленками присмотра и недоверия, не напоминайте и словом о моей колыбели. Я самостоятельный человек. Я не хочу, чтобы меня вели за руку. Передо мной высокая гора. Это цель моей жизни. Я вижу ее, думаю о ней, хочу достичь ее, но взойти на эту вершину хочу самостоятельно. Я уже поднимаюсь, делаю первые шаги. И чем выше ступает моя нога, тем более широкий горизонт открывается мне, тем больше я вижу людей, тем больше познаю их, тем больше людей видят меня. От величин и безграничности того, что мне открывается, делается страшно. Мне необходима поддержка старшего друга. Я достигну своей вершины, если буду опираться на плечо сильного и мудрого человека. Но мне стыдно и боязно сказать об этом. Мне хочется, чтобы все считали, что я самостоятельно, своими силами доберусь до вершины».</a:t>
            </a:r>
            <a:endParaRPr b="0" lang="en-US" sz="2700" spc="-1" strike="noStrike">
              <a:solidFill>
                <a:srgbClr val="000000"/>
              </a:solidFill>
              <a:latin typeface="Segoe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"/>
              </a:rPr>
              <a:t>В.А. Сухомлинский</a:t>
            </a: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Placeholder 6" descr="111111.jpg"/>
          <p:cNvPicPr/>
          <p:nvPr/>
        </p:nvPicPr>
        <p:blipFill>
          <a:blip r:embed="rId1"/>
          <a:stretch/>
        </p:blipFill>
        <p:spPr>
          <a:xfrm>
            <a:off x="291960" y="512640"/>
            <a:ext cx="7632720" cy="967896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3" descr="106.png"/>
          <p:cNvPicPr/>
          <p:nvPr/>
        </p:nvPicPr>
        <p:blipFill>
          <a:blip r:embed="rId2"/>
          <a:stretch/>
        </p:blipFill>
        <p:spPr>
          <a:xfrm>
            <a:off x="7236000" y="4941720"/>
            <a:ext cx="1643040" cy="1714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642960" y="6634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Times New Roman"/>
              </a:rPr>
              <a:t>«Фактически постепенно должна стираться грань между классными, домашними заданиями с переходом к непрерывной, индивидуальной самостоятельной учебной деятельности школьни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57320" y="2130120"/>
            <a:ext cx="56005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285720" y="3571560"/>
            <a:ext cx="46292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Segoe Script"/>
            </a:endParaRPr>
          </a:p>
        </p:txBody>
      </p:sp>
      <p:pic>
        <p:nvPicPr>
          <p:cNvPr id="335" name="Picture Placeholder 2" descr="111111.jpg"/>
          <p:cNvPicPr/>
          <p:nvPr/>
        </p:nvPicPr>
        <p:blipFill>
          <a:blip r:embed="rId1"/>
          <a:stretch/>
        </p:blipFill>
        <p:spPr>
          <a:xfrm>
            <a:off x="2651040" y="384120"/>
            <a:ext cx="6602400" cy="3529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2571840" y="100548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  <a:ea typeface="Calibri"/>
              </a:rPr>
              <a:t>Назначение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7" descr="14.jpg"/>
          <p:cNvPicPr/>
          <p:nvPr/>
        </p:nvPicPr>
        <p:blipFill>
          <a:blip r:embed="rId2"/>
          <a:srcRect l="9788" t="0" r="0" b="18157"/>
          <a:stretch/>
        </p:blipFill>
        <p:spPr>
          <a:xfrm rot="20953200">
            <a:off x="444240" y="445680"/>
            <a:ext cx="1927080" cy="18972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6.jpg"/>
          <p:cNvPicPr/>
          <p:nvPr/>
        </p:nvPicPr>
        <p:blipFill>
          <a:blip r:embed="rId3"/>
          <a:stretch/>
        </p:blipFill>
        <p:spPr>
          <a:xfrm>
            <a:off x="4211640" y="3716280"/>
            <a:ext cx="3832200" cy="2654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8240"/>
            <a:ext cx="8753760" cy="46213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34.jpg"/>
          <p:cNvPicPr/>
          <p:nvPr/>
        </p:nvPicPr>
        <p:blipFill>
          <a:blip r:embed="rId2"/>
          <a:stretch/>
        </p:blipFill>
        <p:spPr>
          <a:xfrm>
            <a:off x="0" y="185724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1285920" y="101268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Воспитание волевых усилий ребенка и самостоятельности, его усидчивости и  ответственности за выполняемое учебн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835200"/>
            <a:ext cx="8753760" cy="46209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34.jpg"/>
          <p:cNvPicPr/>
          <p:nvPr/>
        </p:nvPicPr>
        <p:blipFill>
          <a:blip r:embed="rId2"/>
          <a:stretch/>
        </p:blipFill>
        <p:spPr>
          <a:xfrm>
            <a:off x="0" y="-107172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1785960" y="1358280"/>
            <a:ext cx="70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владение навыками учебного труда, выраженное в различных способах учебно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Формирование умения добывать  необходимую информацию из различных  справочников, пособий, слов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9:53:55Z</dcterms:created>
  <dc:creator>Юлия Николаевна</dc:creator>
  <dc:description>Корпорация Майкрософт</dc:description>
  <cp:keywords>Фотоальбом</cp:keywords>
  <dc:language>en-US</dc:language>
  <cp:lastModifiedBy>Kseniya</cp:lastModifiedBy>
  <dcterms:modified xsi:type="dcterms:W3CDTF">2001-12-31T21:19:31Z</dcterms:modified>
  <cp:revision>109</cp:revision>
  <dc:subject>Фотоальбом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