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239D8C-26A9-441A-BE86-E9AD248A2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Num" idx="1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2DB43D-63E6-4F99-BFA4-7C757919C1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Num" idx="2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E7A20C-5887-48EE-A468-3BB272A255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Num" idx="2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28B1CC-D3BB-47AB-BEAC-6211DAA2CE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4B7CF-EFC2-497E-9BAD-D7698A8975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07BC2E-7FC2-4FA9-BC25-2BC0231E02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3B27A-F3EF-41F5-A786-F78A6F7ADA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C45D35-4049-4C6E-9934-9B26B18B65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31CCA0-0B26-421D-B59D-A9B8D3EAD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Num" idx="1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B51063-24E5-4CA9-96BC-7CC462D0E4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104-C65C-46B5-8AF4-C89857E1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DA1-12C3-45DA-82A4-9CB111FA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98F-F9B0-435B-BA09-DFC1B49A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753-20ED-4C75-964B-6D767B7F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A676-D992-4C71-9FCE-82BA7D25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3E98-6A9C-4BFD-A501-9DF7B97A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DBFC-E53B-409D-9251-56F972D7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AE1B-67D1-49F9-A267-B5ACBAA3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A2F3-4300-4F64-B137-CE5B39E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600"/>
            <a:ext cx="74908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2FAD-C77F-4AAC-829F-988944D6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337-5E1D-4618-81F9-E4606A89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29D-BDAD-4632-B69F-7471169B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6F75-F946-4CB2-9AAB-2E74337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9DD-FC35-4FB2-B684-06141C4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3F9C-C08C-4985-9A05-FFFA1D2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3D8D-9230-4314-821F-5767CE6A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A88D-5B08-482E-AEB4-D1905753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5949-6393-45E5-B1B5-7ACDFE05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104E-9BAB-4251-85BC-B2182A7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DB36-C6DB-4477-95AF-48CA5FA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4F10-7F0A-4107-9E24-02FC7F4C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2861-D416-4981-AD7E-F92EC051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EBA-0011-4FCA-8EA9-EB33096D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500120" y="228600"/>
            <a:ext cx="74908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370B-676E-4735-9FEB-2103FAEA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02A8-5419-41CA-B1E1-F32E9AD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49DC-EADE-4D7F-A786-C7047C8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D81E-92AC-4FC7-AF34-50F1F01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3971-8341-477C-A96C-E1F3447D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665F-5D1F-4A9A-BA9F-5FA0D906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D2CA-94FE-4E17-B8EF-532B92E5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91F-8EE0-4634-92BC-232B14D7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830-698C-4C4C-8267-E0EDE705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500120" y="228600"/>
            <a:ext cx="74908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99B-BA2F-4444-818B-B4781C17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FEF-FA0C-4CAE-92E7-C1FF781C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9FD-E156-4F14-8334-9AC1345E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4C5-233D-4984-B821-19D754F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000" cy="6878160"/>
            <a:chOff x="0" y="-9360"/>
            <a:chExt cx="1557000" cy="687816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3640" cy="34300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480" cy="6220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000" cy="9126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364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3680" cy="2361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000" cy="9108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080" cy="4662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000" cy="6856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360" cy="685620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360" cy="685620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38520" y="1380960"/>
            <a:ext cx="6252840" cy="23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dt" idx="1"/>
          </p:nvPr>
        </p:nvSpPr>
        <p:spPr>
          <a:xfrm>
            <a:off x="2743200" y="5410080"/>
            <a:ext cx="62481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" name="Group 5"/>
          <p:cNvGrpSpPr/>
          <p:nvPr/>
        </p:nvGrpSpPr>
        <p:grpSpPr>
          <a:xfrm>
            <a:off x="0" y="0"/>
            <a:ext cx="1557000" cy="6878160"/>
            <a:chOff x="0" y="0"/>
            <a:chExt cx="1557000" cy="6878160"/>
          </a:xfrm>
        </p:grpSpPr>
        <p:sp>
          <p:nvSpPr>
            <p:cNvPr id="33" name="Rectangle 6"/>
            <p:cNvSpPr/>
            <p:nvPr/>
          </p:nvSpPr>
          <p:spPr>
            <a:xfrm>
              <a:off x="719280" y="342432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" name="Rectangle 7"/>
            <p:cNvSpPr/>
            <p:nvPr/>
          </p:nvSpPr>
          <p:spPr>
            <a:xfrm>
              <a:off x="0" y="342432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" name="Rectangle 8"/>
            <p:cNvSpPr/>
            <p:nvPr/>
          </p:nvSpPr>
          <p:spPr>
            <a:xfrm>
              <a:off x="352440" y="342432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" name="Rectangle 9"/>
            <p:cNvSpPr/>
            <p:nvPr/>
          </p:nvSpPr>
          <p:spPr>
            <a:xfrm>
              <a:off x="900000" y="3438360"/>
              <a:ext cx="323640" cy="34300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Freeform 10"/>
            <p:cNvSpPr/>
            <p:nvPr/>
          </p:nvSpPr>
          <p:spPr>
            <a:xfrm>
              <a:off x="352440" y="419400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Freeform 11"/>
            <p:cNvSpPr/>
            <p:nvPr/>
          </p:nvSpPr>
          <p:spPr>
            <a:xfrm>
              <a:off x="352440" y="462600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" name="Freeform 12"/>
            <p:cNvSpPr/>
            <p:nvPr/>
          </p:nvSpPr>
          <p:spPr>
            <a:xfrm>
              <a:off x="352440" y="503388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" name="Freeform 13"/>
            <p:cNvSpPr/>
            <p:nvPr/>
          </p:nvSpPr>
          <p:spPr>
            <a:xfrm>
              <a:off x="352440" y="543888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" name="Freeform 14"/>
            <p:cNvSpPr/>
            <p:nvPr/>
          </p:nvSpPr>
          <p:spPr>
            <a:xfrm>
              <a:off x="352440" y="584676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Freeform 15"/>
            <p:cNvSpPr/>
            <p:nvPr/>
          </p:nvSpPr>
          <p:spPr>
            <a:xfrm>
              <a:off x="477720" y="6251400"/>
              <a:ext cx="420480" cy="6220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Freeform 16"/>
            <p:cNvSpPr/>
            <p:nvPr/>
          </p:nvSpPr>
          <p:spPr>
            <a:xfrm>
              <a:off x="352440" y="376560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" name="Freeform 17"/>
            <p:cNvSpPr/>
            <p:nvPr/>
          </p:nvSpPr>
          <p:spPr>
            <a:xfrm>
              <a:off x="352440" y="3424320"/>
              <a:ext cx="549000" cy="9126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" name="Rectangle 18"/>
            <p:cNvSpPr/>
            <p:nvPr/>
          </p:nvSpPr>
          <p:spPr>
            <a:xfrm>
              <a:off x="719280" y="468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" name="Rectangle 19"/>
            <p:cNvSpPr/>
            <p:nvPr/>
          </p:nvSpPr>
          <p:spPr>
            <a:xfrm>
              <a:off x="0" y="468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" name="Rectangle 20"/>
            <p:cNvSpPr/>
            <p:nvPr/>
          </p:nvSpPr>
          <p:spPr>
            <a:xfrm>
              <a:off x="352440" y="468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900000" y="4680"/>
              <a:ext cx="32364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" name="Freeform 22"/>
            <p:cNvSpPr/>
            <p:nvPr/>
          </p:nvSpPr>
          <p:spPr>
            <a:xfrm>
              <a:off x="352440" y="79848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" name="Freeform 23"/>
            <p:cNvSpPr/>
            <p:nvPr/>
          </p:nvSpPr>
          <p:spPr>
            <a:xfrm>
              <a:off x="352440" y="120636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" name="Freeform 24"/>
            <p:cNvSpPr/>
            <p:nvPr/>
          </p:nvSpPr>
          <p:spPr>
            <a:xfrm>
              <a:off x="352440" y="161280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" name="Freeform 25"/>
            <p:cNvSpPr/>
            <p:nvPr/>
          </p:nvSpPr>
          <p:spPr>
            <a:xfrm>
              <a:off x="352440" y="201924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352440" y="242568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" name="Freeform 27"/>
            <p:cNvSpPr/>
            <p:nvPr/>
          </p:nvSpPr>
          <p:spPr>
            <a:xfrm>
              <a:off x="347760" y="6642000"/>
              <a:ext cx="553680" cy="2361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" name="Freeform 28"/>
            <p:cNvSpPr/>
            <p:nvPr/>
          </p:nvSpPr>
          <p:spPr>
            <a:xfrm>
              <a:off x="352440" y="34452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" name="Freeform 29"/>
            <p:cNvSpPr/>
            <p:nvPr/>
          </p:nvSpPr>
          <p:spPr>
            <a:xfrm>
              <a:off x="352440" y="4680"/>
              <a:ext cx="549000" cy="9108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" name="Freeform 30"/>
            <p:cNvSpPr/>
            <p:nvPr/>
          </p:nvSpPr>
          <p:spPr>
            <a:xfrm>
              <a:off x="355680" y="0"/>
              <a:ext cx="244080" cy="4662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" name="Freeform 31"/>
            <p:cNvSpPr/>
            <p:nvPr/>
          </p:nvSpPr>
          <p:spPr>
            <a:xfrm>
              <a:off x="352440" y="286056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" name="Rectangle 32"/>
            <p:cNvSpPr/>
            <p:nvPr/>
          </p:nvSpPr>
          <p:spPr>
            <a:xfrm>
              <a:off x="1224000" y="9360"/>
              <a:ext cx="333000" cy="6856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>
              <a:off x="214200" y="9360"/>
              <a:ext cx="360" cy="685656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>
              <a:off x="1023840" y="9360"/>
              <a:ext cx="360" cy="685656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62" name="Group 35"/>
          <p:cNvGrpSpPr/>
          <p:nvPr/>
        </p:nvGrpSpPr>
        <p:grpSpPr>
          <a:xfrm>
            <a:off x="523800" y="1428840"/>
            <a:ext cx="2095200" cy="2095200"/>
            <a:chOff x="523800" y="1428840"/>
            <a:chExt cx="2095200" cy="2095200"/>
          </a:xfrm>
        </p:grpSpPr>
        <p:sp>
          <p:nvSpPr>
            <p:cNvPr id="63" name="Rectangle 36"/>
            <p:cNvSpPr/>
            <p:nvPr/>
          </p:nvSpPr>
          <p:spPr>
            <a:xfrm>
              <a:off x="1547640" y="1428840"/>
              <a:ext cx="1071360" cy="2095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64" name="Group 37"/>
            <p:cNvGrpSpPr/>
            <p:nvPr/>
          </p:nvGrpSpPr>
          <p:grpSpPr>
            <a:xfrm>
              <a:off x="523800" y="1611360"/>
              <a:ext cx="1712160" cy="1682640"/>
              <a:chOff x="523800" y="1611360"/>
              <a:chExt cx="1712160" cy="1682640"/>
            </a:xfrm>
          </p:grpSpPr>
          <p:grpSp>
            <p:nvGrpSpPr>
              <p:cNvPr id="65" name="Group 38"/>
              <p:cNvGrpSpPr/>
              <p:nvPr/>
            </p:nvGrpSpPr>
            <p:grpSpPr>
              <a:xfrm>
                <a:off x="523800" y="1611360"/>
                <a:ext cx="1712160" cy="1682640"/>
                <a:chOff x="523800" y="1611360"/>
                <a:chExt cx="1712160" cy="1682640"/>
              </a:xfrm>
            </p:grpSpPr>
            <p:grpSp>
              <p:nvGrpSpPr>
                <p:cNvPr id="66" name="Group 39"/>
                <p:cNvGrpSpPr/>
                <p:nvPr/>
              </p:nvGrpSpPr>
              <p:grpSpPr>
                <a:xfrm>
                  <a:off x="523800" y="1611360"/>
                  <a:ext cx="1712160" cy="1682640"/>
                  <a:chOff x="523800" y="1611360"/>
                  <a:chExt cx="1712160" cy="1682640"/>
                </a:xfrm>
              </p:grpSpPr>
              <p:sp>
                <p:nvSpPr>
                  <p:cNvPr id="67" name="Rectangle 40"/>
                  <p:cNvSpPr/>
                  <p:nvPr/>
                </p:nvSpPr>
                <p:spPr>
                  <a:xfrm>
                    <a:off x="528480" y="3032280"/>
                    <a:ext cx="170460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Rectangle 41"/>
                  <p:cNvSpPr/>
                  <p:nvPr/>
                </p:nvSpPr>
                <p:spPr>
                  <a:xfrm>
                    <a:off x="528480" y="1611360"/>
                    <a:ext cx="170460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AutoShape 42"/>
                  <p:cNvSpPr/>
                  <p:nvPr/>
                </p:nvSpPr>
                <p:spPr>
                  <a:xfrm flipV="1" rot="5400000">
                    <a:off x="-144360" y="2295720"/>
                    <a:ext cx="1631520" cy="294840"/>
                  </a:xfrm>
                  <a:custGeom>
                    <a:avLst/>
                    <a:gdLst>
                      <a:gd name="textAreaLeft" fmla="*/ 235800 w 1631520"/>
                      <a:gd name="textAreaRight" fmla="*/ 1395720 w 1631520"/>
                      <a:gd name="textAreaTop" fmla="*/ 42480 h 294840"/>
                      <a:gd name="textAreaBottom" fmla="*/ 252360 h 294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AutoShape 43"/>
                  <p:cNvSpPr/>
                  <p:nvPr/>
                </p:nvSpPr>
                <p:spPr>
                  <a:xfrm flipH="1" flipV="1" rot="16200000">
                    <a:off x="1272240" y="2279880"/>
                    <a:ext cx="1631520" cy="294840"/>
                  </a:xfrm>
                  <a:custGeom>
                    <a:avLst/>
                    <a:gdLst>
                      <a:gd name="textAreaLeft" fmla="*/ 235800 w 1631520"/>
                      <a:gd name="textAreaRight" fmla="*/ 1395720 w 1631520"/>
                      <a:gd name="textAreaTop" fmla="*/ 42480 h 294840"/>
                      <a:gd name="textAreaBottom" fmla="*/ 252360 h 294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" name="Rectangle 44"/>
                <p:cNvSpPr/>
                <p:nvPr/>
              </p:nvSpPr>
              <p:spPr>
                <a:xfrm>
                  <a:off x="687240" y="1763640"/>
                  <a:ext cx="1387080" cy="137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45"/>
                <p:cNvSpPr/>
                <p:nvPr/>
              </p:nvSpPr>
              <p:spPr>
                <a:xfrm>
                  <a:off x="768240" y="1857240"/>
                  <a:ext cx="122508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endParaRPr b="0" lang="ru-RU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46"/>
                <p:cNvSpPr/>
                <p:nvPr/>
              </p:nvSpPr>
              <p:spPr>
                <a:xfrm>
                  <a:off x="887400" y="1969920"/>
                  <a:ext cx="987120" cy="96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endParaRPr b="0" lang="ru-RU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Oval 47"/>
                <p:cNvSpPr/>
                <p:nvPr/>
              </p:nvSpPr>
              <p:spPr>
                <a:xfrm>
                  <a:off x="990720" y="2068560"/>
                  <a:ext cx="780840" cy="76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endParaRPr b="0" lang="ru-RU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Group 48"/>
              <p:cNvGrpSpPr/>
              <p:nvPr/>
            </p:nvGrpSpPr>
            <p:grpSpPr>
              <a:xfrm>
                <a:off x="1006560" y="2135160"/>
                <a:ext cx="709200" cy="637920"/>
                <a:chOff x="1006560" y="2135160"/>
                <a:chExt cx="709200" cy="637920"/>
              </a:xfrm>
            </p:grpSpPr>
            <p:sp>
              <p:nvSpPr>
                <p:cNvPr id="76" name="Arc 49"/>
                <p:cNvSpPr/>
                <p:nvPr/>
              </p:nvSpPr>
              <p:spPr>
                <a:xfrm>
                  <a:off x="1359000" y="2236680"/>
                  <a:ext cx="53640" cy="45684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Arc 50"/>
                <p:cNvSpPr/>
                <p:nvPr/>
              </p:nvSpPr>
              <p:spPr>
                <a:xfrm>
                  <a:off x="1312920" y="2236680"/>
                  <a:ext cx="53640" cy="45684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AutoShape 51"/>
                <p:cNvSpPr/>
                <p:nvPr/>
              </p:nvSpPr>
              <p:spPr>
                <a:xfrm>
                  <a:off x="1266840" y="2689200"/>
                  <a:ext cx="193320" cy="8388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52"/>
                <p:cNvSpPr/>
                <p:nvPr/>
              </p:nvSpPr>
              <p:spPr>
                <a:xfrm>
                  <a:off x="1006560" y="2328840"/>
                  <a:ext cx="350640" cy="36468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4680"/>
                    <a:gd name="textAreaBottom" fmla="*/ 365040 h 36468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53"/>
                <p:cNvSpPr/>
                <p:nvPr/>
              </p:nvSpPr>
              <p:spPr>
                <a:xfrm>
                  <a:off x="1363680" y="2328840"/>
                  <a:ext cx="352080" cy="36468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364680"/>
                    <a:gd name="textAreaBottom" fmla="*/ 365040 h 36468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Oval 54"/>
                <p:cNvSpPr/>
                <p:nvPr/>
              </p:nvSpPr>
              <p:spPr>
                <a:xfrm>
                  <a:off x="1316160" y="2135160"/>
                  <a:ext cx="88560" cy="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endParaRPr b="0" lang="ru-RU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733920" y="63244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3C6C2B-8331-4CA1-A926-DB59A2D0C55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-9360"/>
            <a:ext cx="1557000" cy="6878160"/>
            <a:chOff x="0" y="-9360"/>
            <a:chExt cx="1557000" cy="6878160"/>
          </a:xfrm>
        </p:grpSpPr>
        <p:sp>
          <p:nvSpPr>
            <p:cNvPr id="122" name="Rectangle 3"/>
            <p:cNvSpPr/>
            <p:nvPr/>
          </p:nvSpPr>
          <p:spPr>
            <a:xfrm>
              <a:off x="719280" y="341460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0" y="341460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352440" y="341460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900000" y="3429000"/>
              <a:ext cx="323640" cy="34300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352440" y="418464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352440" y="461628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52440" y="502452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352440" y="542916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52440" y="58374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77720" y="6242040"/>
              <a:ext cx="420480" cy="6220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52440" y="375588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352440" y="3414600"/>
              <a:ext cx="549000" cy="9126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719280" y="-468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0" y="-468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>
              <a:off x="352440" y="-468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>
              <a:off x="900000" y="-4680"/>
              <a:ext cx="32364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352440" y="78912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352440" y="119700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352440" y="160344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52440" y="200988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352440" y="241632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347760" y="6632640"/>
              <a:ext cx="553680" cy="2361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352440" y="3348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352440" y="-4680"/>
              <a:ext cx="549000" cy="9108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355680" y="-9360"/>
              <a:ext cx="244080" cy="4662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352440" y="28512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1224000" y="0"/>
              <a:ext cx="333000" cy="6856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>
              <a:off x="214200" y="0"/>
              <a:ext cx="360" cy="685620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1023840" y="0"/>
              <a:ext cx="360" cy="685620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1447920" y="6324480"/>
            <a:ext cx="140940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733920" y="63244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F4EA74-F015-4056-911D-ED8ED57E94D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9360"/>
            <a:ext cx="1557000" cy="6878160"/>
            <a:chOff x="0" y="-9360"/>
            <a:chExt cx="1557000" cy="6878160"/>
          </a:xfrm>
        </p:grpSpPr>
        <p:sp>
          <p:nvSpPr>
            <p:cNvPr id="193" name="Rectangle 3"/>
            <p:cNvSpPr/>
            <p:nvPr/>
          </p:nvSpPr>
          <p:spPr>
            <a:xfrm>
              <a:off x="719280" y="341460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0" y="341460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352440" y="341460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900000" y="3429000"/>
              <a:ext cx="323640" cy="34300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352440" y="418464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352440" y="461628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352440" y="502452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352440" y="542916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352440" y="58374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477720" y="6242040"/>
              <a:ext cx="420480" cy="6220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352440" y="375588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352440" y="3414600"/>
              <a:ext cx="549000" cy="9126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" name="Rectangle 15"/>
            <p:cNvSpPr/>
            <p:nvPr/>
          </p:nvSpPr>
          <p:spPr>
            <a:xfrm>
              <a:off x="719280" y="-4680"/>
              <a:ext cx="18072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0" y="-4680"/>
              <a:ext cx="350640" cy="344448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352440" y="-4680"/>
              <a:ext cx="36648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900000" y="-4680"/>
              <a:ext cx="323640" cy="344448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352440" y="78912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352440" y="119700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Freeform 21"/>
            <p:cNvSpPr/>
            <p:nvPr/>
          </p:nvSpPr>
          <p:spPr>
            <a:xfrm>
              <a:off x="352440" y="1603440"/>
              <a:ext cx="545760" cy="1023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Freeform 22"/>
            <p:cNvSpPr/>
            <p:nvPr/>
          </p:nvSpPr>
          <p:spPr>
            <a:xfrm>
              <a:off x="352440" y="200988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Freeform 23"/>
            <p:cNvSpPr/>
            <p:nvPr/>
          </p:nvSpPr>
          <p:spPr>
            <a:xfrm>
              <a:off x="352440" y="2416320"/>
              <a:ext cx="545760" cy="1026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>
              <a:off x="347760" y="6632640"/>
              <a:ext cx="553680" cy="2361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Freeform 25"/>
            <p:cNvSpPr/>
            <p:nvPr/>
          </p:nvSpPr>
          <p:spPr>
            <a:xfrm>
              <a:off x="352440" y="3348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Freeform 26"/>
            <p:cNvSpPr/>
            <p:nvPr/>
          </p:nvSpPr>
          <p:spPr>
            <a:xfrm>
              <a:off x="352440" y="-4680"/>
              <a:ext cx="549000" cy="9108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Freeform 27"/>
            <p:cNvSpPr/>
            <p:nvPr/>
          </p:nvSpPr>
          <p:spPr>
            <a:xfrm>
              <a:off x="355680" y="-9360"/>
              <a:ext cx="244080" cy="4662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Freeform 28"/>
            <p:cNvSpPr/>
            <p:nvPr/>
          </p:nvSpPr>
          <p:spPr>
            <a:xfrm>
              <a:off x="352440" y="2851200"/>
              <a:ext cx="545760" cy="10252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1224000" y="0"/>
              <a:ext cx="333000" cy="6856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214200" y="0"/>
              <a:ext cx="360" cy="685620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>
              <a:off x="1023840" y="0"/>
              <a:ext cx="360" cy="6856200"/>
            </a:xfrm>
            <a:prstGeom prst="line">
              <a:avLst/>
            </a:prstGeom>
            <a:ln cap="sq" w="127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500120" y="1523880"/>
            <a:ext cx="7490880" cy="4714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бразец текст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999933"/>
              </a:buClr>
              <a:buFont typeface="Symbol" charset="2"/>
              <a:buChar char=""/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торой уровень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Symbol" charset="2"/>
              <a:buChar char=""/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ретий уровень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999933"/>
              </a:buClr>
              <a:buFont typeface="Symbol" charset="2"/>
              <a:buChar char=""/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твертый уровень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999933"/>
              </a:buClr>
              <a:buFont typeface="Symbol" charset="2"/>
              <a:buChar char=""/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ятый уровень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1447920" y="6324480"/>
            <a:ext cx="140940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733920" y="63244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D02C35-2D89-49A7-A1C7-985860CE656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38520" y="1380960"/>
            <a:ext cx="5793480" cy="34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еоретические  аспекты  аналитической деятельности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857160"/>
            <a:ext cx="7490880" cy="364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учение каждого элемента или стороны явления как части целого, расчленение изучаемого предмета или явления на составные элементы, выделение в нем отдельных сторон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45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Педагогический анализ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это системное изучение деятельности субъектов педагогического процесса в специально организованной среде во взаимодействии с социальным окружением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562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ПЕДАГОГИЧЕСКИЙ АНАЛИЗ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- ДИАГНОСТИЧЕСКАЯ ФУНКЦИЯ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- ПОЗНАВАТЕЛЬНАЯ ФУНКЦИЯ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- ПРЕОБРАЗУЮЩАЯ ФУНКЦИЯ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- САМООБРАЗОВАТЕЛЬНАЯ ФУНКЦИЯ</a:t>
            </a:r>
            <a:br>
              <a:rPr sz="2800"/>
            </a:b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7" name="Прямая со стрелкой 3"/>
          <p:cNvCxnSpPr/>
          <p:nvPr/>
        </p:nvCxnSpPr>
        <p:spPr>
          <a:xfrm flipH="1">
            <a:off x="4143240" y="1500120"/>
            <a:ext cx="1800" cy="428760"/>
          </a:xfrm>
          <a:prstGeom prst="straightConnector1">
            <a:avLst/>
          </a:prstGeom>
          <a:ln w="9525">
            <a:solidFill>
              <a:srgbClr val="333300"/>
            </a:solidFill>
            <a:round/>
            <a:tailEnd len="med" type="arrow" w="med"/>
          </a:ln>
        </p:spPr>
      </p:cxnSp>
      <p:cxnSp>
        <p:nvCxnSpPr>
          <p:cNvPr id="288" name="Прямая со стрелкой 8"/>
          <p:cNvCxnSpPr/>
          <p:nvPr/>
        </p:nvCxnSpPr>
        <p:spPr>
          <a:xfrm flipH="1">
            <a:off x="5214600" y="1500120"/>
            <a:ext cx="2160" cy="428760"/>
          </a:xfrm>
          <a:prstGeom prst="straightConnector1">
            <a:avLst/>
          </a:prstGeom>
          <a:ln w="9525">
            <a:solidFill>
              <a:srgbClr val="333300"/>
            </a:solidFill>
            <a:round/>
            <a:tailEnd len="med" type="arrow" w="med"/>
          </a:ln>
        </p:spPr>
      </p:cxnSp>
      <p:cxnSp>
        <p:nvCxnSpPr>
          <p:cNvPr id="289" name="Прямая со стрелкой 11"/>
          <p:cNvCxnSpPr/>
          <p:nvPr/>
        </p:nvCxnSpPr>
        <p:spPr>
          <a:xfrm flipH="1">
            <a:off x="6286320" y="1571400"/>
            <a:ext cx="1800" cy="357480"/>
          </a:xfrm>
          <a:prstGeom prst="straightConnector1">
            <a:avLst/>
          </a:prstGeom>
          <a:ln w="9525">
            <a:solidFill>
              <a:srgbClr val="333300"/>
            </a:solidFill>
            <a:round/>
            <a:tailEnd len="med" type="arrow" w="med"/>
          </a:ln>
        </p:spPr>
      </p:cxn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342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РТОЧКА  АНАЛИЗА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00120" y="642960"/>
            <a:ext cx="7490880" cy="59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Образовательная область «Познание»  (раздел)_______________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Дата проведения___________________________________________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Тип НОД (традиционное, комплексное, интегрированное)______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Возрастная группа__________________________________________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Количество детей___________________________________________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ФИО воспитателя___________________________________________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Начало НОД__________________ окончание НОД________________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Длительность непосредственно образовательной деятельности _______________________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 u="sng">
                <a:solidFill>
                  <a:srgbClr val="333300"/>
                </a:solidFill>
                <a:uFillTx/>
                <a:latin typeface="Arial"/>
              </a:rPr>
              <a:t>№             </a:t>
            </a:r>
            <a:r>
              <a:rPr b="1" lang="ru-RU" sz="1200" spc="-1" strike="noStrike" u="sng">
                <a:solidFill>
                  <a:srgbClr val="333300"/>
                </a:solidFill>
                <a:uFillTx/>
                <a:latin typeface="Arial"/>
              </a:rPr>
              <a:t>Критерии анализа                                                                               Да    Нет      Частично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Подготовка к непосредственно образовательной деятельности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соответствие конспекта, подбор материала, предварительная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работа)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AutoNum type="arabicPeriod" startAt="2"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Условия проведения непосредственно образовательной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деятельности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(удовлетворение двигательной активности, 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характеристика условий проведения НОД)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AutoNum type="arabicPeriod" startAt="3"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Программные задачи: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(соответствие возрастной группе, разнообразие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задач, взаимосвязь, наличие проблемно-поисковых задач)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AutoNum type="arabicPeriod" startAt="4"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Структура и методика проведения: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(соответствие частей НОД, правиль-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ность отбора методов, приемов и средств обучения, разнообразие 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приемов)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5.     Педагогическое мастерство педагога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(умения, способности, инди-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</a:rPr>
              <a:t>видуально-дифференцированный подход и т.д.)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6.     Анализ деятельности детей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999933"/>
              </a:buClr>
              <a:buFont typeface="Wingdings" charset="2"/>
              <a:buAutoNum type="arabicPeriod" startAt="7"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Выводы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8.      Краткие рекомендации к выводам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4914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Анализ является важнейшим средством стимулирования самообразования педагога»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( Ю.А.Конаржевский )</a:t>
            </a:r>
            <a:br>
              <a:rPr sz="2800"/>
            </a:b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541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Самоанализ педагогической деятельности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–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скрытая от непосредственного наблюдения, но существенная сторона профессиональной деятельности педагог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его жизнедеятельности вообще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такой анализ педагогическо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ятельности, когда явления педагогической действительности соотносятся педагогом со своими действиям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49088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Без самоанализа невозможно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00120" y="928800"/>
            <a:ext cx="7600680" cy="535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остроить целостную образовательную систему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овысить мастерство, развить творческие способност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общить передовой педагогический опыт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Сократить затраты времени на техническую работу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еспечить психологический комфорт и самозащиту педаго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Самоанализ дает возможность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00120" y="1285920"/>
            <a:ext cx="700056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ормировать и развивать творческую сознательность, проявляющуюся в умении сформулировать и поставить цели своей деятельности и деятельности воспитанник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Развить умения устанавливать связи между условиями своей педагогической деятельности и средствами достижения педагогических целей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ормировать умение четко планировать и предвидеть результаты своего педагогического труда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ормировать педагогическое самосознание педагога, когда он постепенно начинает видеть, понимать необходимую и существенную связь между способом его действий и конечным результатом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4771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От самоанализа во многом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зависят педагогическое мастерство воспитателя, производительность его педагогического труда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00120" y="1928880"/>
            <a:ext cx="7490880" cy="28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Бессистемный характер анализа;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Слишком общие замечания;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Стремление пересказать занятие;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ыдвижение на передний план несущественных достоинств и недостатков;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Нерешительный характер анализа;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трудняются объяснить целесообразность выбора тех или иных методов обучения;</a:t>
            </a:r>
            <a:br>
              <a:rPr sz="2800"/>
            </a:b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38520" y="1380960"/>
            <a:ext cx="6252840" cy="397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амоанализ и самооценка профессиональной деятельности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дагога дошкольного учреждения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741760" y="4124160"/>
            <a:ext cx="6249600" cy="4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22680" bIns="2268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Компоненты, способствующие развитию способности педагога к самоанализу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00120" y="2143080"/>
            <a:ext cx="7490880" cy="409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Самоконтрол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Самодиагностик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смысление затруднен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Самооценк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00120" y="1214280"/>
            <a:ext cx="7490880" cy="3500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амооце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это единство знания человека о себе самом и отношения к себе.</a:t>
            </a: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амооце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ключает выделенные самим человеком умений, поступков, качеств, мотивов и целей своего поведения, их осознание и оценочное к ним отношение</a:t>
            </a:r>
            <a:br>
              <a:rPr sz="2400"/>
            </a:b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4628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Самоконтрол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существляется путем сравнения идеальной модели профессиональной деятельности и собственных действий, что позволяет педагогу определять противоречия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4343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Самодиагности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рассматривается как инструмент по выявлению и установлению причинно-следственных связ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5271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Развитие способности к самоанализ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деятельности можно рассматривать как сложный многофакторный аналитический  процесс изучения педагогом своего педагогического опыта, основанного на </a:t>
            </a: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самоконтроле, самодиагностике, осознании затруднений и оценивании дальнейших перспектив самосовершенствования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55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то на себя глядит, свой видит лик,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то видит лик свой, цену себе знает,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то знает цену, строг к себе  бывает,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то строг к себе – тот истинно велик!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                                       ( Пьер Гренгор )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45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Педагогическая        деятельность?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Основные компоненты структуры педагогической деятельности</a:t>
            </a:r>
            <a:br>
              <a:rPr sz="2000"/>
            </a:b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                                                   ( по Б.Т.Лихачеву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490880" cy="4714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Начальный компонент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знание педагогом потребностей, тенденций общественного развития, основных требований, предъявляемых к человеку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Второй компонент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– многообразные научные знания, умения, навыки , накопленные человеком в области производства, культуры, общественных отношений, которые в обобщенном виде передаются подрастающим поколениям. В результате освоения этих основ у человека формируется осознанное отношение к жизни – мировоззрение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14200"/>
            <a:ext cx="785520" cy="142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00120" y="1857240"/>
            <a:ext cx="7490880" cy="4381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Третий компонент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– собственно педагогические знания, воспитательный опыт, мастерство, интуиц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твертый компонент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– высочайшая гражданская, нравственная, эстетическая, экологическая культура, ее стороны и области педагогической деятельности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Структура функциональных компонентов</a:t>
            </a:r>
            <a:br>
              <a:rPr sz="2800"/>
            </a:b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по Н.В.Кузьминой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00120" y="1785960"/>
            <a:ext cx="7490880" cy="44524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ностическ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оектировочны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онструктивны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рганизаторск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оммуникативны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1142640" cy="128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00120" y="785880"/>
            <a:ext cx="7490880" cy="5452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Гностический компонент-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относится к сфере знаний педагога. Речь идет о знании способов педагогической коммуникации, психологических и возрастных особенностей воспитанников, а также о самопознании (собственной личности и деятельности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Проектировочный компонент 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ключает в себя представления о перспективных задачах обучения и воспитания, а также о стратегиях и способах их достижения. Анализ и самоанализ педагогической деятельности входят в состав этого компонент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85520" cy="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00120" y="928800"/>
            <a:ext cx="7490880" cy="5310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Конструктивный компонент</a:t>
            </a:r>
            <a:r>
              <a:rPr b="1" i="1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– это особенности конструирования педагогом собственной деятельности с учетом ближних целей обучения и воспит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Коммуникативный компонент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– это особенности коммуникативной деятельности педагога, специфика его взаимодействия с детьми. Акцент ставится на связи коммуникации с эффективностью педагогической деятельности, направленной на достижение дидактических (воспитательных и образовательных) целей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Font typeface="Wingdings" charset="2"/>
              <a:buChar char=""/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Организаторский компонент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– это система умений педагога организовать собственную деятельность, а также активность воспитанников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0880" cy="5128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.И.Щербак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конструктивны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организаторск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исследовательский компонен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общетрудовые</a:t>
            </a:r>
            <a:br>
              <a:rPr sz="1800"/>
            </a:b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Reporting Progress or Status">
  <a:themeElements>
    <a:clrScheme name="Тема Office 1">
      <a:dk1>
        <a:srgbClr val="333300"/>
      </a:dk1>
      <a:lt1>
        <a:srgbClr val="ffffff"/>
      </a:lt1>
      <a:dk2>
        <a:srgbClr val="000000"/>
      </a:dk2>
      <a:lt2>
        <a:srgbClr val="969696"/>
      </a:lt2>
      <a:accent1>
        <a:srgbClr val="e5d58a"/>
      </a:accent1>
      <a:accent2>
        <a:srgbClr val="cccc00"/>
      </a:accent2>
      <a:accent3>
        <a:srgbClr val="ffffff"/>
      </a:accent3>
      <a:accent4>
        <a:srgbClr val="2a2a00"/>
      </a:accent4>
      <a:accent5>
        <a:srgbClr val="f0e7c4"/>
      </a:accent5>
      <a:accent6>
        <a:srgbClr val="b9b900"/>
      </a:accent6>
      <a:hlink>
        <a:srgbClr val="999933"/>
      </a:hlink>
      <a:folHlink>
        <a:srgbClr val="6666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porting Progress or Status">
  <a:themeElements>
    <a:clrScheme name="Тема Office 1">
      <a:dk1>
        <a:srgbClr val="333300"/>
      </a:dk1>
      <a:lt1>
        <a:srgbClr val="ffffff"/>
      </a:lt1>
      <a:dk2>
        <a:srgbClr val="000000"/>
      </a:dk2>
      <a:lt2>
        <a:srgbClr val="969696"/>
      </a:lt2>
      <a:accent1>
        <a:srgbClr val="e5d58a"/>
      </a:accent1>
      <a:accent2>
        <a:srgbClr val="cccc00"/>
      </a:accent2>
      <a:accent3>
        <a:srgbClr val="ffffff"/>
      </a:accent3>
      <a:accent4>
        <a:srgbClr val="2a2a00"/>
      </a:accent4>
      <a:accent5>
        <a:srgbClr val="f0e7c4"/>
      </a:accent5>
      <a:accent6>
        <a:srgbClr val="b9b900"/>
      </a:accent6>
      <a:hlink>
        <a:srgbClr val="999933"/>
      </a:hlink>
      <a:folHlink>
        <a:srgbClr val="6666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porting Progress or Status">
  <a:themeElements>
    <a:clrScheme name="Тема Office 1">
      <a:dk1>
        <a:srgbClr val="333300"/>
      </a:dk1>
      <a:lt1>
        <a:srgbClr val="ffffff"/>
      </a:lt1>
      <a:dk2>
        <a:srgbClr val="000000"/>
      </a:dk2>
      <a:lt2>
        <a:srgbClr val="969696"/>
      </a:lt2>
      <a:accent1>
        <a:srgbClr val="e5d58a"/>
      </a:accent1>
      <a:accent2>
        <a:srgbClr val="cccc00"/>
      </a:accent2>
      <a:accent3>
        <a:srgbClr val="ffffff"/>
      </a:accent3>
      <a:accent4>
        <a:srgbClr val="2a2a00"/>
      </a:accent4>
      <a:accent5>
        <a:srgbClr val="f0e7c4"/>
      </a:accent5>
      <a:accent6>
        <a:srgbClr val="b9b900"/>
      </a:accent6>
      <a:hlink>
        <a:srgbClr val="999933"/>
      </a:hlink>
      <a:folHlink>
        <a:srgbClr val="6666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e5d58a"/>
      </a:accent1>
      <a:accent2>
        <a:srgbClr val="cccc00"/>
      </a:accent2>
      <a:accent3>
        <a:srgbClr val="ffffff"/>
      </a:accent3>
      <a:accent4>
        <a:srgbClr val="2a2a00"/>
      </a:accent4>
      <a:accent5>
        <a:srgbClr val="f0e7c4"/>
      </a:accent5>
      <a:accent6>
        <a:srgbClr val="b9b900"/>
      </a:accent6>
      <a:hlink>
        <a:srgbClr val="999933"/>
      </a:hlink>
      <a:folHlink>
        <a:srgbClr val="6666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porting Progress or Status</Template>
  <TotalTime>257</TotalTime>
  <Application>LibreOffice/7.4.7.2$Linux_X86_64 LibreOffice_project/40$Build-2</Application>
  <AppVersion>15.0000</AppVersion>
  <Words>689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23:53:02Z</dcterms:created>
  <dc:creator>Андрей</dc:creator>
  <dc:description/>
  <dc:language>en-US</dc:language>
  <cp:lastModifiedBy>позитроника</cp:lastModifiedBy>
  <cp:lastPrinted>1601-01-01T00:00:00Z</cp:lastPrinted>
  <dcterms:modified xsi:type="dcterms:W3CDTF">2014-12-18T12:59:12Z</dcterms:modified>
  <cp:revision>31</cp:revision>
  <dc:subject/>
  <dc:title>Доклад о ходе рабо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otes">
    <vt:r8>9</vt:r8>
  </property>
  <property fmtid="{D5CDD505-2E9C-101B-9397-08002B2CF9AE}" pid="4" name="PresentationFormat">
    <vt:lpwstr>Экран (4:3)</vt:lpwstr>
  </property>
  <property fmtid="{D5CDD505-2E9C-101B-9397-08002B2CF9AE}" pid="5" name="Slides">
    <vt:r8>25</vt:r8>
  </property>
  <property fmtid="{D5CDD505-2E9C-101B-9397-08002B2CF9AE}" pid="6" name="Version">
    <vt:r8>4</vt:r8>
  </property>
</Properties>
</file>