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DB6-13A8-4A64-9760-5A6326DE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44-D0E8-4485-9AA9-D51FC032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4E7-71EB-40B5-B594-0B29DE49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BB7-EB6C-4695-95F7-C9BF56C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CA5-6C8E-4D11-8400-EF992A2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E52-F615-42A1-A782-3C57B1F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C68-A020-416F-8411-6D172426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C01-81E4-4916-BF8B-A0B99CF3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540-E2A7-4645-A8D6-1EDD66A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EDE-0937-4F6D-878F-EE29593A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783-D0A3-42F6-A17E-BC7CE49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7C4-B3B1-4480-BFAC-B55677C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206-740B-4A9E-9661-E83A414B4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mou140.chel-edu.ru/images/54322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е слова. Предложения с вводными словами. Знаки препинания в предложениях с вводным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, 5-й КЛАСС, Ч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09480" y="1219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21000" y="1828800"/>
            <a:ext cx="33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Он ошиб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ечно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, он ошиб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роятно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, он ошиб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счастью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, он ошиб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572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ются эти предложения: содержанием или  отношением говорящего к этому содержа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43960" y="45720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могает выразить это отнош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920" y="51814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назвать слов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онечно, вероятно, к счастью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ми отрезками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77360" y="601992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уйте главный вопрос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38080" y="152280"/>
            <a:ext cx="754380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м пробл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" action="ppaction://hlinkshowjump?jump=nextslide"/>
          </p:cNvPr>
          <p:cNvSpPr/>
          <p:nvPr/>
        </p:nvSpPr>
        <p:spPr>
          <a:xfrm>
            <a:off x="777240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3794"/>
                </a:moveTo>
                <a:lnTo>
                  <a:pt x="35082" y="10800"/>
                </a:lnTo>
                <a:lnTo>
                  <a:pt x="210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533520" y="152280"/>
            <a:ext cx="8305560" cy="914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ся смысловые отрез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ающие отношение к сообщ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136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990720" y="228600"/>
            <a:ext cx="75438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крываем новые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666880" y="1447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аботайте в парах. Выполните задания к упр. 275. Сделайт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альтернативный процесс 4"/>
          <p:cNvSpPr/>
          <p:nvPr/>
        </p:nvSpPr>
        <p:spPr>
          <a:xfrm>
            <a:off x="3809880" y="2819520"/>
            <a:ext cx="266724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5"/>
          <p:cNvSpPr/>
          <p:nvPr/>
        </p:nvSpPr>
        <p:spPr>
          <a:xfrm>
            <a:off x="380880" y="3733920"/>
            <a:ext cx="8610840" cy="2133360"/>
          </a:xfrm>
          <a:prstGeom prst="wedgeRoundRectCallout">
            <a:avLst>
              <a:gd name="adj1" fmla="val -46907"/>
              <a:gd name="adj2" fmla="val 83347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выражающие отношение говорящего к тому, что он говорит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ные слова не являются члена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тной речи вводные слова выделяются интонацией, а в письменной –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xrest.ru/images/collection/00699/196/original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9051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предложения (упр. 27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внутри простых предложений ввод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905120" y="1447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месте в предложении находятся ввод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80880" y="2286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их выдели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2743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нужно поставить две запяты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Картинка 94 из 16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952880"/>
            <a:ext cx="1752840" cy="146556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8"/>
          <p:cNvSpPr/>
          <p:nvPr/>
        </p:nvSpPr>
        <p:spPr>
          <a:xfrm>
            <a:off x="3276720" y="3581280"/>
            <a:ext cx="5181480" cy="1752840"/>
          </a:xfrm>
          <a:prstGeom prst="cloudCallout">
            <a:avLst>
              <a:gd name="adj1" fmla="val -66069"/>
              <a:gd name="adj2" fmla="val 73870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 вводные слова обозначаются букв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96520" y="38088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207520" y="9144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начения ввод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752480"/>
          <a:ext cx="7238880" cy="32004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62120" y="1752480"/>
          <a:ext cx="7238880" cy="32004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усло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ви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не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уме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сожал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я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7200"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71" name="Блок-схема: альтернативный процесс 5"/>
          <p:cNvSpPr/>
          <p:nvPr/>
        </p:nvSpPr>
        <p:spPr>
          <a:xfrm>
            <a:off x="3276720" y="5257800"/>
            <a:ext cx="228600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14292"/>
          <p:cNvPicPr/>
          <p:nvPr/>
        </p:nvPicPr>
        <p:blipFill>
          <a:blip r:embed="rId1"/>
          <a:stretch/>
        </p:blipFill>
        <p:spPr>
          <a:xfrm>
            <a:off x="7848720" y="5257800"/>
            <a:ext cx="890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6"/>
          <p:cNvSpPr/>
          <p:nvPr/>
        </p:nvSpPr>
        <p:spPr>
          <a:xfrm>
            <a:off x="838080" y="380880"/>
            <a:ext cx="769644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696080" y="5105520"/>
            <a:ext cx="1177920" cy="1403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81920" y="129528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«третье лишнее», объясн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894240" y="1981080"/>
            <a:ext cx="56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Конечно, разумеется, сожа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По-моему, к счастью, к сожа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Наверное, очевидно, разуме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альтернативный процесс 5"/>
          <p:cNvSpPr/>
          <p:nvPr/>
        </p:nvSpPr>
        <p:spPr>
          <a:xfrm>
            <a:off x="2819520" y="3505320"/>
            <a:ext cx="213336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6"/>
          <p:cNvSpPr/>
          <p:nvPr/>
        </p:nvSpPr>
        <p:spPr>
          <a:xfrm>
            <a:off x="609480" y="1905120"/>
            <a:ext cx="5867640" cy="20574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Конечно, разумеется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ж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-мое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 счастью, к сожа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Наверное, очевидно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уме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4:54Z</dcterms:created>
  <dc:creator>Нина</dc:creator>
  <dc:description/>
  <dc:language>en-US</dc:language>
  <cp:lastModifiedBy>Светлана</cp:lastModifiedBy>
  <dcterms:modified xsi:type="dcterms:W3CDTF">2015-01-10T15:06:42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