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E9C-D002-4315-87E3-DB1FB7F2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AC1-FBDC-4C72-A6F5-A2521DB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01D-C429-40A4-9F2B-5A6206B0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A07-8546-404D-80F4-3F585CC3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ED2-BBD0-4C07-B9FE-CA1F9FA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B3B-E600-48DD-A854-6C9AEBF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72F-4B3A-42DD-89E2-39090797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30E-9480-4505-A17F-65851D5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015-E186-4D42-AD41-BD0632D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F71-7D50-4C25-9C3F-6217853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A46-BA76-4A28-9485-BCB2EE2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C9E-8D51-415D-A04E-9C72DC2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CCC-012D-41F8-B0DC-8AA067F3D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900000" y="27000"/>
            <a:ext cx="74520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0392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4:27:16Z</dcterms:created>
  <dc:creator>1</dc:creator>
  <dc:description/>
  <dc:language>en-US</dc:language>
  <cp:lastModifiedBy>1</cp:lastModifiedBy>
  <dcterms:modified xsi:type="dcterms:W3CDTF">2013-11-11T14:29:40Z</dcterms:modified>
  <cp:revision>1</cp:revision>
  <dc:subject/>
  <dc:title>Презентация PowerPoint</dc:title>
</cp:coreProperties>
</file>