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76F2-F6C0-459E-B811-2B14DB11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90C2-E478-4922-8205-4570F22F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B35C-42B9-4B95-8B9F-B097B842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CCA1-8BFF-4F0E-8DC9-2956BD23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DC73-123E-4F0A-BF09-6B7A183B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B4F3-27F5-4394-8419-DB7A94D6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1A12-1FEE-4061-914B-967130DD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678D-6299-4A38-966D-749560D9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2432-A67B-4538-85E4-153D83E2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39B7-2B3A-4F32-9B28-6878486F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4831-2D03-47AC-8D5C-30FF7330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331F-BFCF-42BC-B112-B39B147E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E4F9-ADFF-4EE0-9E4F-EAFB82F0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587C-3451-4F2A-A6A6-00DBFED9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5958-FE8E-48F2-AE43-E5EE7A61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7EE9-553D-43E7-90AF-182C2241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E2A1-504D-48FF-A2C7-08EB2298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D050-4A40-4EE7-92E1-2C0CF5DC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C1FF-0A63-4E62-8AB7-3C34D71E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BF7-69AD-4606-8787-CB03F288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D341-7424-490B-B15D-9BFAAFAE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9EC5-2E47-43E0-9371-FF4D26E4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F193-1B7D-4217-B288-9880B03D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F4B-33C2-40DB-AD05-0569D289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6d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6d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6d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3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3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AE50-AD6F-469C-AF8A-40C4AAD49D7D}" type="slidenum">
              <a:rPr b="0" lang="en-US" sz="10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b3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06F2-7971-49F6-A0AE-98684454DF51}" type="slidenum">
              <a:rPr b="0" lang="en-US" sz="10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66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dd6d0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d6d07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2895480" cy="23241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3733920"/>
            <a:ext cx="74674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ffffcc"/>
                </a:solidFill>
                <a:latin typeface="Verdana"/>
              </a:rPr>
              <a:t>Рекламное</a:t>
            </a:r>
            <a:br>
              <a:rPr sz="8400"/>
            </a:br>
            <a:r>
              <a:rPr b="1" lang="en-US" sz="8400" spc="-1" strike="noStrike">
                <a:solidFill>
                  <a:srgbClr val="ffffcc"/>
                </a:solidFill>
                <a:latin typeface="Verdana"/>
              </a:rPr>
              <a:t>агентство</a:t>
            </a:r>
            <a:endParaRPr b="0" lang="en-US" sz="8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676520"/>
            <a:ext cx="67816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0000"/>
                </a:solidFill>
                <a:latin typeface="Bookman Old Style"/>
              </a:rPr>
              <a:t>Большая экономико-психологическая игра</a:t>
            </a:r>
            <a:endParaRPr b="0" lang="en-US" sz="4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ЭТАП №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30000"/>
                </a:solidFill>
                <a:latin typeface="Arial"/>
              </a:rPr>
              <a:t>«Регистрация рекламного агентства»</a:t>
            </a:r>
            <a:endParaRPr b="0" lang="en-US" sz="9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Задание:</a:t>
            </a:r>
            <a:endParaRPr b="0" lang="en-US" sz="4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Выбрать название для своего РА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Утвердить руководителя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Распределить роли между остальными членами команды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Определиться с направлением деятельности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Составить план презентации страны, заполнив бланк регистрации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ОБЩЕЕ ВРЕМЯ ВЫПОЛНЕНИЯ: 10 минут</a:t>
            </a:r>
            <a:endParaRPr b="0" lang="en-US" sz="4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Verdana"/>
              </a:rPr>
              <a:t>Презентация команд</a:t>
            </a:r>
            <a:endParaRPr b="0" lang="en-US" sz="5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0000"/>
                </a:solidFill>
                <a:latin typeface="Arial"/>
              </a:rPr>
              <a:t>У каждой </a:t>
            </a: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0000"/>
                </a:solidFill>
                <a:latin typeface="Arial"/>
              </a:rPr>
              <a:t>команды есть </a:t>
            </a: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 u="sng">
                <a:solidFill>
                  <a:srgbClr val="330000"/>
                </a:solidFill>
                <a:uFillTx/>
                <a:latin typeface="Arial"/>
              </a:rPr>
              <a:t>1 минута</a:t>
            </a: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Verdana"/>
              </a:rPr>
              <a:t>Презентация команд</a:t>
            </a:r>
            <a:endParaRPr b="0" lang="en-US" sz="5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0000"/>
                </a:solidFill>
                <a:latin typeface="Arial"/>
              </a:rPr>
              <a:t>Команда №1</a:t>
            </a: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Verdana"/>
              </a:rPr>
              <a:t>Презентация команд</a:t>
            </a:r>
            <a:endParaRPr b="0" lang="en-US" sz="5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0000"/>
                </a:solidFill>
                <a:latin typeface="Arial"/>
              </a:rPr>
              <a:t>Команда №2</a:t>
            </a: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Verdana"/>
              </a:rPr>
              <a:t>Презентация команд</a:t>
            </a:r>
            <a:endParaRPr b="0" lang="en-US" sz="5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0000"/>
                </a:solidFill>
                <a:latin typeface="Arial"/>
              </a:rPr>
              <a:t>Команда №3</a:t>
            </a: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Verdana"/>
              </a:rPr>
              <a:t>Экономическая </a:t>
            </a:r>
            <a:endParaRPr b="0" lang="en-US" sz="5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Verdana"/>
              </a:rPr>
              <a:t>переменка</a:t>
            </a:r>
            <a:endParaRPr b="0" lang="en-US" sz="5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00"/>
                </a:solidFill>
                <a:latin typeface="Arial"/>
              </a:rPr>
              <a:t>Продолжительность:</a:t>
            </a:r>
            <a:endParaRPr b="0" lang="en-US" sz="5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00"/>
                </a:solidFill>
                <a:latin typeface="Arial"/>
              </a:rPr>
              <a:t>5 минут</a:t>
            </a:r>
            <a:endParaRPr b="0" lang="en-US" sz="5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ВЫ МОЖЕТЕ ПОСЕТИТЬ БАНК, КАЗИНО,  НАЛОГОВУЮ, БЛАГОТВОРИТЕЛЬНОСТЬ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ЭТАП №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00"/>
                </a:solidFill>
                <a:latin typeface="Arial"/>
              </a:rPr>
              <a:t>«Регистрация РА»</a:t>
            </a:r>
            <a:endParaRPr b="0" lang="en-US" sz="5000" spc="-1" strike="noStrike">
              <a:solidFill>
                <a:srgbClr val="33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00"/>
                </a:solidFill>
                <a:latin typeface="Arial"/>
              </a:rPr>
              <a:t>Критерии оценки</a:t>
            </a:r>
            <a:endParaRPr b="0" lang="en-US" sz="31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В презентации фирмы задействованы все участники команды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Лидер команды имеет привлекательный имидж: речь грамотна, внешний вид представителен, умеет «держать» внимание зала, грамотно координирует участников своей команды при выступлении, умеет держать «удар» (корректно и точно отвечает на вопросы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Презентация вызывает желание быть клиентом фирмы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ЭТАП №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30000"/>
                </a:solidFill>
                <a:latin typeface="Arial"/>
              </a:rPr>
              <a:t>«Рекламная</a:t>
            </a:r>
            <a:endParaRPr b="0" lang="en-US" sz="95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30000"/>
                </a:solidFill>
                <a:latin typeface="Arial"/>
              </a:rPr>
              <a:t>площадь»</a:t>
            </a:r>
            <a:endParaRPr b="0" lang="en-US" sz="9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cc"/>
                </a:solidFill>
                <a:latin typeface="Verdana"/>
              </a:rPr>
              <a:t>Задание:</a:t>
            </a:r>
            <a:endParaRPr b="0" lang="en-US" sz="35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Каждая команда получает по глянцевому журналу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В данном журнале вам нужно выбрать среди реклам, расположенных с </a:t>
            </a: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1 по 50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страницу, 5 наиболее привлекательных для потребителя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За каждую площадь вы оплачиваете стоимость размещения рекламы: титульный лист - 500 лицеянок, остальные листы - 200 лицеянок, рекламы, выполненные на картонных листах - 300 лицеянок, рекламы, занимающие часть листа - 100 лицеянок. За рекламу, выполненную на нескольких листах 200 * количество листов.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Номера страниц вы записываете на карточки и отмечаете в прайсе. Данная сумма будет вычитаться из вашей прибыли за этап. Ответ сдаете членам жюри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cc"/>
                </a:solidFill>
                <a:latin typeface="Verdana"/>
              </a:rPr>
              <a:t>ОБЩЕЕ ВРЕМЯ ВЫПОЛНЕНИЯ: 10 минут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СУТЬ ИГР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0000"/>
                </a:solidFill>
                <a:latin typeface="Arial"/>
              </a:rPr>
              <a:t>Сегодня мы познакомимся </a:t>
            </a:r>
            <a:endParaRPr b="0" lang="en-US" sz="33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0000"/>
                </a:solidFill>
                <a:latin typeface="Arial"/>
              </a:rPr>
              <a:t>с самым дорогим, динамичным и ярким миром – миром рекламы</a:t>
            </a:r>
            <a:endParaRPr b="0" lang="en-US" sz="33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0000"/>
                </a:solidFill>
                <a:latin typeface="Arial"/>
              </a:rPr>
              <a:t>Каждая из играющих команд будет открывать собственное </a:t>
            </a:r>
            <a:endParaRPr b="0" lang="en-US" sz="33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0000"/>
                </a:solidFill>
                <a:latin typeface="Arial"/>
              </a:rPr>
              <a:t>Рекламное агентство (РА)</a:t>
            </a:r>
            <a:endParaRPr b="0" lang="en-US" sz="33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0000"/>
                </a:solidFill>
                <a:latin typeface="Arial"/>
              </a:rPr>
              <a:t>Игра будет проходить в 4 этапа</a:t>
            </a:r>
            <a:endParaRPr b="0" lang="en-US" sz="33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0000"/>
                </a:solidFill>
                <a:latin typeface="Arial"/>
              </a:rPr>
              <a:t>Правила заданий объявляет ведущий</a:t>
            </a:r>
            <a:endParaRPr b="0" lang="en-US" sz="33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Verdana"/>
              </a:rPr>
              <a:t>Экономическая </a:t>
            </a:r>
            <a:endParaRPr b="0" lang="en-US" sz="5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Verdana"/>
              </a:rPr>
              <a:t>переменка</a:t>
            </a:r>
            <a:endParaRPr b="0" lang="en-US" sz="5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00"/>
                </a:solidFill>
                <a:latin typeface="Arial"/>
              </a:rPr>
              <a:t>Продолжительность:</a:t>
            </a:r>
            <a:endParaRPr b="0" lang="en-US" sz="5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00"/>
                </a:solidFill>
                <a:latin typeface="Arial"/>
              </a:rPr>
              <a:t>5 минут</a:t>
            </a:r>
            <a:endParaRPr b="0" lang="en-US" sz="5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ВЫ МОЖЕТЕ ПОСЕТИТЬ БАНК, КАЗИНО,  НАЛОГОВУЮ, БЛАГОТВОРИТЕЛЬНОСТЬ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00"/>
                </a:solidFill>
                <a:latin typeface="Arial"/>
              </a:rPr>
              <a:t>«Рекламная площадь»</a:t>
            </a:r>
            <a:endParaRPr b="0" lang="en-US" sz="5400" spc="-1" strike="noStrike">
              <a:solidFill>
                <a:srgbClr val="33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Каждое рекламное предложение оценивается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по следующим критериям: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476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00"/>
                </a:solidFill>
                <a:latin typeface="Arial"/>
              </a:rPr>
              <a:t>Расположение: первый и последний листы журнала, расположение в тексте, «рекламная история» – +100 баллов</a:t>
            </a:r>
            <a:endParaRPr b="0" lang="en-US" sz="19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476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00"/>
                </a:solidFill>
                <a:latin typeface="Arial"/>
              </a:rPr>
              <a:t>Размер рекламного сообщения – если площадь больше листа А4 - +100 баллов</a:t>
            </a:r>
            <a:endParaRPr b="0" lang="en-US" sz="19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476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00"/>
                </a:solidFill>
                <a:latin typeface="Arial"/>
              </a:rPr>
              <a:t>Контрастность: цветовое выделение из окружающего фона - +100 баллов</a:t>
            </a:r>
            <a:endParaRPr b="0" lang="en-US" sz="19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476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00"/>
                </a:solidFill>
                <a:latin typeface="Arial"/>
              </a:rPr>
              <a:t>Движение: движение на рекламном листе «вот-вот произойдет» - +100 баллов</a:t>
            </a:r>
            <a:endParaRPr b="0" lang="en-US" sz="19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476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00"/>
                </a:solidFill>
                <a:latin typeface="Arial"/>
              </a:rPr>
              <a:t>Изоляция: на рекламном листе один рекламируемый продукт и больше ничего - +100 баллов</a:t>
            </a:r>
            <a:endParaRPr b="0" lang="en-US" sz="19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476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00"/>
                </a:solidFill>
                <a:latin typeface="Arial"/>
              </a:rPr>
              <a:t>Прием новизны: используются неожиданные раздражители: например, лицо человека выложено из овощей, новые герои, реклама похожа на статью - +100 баллов</a:t>
            </a:r>
            <a:endParaRPr b="0" lang="en-US" sz="19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476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00"/>
                </a:solidFill>
                <a:latin typeface="Arial"/>
              </a:rPr>
              <a:t>Прием привлекательной личности. Контуры женщины, дети до 1-4 лет, животные, геометрические фигуры и знаменитости вызывают более сильную эмоциональную реакцию - +100 баллов</a:t>
            </a:r>
            <a:endParaRPr b="0" lang="en-US" sz="19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476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00"/>
                </a:solidFill>
                <a:latin typeface="Arial"/>
              </a:rPr>
              <a:t>Текстура: реклама, выполненная на бумаге, отличающейся по текстуре от остальной - +100 баллов</a:t>
            </a:r>
            <a:endParaRPr b="0" lang="en-US" sz="1900" spc="-1" strike="noStrike">
              <a:solidFill>
                <a:srgbClr val="33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ЭТАП №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330000"/>
                </a:solidFill>
                <a:latin typeface="Arial"/>
              </a:rPr>
              <a:t>«Живая реклама»</a:t>
            </a:r>
            <a:endParaRPr b="0" lang="en-US" sz="1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cc"/>
                </a:solidFill>
                <a:latin typeface="Verdana"/>
              </a:rPr>
              <a:t>Задание:</a:t>
            </a:r>
            <a:endParaRPr b="0" lang="en-US" sz="35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Генеральный директор фирмы должен подойти к членам жюри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Там из пяти карточек, сданных командой во втором туре, он вытягивает одну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На карточке написан номер страницы рекламы из вашего журнала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Вам нужно снять рекламный ролик по мотивам данной рекламы. Участники вашей команды - герои данного ролика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Ролик должен длиться 1 минуту. Стоимость показа - 1000 лицеянок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За каждые дополнительные 5 секунд команда оплачивает 500 лицеянок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cc"/>
                </a:solidFill>
                <a:latin typeface="Verdana"/>
              </a:rPr>
              <a:t>ОБЩЕЕ ВРЕМЯ ВЫПОЛНЕНИЯ: 10 минут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Verdana"/>
              </a:rPr>
              <a:t>Презентация команд</a:t>
            </a:r>
            <a:endParaRPr b="0" lang="en-US" sz="5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0000"/>
                </a:solidFill>
                <a:latin typeface="Arial"/>
              </a:rPr>
              <a:t>У каждой </a:t>
            </a: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0000"/>
                </a:solidFill>
                <a:latin typeface="Arial"/>
              </a:rPr>
              <a:t>команды есть </a:t>
            </a: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 u="sng">
                <a:solidFill>
                  <a:srgbClr val="330000"/>
                </a:solidFill>
                <a:uFillTx/>
                <a:latin typeface="Arial"/>
              </a:rPr>
              <a:t>1 минута</a:t>
            </a: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Verdana"/>
              </a:rPr>
              <a:t>Презентация команд</a:t>
            </a:r>
            <a:endParaRPr b="0" lang="en-US" sz="5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0000"/>
                </a:solidFill>
                <a:latin typeface="Arial"/>
              </a:rPr>
              <a:t>Команда №1</a:t>
            </a: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Verdana"/>
              </a:rPr>
              <a:t>Презентация команд</a:t>
            </a:r>
            <a:endParaRPr b="0" lang="en-US" sz="5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0000"/>
                </a:solidFill>
                <a:latin typeface="Arial"/>
              </a:rPr>
              <a:t>Команда №2</a:t>
            </a: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Verdana"/>
              </a:rPr>
              <a:t>Презентация команд</a:t>
            </a:r>
            <a:endParaRPr b="0" lang="en-US" sz="5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0000"/>
                </a:solidFill>
                <a:latin typeface="Arial"/>
              </a:rPr>
              <a:t>Команда №3</a:t>
            </a: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ЭТАП №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00"/>
                </a:solidFill>
                <a:latin typeface="Arial"/>
              </a:rPr>
              <a:t>«Живая реклама»</a:t>
            </a:r>
            <a:endParaRPr b="0" lang="en-US" sz="5000" spc="-1" strike="noStrike">
              <a:solidFill>
                <a:srgbClr val="33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00"/>
                </a:solidFill>
                <a:latin typeface="Arial"/>
              </a:rPr>
              <a:t>Критерии оценки</a:t>
            </a:r>
            <a:endParaRPr b="0" lang="en-US" sz="31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В рекламном ролике фирмы задействованы все участники команды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В рекламном ролике используются: костюмы, звуковое сопровождение, дополнительные элементы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Рекламный ролик вызывает желание купить рекламируемый товар, оригинален, понятен, имеет высокий уровень культуры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ЭТАП №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330000"/>
                </a:solidFill>
                <a:latin typeface="Arial"/>
              </a:rPr>
              <a:t>«Тендер»</a:t>
            </a:r>
            <a:endParaRPr b="0" lang="en-US" sz="1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91320" y="4267080"/>
            <a:ext cx="3124080" cy="23241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ИГР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0000"/>
                </a:solidFill>
                <a:latin typeface="Arial"/>
              </a:rPr>
              <a:t>Сегодня играют 3 команды по 8 человек</a:t>
            </a:r>
            <a:endParaRPr b="0" lang="en-US" sz="33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0000"/>
                </a:solidFill>
                <a:latin typeface="Arial"/>
              </a:rPr>
              <a:t>У каждой команды есть:</a:t>
            </a:r>
            <a:endParaRPr b="0" lang="en-US" sz="33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0000"/>
                </a:solidFill>
                <a:latin typeface="Arial"/>
              </a:rPr>
              <a:t>Путеводитель, где отражены:</a:t>
            </a:r>
            <a:endParaRPr b="0" lang="en-US" sz="33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33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00"/>
                </a:solidFill>
                <a:latin typeface="Arial"/>
              </a:rPr>
              <a:t>этапы игры, </a:t>
            </a:r>
            <a:endParaRPr b="0" lang="en-US" sz="35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33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00"/>
                </a:solidFill>
                <a:latin typeface="Arial"/>
              </a:rPr>
              <a:t>время каждого этапа, </a:t>
            </a:r>
            <a:endParaRPr b="0" lang="en-US" sz="35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33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00"/>
                </a:solidFill>
                <a:latin typeface="Arial"/>
              </a:rPr>
              <a:t>оборот денежных средств,</a:t>
            </a:r>
            <a:endParaRPr b="0" lang="en-US" sz="35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33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330000"/>
                </a:solidFill>
                <a:latin typeface="Arial"/>
              </a:rPr>
              <a:t>правила экономики</a:t>
            </a:r>
            <a:endParaRPr b="0" lang="en-US" sz="3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cc"/>
                </a:solidFill>
                <a:latin typeface="Verdana"/>
              </a:rPr>
              <a:t>Задание:</a:t>
            </a:r>
            <a:endParaRPr b="0" lang="en-US" sz="35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00"/>
                </a:solidFill>
                <a:latin typeface="Verdana"/>
              </a:rPr>
              <a:t>В современном мире чаще всего фирма может получить заказ только после того, как докажет, 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00"/>
                </a:solidFill>
                <a:latin typeface="Verdana"/>
              </a:rPr>
              <a:t>что ее услуги - лучшие. 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00"/>
                </a:solidFill>
                <a:latin typeface="Verdana"/>
              </a:rPr>
              <a:t>Мы предлагаем вам выиграть тендер 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00"/>
                </a:solidFill>
                <a:latin typeface="Verdana"/>
              </a:rPr>
              <a:t>на выполнение рекламы МОУ «Лицей №1»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Данный этап будет проходить в несколько туров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 тур: аукцион цветных площадей. Как известно, закрашенный фон привлекает больше внимания. Мы предлагаем вам купить один из самых привлекательных цветов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2 тур: выполнение рекламы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 тур: презентация проекта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4 тур: определение победителя, выигравшего тендер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Verdana"/>
              </a:rPr>
              <a:t>ОБЩЕЕ ВРЕМЯ ВЫПОЛНЕНИЯ: 21 минута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00"/>
                </a:solidFill>
                <a:latin typeface="Arial"/>
              </a:rPr>
              <a:t>«Аукцион»</a:t>
            </a:r>
            <a:endParaRPr b="0" lang="en-US" sz="42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Сейчас мы будем проводить торги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Лотами являются рекламные площади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с закрашенным фоном:                                        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533412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Реклама, выполненная на фоне определенного цвета оценивается членами жюри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Итоговый балл умножается на коэффициент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68360" y="3068640"/>
          <a:ext cx="8307360" cy="2066760"/>
        </p:xfrm>
        <a:graphic>
          <a:graphicData uri="http://schemas.openxmlformats.org/drawingml/2006/table">
            <a:tbl>
              <a:tblPr/>
              <a:tblGrid>
                <a:gridCol w="4535280"/>
                <a:gridCol w="1873440"/>
                <a:gridCol w="1898640"/>
              </a:tblGrid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Цвет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ртовая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цена</a:t>
                      </a:r>
                      <a:endParaRPr b="0" lang="en-US" sz="22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Monotype Corsiva"/>
                        </a:rPr>
                        <a:t>k</a:t>
                      </a:r>
                      <a:r>
                        <a:rPr b="1" lang="ru-RU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прибыли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Желтый</a:t>
                      </a:r>
                      <a:endParaRPr b="0" lang="en-US" sz="22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0</a:t>
                      </a:r>
                      <a:endParaRPr b="0" lang="en-US" sz="22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х10</a:t>
                      </a:r>
                      <a:endParaRPr b="0" lang="en-US" sz="22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лый</a:t>
                      </a:r>
                      <a:endParaRPr b="0" lang="en-US" sz="22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</a:t>
                      </a:r>
                      <a:endParaRPr b="0" lang="en-US" sz="22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х9</a:t>
                      </a:r>
                      <a:endParaRPr b="0" lang="en-US" sz="22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Синий</a:t>
                      </a:r>
                      <a:endParaRPr b="0" lang="en-US" sz="22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22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х8</a:t>
                      </a:r>
                      <a:endParaRPr b="0" lang="en-US" sz="22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Verdana"/>
              </a:rPr>
              <a:t>Выполнение рекламы</a:t>
            </a:r>
            <a:endParaRPr b="0" lang="en-US" sz="8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00"/>
                </a:solidFill>
                <a:latin typeface="Verdana"/>
              </a:rPr>
              <a:t>ОБЩЕЕ ВРЕМЯ : 10 минут</a:t>
            </a:r>
            <a:endParaRPr b="0" lang="en-US" sz="4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Verdana"/>
              </a:rPr>
              <a:t>Презентация команд</a:t>
            </a:r>
            <a:endParaRPr b="0" lang="en-US" sz="5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0000"/>
                </a:solidFill>
                <a:latin typeface="Arial"/>
              </a:rPr>
              <a:t>У каждой </a:t>
            </a: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0000"/>
                </a:solidFill>
                <a:latin typeface="Arial"/>
              </a:rPr>
              <a:t>команды есть </a:t>
            </a: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 u="sng">
                <a:solidFill>
                  <a:srgbClr val="330000"/>
                </a:solidFill>
                <a:uFillTx/>
                <a:latin typeface="Arial"/>
              </a:rPr>
              <a:t>2 минуты</a:t>
            </a: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Verdana"/>
              </a:rPr>
              <a:t>Презентация команд</a:t>
            </a:r>
            <a:endParaRPr b="0" lang="en-US" sz="5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0000"/>
                </a:solidFill>
                <a:latin typeface="Arial"/>
              </a:rPr>
              <a:t>Команда №1</a:t>
            </a: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Verdana"/>
              </a:rPr>
              <a:t>Презентация команд</a:t>
            </a:r>
            <a:endParaRPr b="0" lang="en-US" sz="5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0000"/>
                </a:solidFill>
                <a:latin typeface="Arial"/>
              </a:rPr>
              <a:t>Команда №2</a:t>
            </a: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Verdana"/>
              </a:rPr>
              <a:t>Презентация команд</a:t>
            </a:r>
            <a:endParaRPr b="0" lang="en-US" sz="5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0000"/>
                </a:solidFill>
                <a:latin typeface="Arial"/>
              </a:rPr>
              <a:t>Команда №3</a:t>
            </a: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ЭТАП №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00"/>
                </a:solidFill>
                <a:latin typeface="Arial"/>
              </a:rPr>
              <a:t>«Тендер»</a:t>
            </a:r>
            <a:endParaRPr b="0" lang="en-US" sz="5000" spc="-1" strike="noStrike">
              <a:solidFill>
                <a:srgbClr val="33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00"/>
                </a:solidFill>
                <a:latin typeface="Arial"/>
              </a:rPr>
              <a:t>Критерии оценки</a:t>
            </a:r>
            <a:endParaRPr b="0" lang="en-US" sz="31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Реклама учитывает интересы тех людей, которые будут ее оценивать - членов жюри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На одном рекламном листе размещено оптимальное число элементов: рисунки и надписи. Классическим является 7+/-2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Сочетание цветов удачно: привлекает, но не раздражает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Реклама вызывает желание воспользоваться услугами Лицея, имеет интересную идею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610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ЗАПОЛНЕНИЕ ИТОГОВЫХ</a:t>
            </a:r>
            <a:endParaRPr b="0" lang="en-US" sz="4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АНКЕТ</a:t>
            </a:r>
            <a:endParaRPr b="0" lang="en-US" sz="4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Сейчас будут подводиться итоги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4 тура и игры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00"/>
                </a:solidFill>
                <a:latin typeface="Arial"/>
              </a:rPr>
              <a:t>Предлагаем вам в это время заполнить анкету</a:t>
            </a:r>
            <a:endParaRPr b="0" lang="en-US" sz="5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6104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330000"/>
                </a:solidFill>
                <a:latin typeface="Arial"/>
              </a:rPr>
              <a:t>Поздравляем победителей!</a:t>
            </a:r>
            <a:endParaRPr b="0" lang="en-US" sz="63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ЭКОНОМИЧЕСКИЕ СТРУКТУР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00"/>
                </a:solidFill>
                <a:latin typeface="Arial"/>
              </a:rPr>
              <a:t>В ходе игры во время </a:t>
            </a:r>
            <a:endParaRPr b="0" lang="en-US" sz="29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00"/>
                </a:solidFill>
                <a:latin typeface="Arial"/>
              </a:rPr>
              <a:t>«экономических переменок» </a:t>
            </a:r>
            <a:endParaRPr b="0" lang="en-US" sz="29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00"/>
                </a:solidFill>
                <a:latin typeface="Arial"/>
              </a:rPr>
              <a:t>у вас будет возможность взаимодействовать </a:t>
            </a:r>
            <a:endParaRPr b="0" lang="en-US" sz="29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00"/>
                </a:solidFill>
                <a:latin typeface="Arial"/>
              </a:rPr>
              <a:t>со следующими структурами:</a:t>
            </a:r>
            <a:endParaRPr b="0" lang="en-US" sz="29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00"/>
                </a:solidFill>
                <a:latin typeface="Arial"/>
              </a:rPr>
              <a:t>БАНК</a:t>
            </a:r>
            <a:endParaRPr b="0" lang="en-US" sz="29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00"/>
                </a:solidFill>
                <a:latin typeface="Arial"/>
              </a:rPr>
              <a:t>НАЛОГОВЫЙ ЦЕНТР</a:t>
            </a:r>
            <a:endParaRPr b="0" lang="en-US" sz="29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00"/>
                </a:solidFill>
                <a:latin typeface="Arial"/>
              </a:rPr>
              <a:t>БЛАГОТВОРИТЕЛЬНОСТЬ</a:t>
            </a:r>
            <a:endParaRPr b="0" lang="en-US" sz="29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00"/>
                </a:solidFill>
                <a:latin typeface="Arial"/>
              </a:rPr>
              <a:t>КАЗИНО</a:t>
            </a:r>
            <a:endParaRPr b="0" lang="en-US" sz="29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00"/>
                </a:solidFill>
                <a:latin typeface="Arial"/>
              </a:rPr>
              <a:t>Условия их работы вы можете узнать во время переменки</a:t>
            </a:r>
            <a:endParaRPr b="0" lang="en-US" sz="29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Что нужно для победы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2160" indent="-342720">
              <a:lnSpc>
                <a:spcPct val="90000"/>
              </a:lnSpc>
              <a:spcBef>
                <a:spcPts val="726"/>
              </a:spcBef>
              <a:buClr>
                <a:srgbClr val="33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00"/>
                </a:solidFill>
                <a:latin typeface="Arial"/>
              </a:rPr>
              <a:t>Понимать задание ведущего сразу</a:t>
            </a:r>
            <a:endParaRPr b="0" lang="en-US" sz="2900" spc="-1" strike="noStrike">
              <a:solidFill>
                <a:srgbClr val="330000"/>
              </a:solidFill>
              <a:latin typeface="Arial"/>
            </a:endParaRPr>
          </a:p>
          <a:p>
            <a:pPr marL="722160" indent="-342720">
              <a:lnSpc>
                <a:spcPct val="90000"/>
              </a:lnSpc>
              <a:spcBef>
                <a:spcPts val="726"/>
              </a:spcBef>
              <a:buClr>
                <a:srgbClr val="33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00"/>
                </a:solidFill>
                <a:latin typeface="Arial"/>
              </a:rPr>
              <a:t>Распределять время и ресурсы</a:t>
            </a:r>
            <a:endParaRPr b="0" lang="en-US" sz="2900" spc="-1" strike="noStrike">
              <a:solidFill>
                <a:srgbClr val="330000"/>
              </a:solidFill>
              <a:latin typeface="Arial"/>
            </a:endParaRPr>
          </a:p>
          <a:p>
            <a:pPr marL="722160" indent="-342720">
              <a:lnSpc>
                <a:spcPct val="90000"/>
              </a:lnSpc>
              <a:spcBef>
                <a:spcPts val="726"/>
              </a:spcBef>
              <a:buClr>
                <a:srgbClr val="33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00"/>
                </a:solidFill>
                <a:latin typeface="Arial"/>
              </a:rPr>
              <a:t>Знать, для чего вы в команде</a:t>
            </a:r>
            <a:endParaRPr b="0" lang="en-US" sz="2900" spc="-1" strike="noStrike">
              <a:solidFill>
                <a:srgbClr val="330000"/>
              </a:solidFill>
              <a:latin typeface="Arial"/>
            </a:endParaRPr>
          </a:p>
          <a:p>
            <a:pPr marL="722160" indent="-342720">
              <a:lnSpc>
                <a:spcPct val="90000"/>
              </a:lnSpc>
              <a:spcBef>
                <a:spcPts val="726"/>
              </a:spcBef>
              <a:buClr>
                <a:srgbClr val="33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00"/>
                </a:solidFill>
                <a:latin typeface="Arial"/>
              </a:rPr>
              <a:t>Уметь взаимодействовать с другими командами</a:t>
            </a:r>
            <a:endParaRPr b="0" lang="en-US" sz="2900" spc="-1" strike="noStrike">
              <a:solidFill>
                <a:srgbClr val="330000"/>
              </a:solidFill>
              <a:latin typeface="Arial"/>
            </a:endParaRPr>
          </a:p>
          <a:p>
            <a:pPr marL="722160" indent="-342720">
              <a:lnSpc>
                <a:spcPct val="90000"/>
              </a:lnSpc>
              <a:spcBef>
                <a:spcPts val="726"/>
              </a:spcBef>
              <a:buClr>
                <a:srgbClr val="33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00"/>
                </a:solidFill>
                <a:latin typeface="Arial"/>
              </a:rPr>
              <a:t>Уметь вкладывать деньги и просчитывать риски</a:t>
            </a:r>
            <a:endParaRPr b="0" lang="en-US" sz="2900" spc="-1" strike="noStrike">
              <a:solidFill>
                <a:srgbClr val="330000"/>
              </a:solidFill>
              <a:latin typeface="Arial"/>
            </a:endParaRPr>
          </a:p>
          <a:p>
            <a:pPr marL="722160" indent="-342720">
              <a:lnSpc>
                <a:spcPct val="90000"/>
              </a:lnSpc>
              <a:spcBef>
                <a:spcPts val="726"/>
              </a:spcBef>
              <a:buClr>
                <a:srgbClr val="33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00"/>
                </a:solidFill>
                <a:latin typeface="Arial"/>
              </a:rPr>
              <a:t>Грамотно вести документацию команды</a:t>
            </a:r>
            <a:endParaRPr b="0" lang="en-US" sz="29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Оценка работы коман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00"/>
                </a:solidFill>
                <a:latin typeface="Arial"/>
              </a:rPr>
              <a:t>В нашей игре принята система </a:t>
            </a:r>
            <a:endParaRPr b="0" lang="en-US" sz="35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00"/>
                </a:solidFill>
                <a:latin typeface="Arial"/>
              </a:rPr>
              <a:t>тройной оценки:</a:t>
            </a:r>
            <a:endParaRPr b="0" lang="en-US" sz="35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33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00"/>
                </a:solidFill>
                <a:latin typeface="Arial"/>
              </a:rPr>
              <a:t>Оценка работы команды наблюдателем</a:t>
            </a:r>
            <a:endParaRPr b="0" lang="en-US" sz="35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33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00"/>
                </a:solidFill>
                <a:latin typeface="Arial"/>
              </a:rPr>
              <a:t>Оценка презентации и результатов работы членами жюри</a:t>
            </a:r>
            <a:endParaRPr b="0" lang="en-US" sz="35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33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00"/>
                </a:solidFill>
                <a:latin typeface="Arial"/>
              </a:rPr>
              <a:t>Оценка зрительской команды</a:t>
            </a:r>
            <a:endParaRPr b="0" lang="en-US" sz="3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СО-ВЕДУЩ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За каждой командой закреплен свой наблюдатель. Он оценивает вклад каждого участника в общий результат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44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В команду наблюдателей входят: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44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Шапошников Александр (ФМ-3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44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Медведников Андрей (ФМ-3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44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Курченко Екатерина (пр. ЭКЛ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44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СО-ВЕДУЩ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67652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ЖЮРИ: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Ганьшина Валентина Николаевна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Зуев Артем (ЭКМ-2)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Шаргородская Мария (БХ/Нитол-2)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Verdana"/>
              </a:rPr>
              <a:t>Экономические структуры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00"/>
                </a:solidFill>
                <a:latin typeface="Arial"/>
              </a:rPr>
              <a:t>БАНК:  Суродеев Игорь (ФМ-3)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00"/>
                </a:solidFill>
                <a:latin typeface="Arial"/>
              </a:rPr>
              <a:t>КАЗИНО:  Приходько Елена (ЕК-1), Кислун Ольга (ЛК-3)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00"/>
                </a:solidFill>
                <a:latin typeface="Arial"/>
              </a:rPr>
              <a:t>НАЛОГОВАЯ СЛУЖБА: Хохлачева Дарья (ЛК-1)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00"/>
                </a:solidFill>
                <a:latin typeface="Arial"/>
              </a:rPr>
              <a:t>БЛАГОТВОРИТЕЛЬНОСТЬ: Ганьшина Анна (ЕК-1)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09120" y="1905120"/>
            <a:ext cx="853452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Arial"/>
              </a:rPr>
              <a:t>Все задания вы выполняете,</a:t>
            </a:r>
            <a:endParaRPr b="0" lang="en-US" sz="72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Arial"/>
              </a:rPr>
              <a:t>работая в команде</a:t>
            </a:r>
            <a:endParaRPr b="0" lang="en-US" sz="7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cia</cp:lastModifiedBy>
  <dcterms:modified xsi:type="dcterms:W3CDTF">2007-05-17T13:54:18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