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698-0AD2-4216-BAD1-5A0C7EA1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437-801B-40B2-92D7-88B86DB2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193-4392-463F-86A4-D74243FD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2AE-6786-46D7-8D55-1827F168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6B03-1564-4761-8BF4-A86AF1E0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B8F8F-BF1D-4EAE-B02D-2F2B2047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C0D6-85DB-4567-B0E3-8B40867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CEBA0-5826-4AAE-908C-952FDDC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D6B19-CBB9-4AA5-AF71-45A5FECE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63CD1-9B0D-4119-8141-1401E56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BB0B-060B-4000-8878-F072097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A8E-5403-4EA7-ABD6-FFB177A7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D728D-1EA8-416A-9D59-4E91D48C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581A2-5104-4A13-B85B-897BB4D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7C935-9068-4A9A-B2F6-02E4C942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9E98-5C01-4E22-863E-E274739C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04E9C-F14C-4653-8BB6-5AF2E29B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4B3-4216-4469-8E42-8F15A06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2B9-3168-46FD-9E36-CC4414E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9C7-E768-4B09-BE49-D334BEE2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23B-3409-4949-8526-7C733EDA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B77-7296-410E-979B-F92A0DE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A87-80F7-493A-9642-3358496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6C0-DECA-4A1E-917F-10FE194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8120-FBE4-4BED-8614-EC377DE8D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1D7-E0C1-4DEB-AB93-7D1F66458B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Билгеле кил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Arial"/>
              </a:rPr>
              <a:t>ә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ч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Arial"/>
              </a:rPr>
              <a:t>ә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к заман хик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Arial"/>
              </a:rPr>
              <a:t>ә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я фигы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удущее определённое время глагола изъявительного накло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Образуется с помощью аффиксов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ачак; -</a:t>
            </a: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ә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основа оканчивается на гласный или звонкий соглас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л- булач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дер- 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ячак; -ячә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основа оканчивается на глухой согласный зв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гал- югалмаяч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ер- к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Билгеле кил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к заман хик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я фигыльне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ahoma"/>
              </a:rPr>
              <a:t>ң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         зат-сан бел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 төрл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ше</a:t>
            </a:r>
            <a:br>
              <a:rPr sz="2400"/>
            </a:b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Спряжение глагола будущего очевидного времен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лык форма                  Положительная фор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лек с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Мин язачакмы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ин язачакс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Ул язач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Мин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м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ин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с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Ул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ек с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Без язачакбы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ез язачакс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Алар язачак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Без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бе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ез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с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Алар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Билгеле кил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к заман хик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я фигыльне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ahoma"/>
              </a:rPr>
              <a:t>ң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        зат-сан бел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 төрл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ә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ше</a:t>
            </a:r>
            <a:br>
              <a:rPr sz="2400"/>
            </a:b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Спряжение глагола будущего очевидного времен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Юклык форма                         Отрицательная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лек са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Мин язмаячакмы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ин язмаячакс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Ул язмаяч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Мин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м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ин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с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Ул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ек с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Без язмаячакб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Сез язмаячакс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Алар язмаячак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Без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Сез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с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Алар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дер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Бу презинтацияне</a:t>
            </a:r>
            <a:br>
              <a:rPr sz="4000"/>
            </a:b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6нчы гомумбелем м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Arial"/>
              </a:rPr>
              <a:t>ә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кт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Arial"/>
              </a:rPr>
              <a:t>ә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бене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Tahoma"/>
              </a:rPr>
              <a:t>ң</a:t>
            </a:r>
            <a:br>
              <a:rPr sz="4000"/>
            </a:b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7б сыйныф укучысы</a:t>
            </a:r>
            <a:br>
              <a:rPr sz="4000"/>
            </a:b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Гатауллина Г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Tahoma"/>
              </a:rPr>
              <a:t>ү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з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  <a:ea typeface="Arial"/>
              </a:rPr>
              <a:t>ә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л яса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11T12:23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