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1ED-0ECD-4238-92F8-B057BEA5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7CD-92E9-44E9-B323-BBFD49F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B63-3D26-4182-ABDF-A2A138C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960-26AA-4CE8-B70A-3705475E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40F-223A-43D1-BF6B-E642C74B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F92-9E34-4AD1-9EC5-0403D87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303-05BD-4A9C-A37B-CAA40A7F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3A5-BC2B-4D10-B457-990A587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D42-651A-4A19-9EC9-2AA3289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B7D-C0F3-45EB-A63A-0D79D85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239-7818-41B4-A00F-1F727F9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1BE-E2AC-4070-8C75-1493D39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29B0-188A-4C84-A517-DE516F22A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Янсыбы башлангыч м</a:t>
            </a: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ә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т</a:t>
            </a: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ә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бе укытучысы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Хаматдинова М</a:t>
            </a: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ө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шид</a:t>
            </a: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ә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Габделх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янцыбы.bmp"/>
          <p:cNvPicPr/>
          <p:nvPr/>
        </p:nvPicPr>
        <p:blipFill>
          <a:blip r:embed="rId2"/>
          <a:stretch/>
        </p:blipFill>
        <p:spPr>
          <a:xfrm>
            <a:off x="291960" y="1579680"/>
            <a:ext cx="3895920" cy="3022560"/>
          </a:xfrm>
          <a:prstGeom prst="rect">
            <a:avLst/>
          </a:prstGeom>
          <a:ln w="0">
            <a:noFill/>
          </a:ln>
        </p:spPr>
      </p:pic>
      <p:sp>
        <p:nvSpPr>
          <p:cNvPr id="43" name="Двойная волна 7"/>
          <p:cNvSpPr/>
          <p:nvPr/>
        </p:nvSpPr>
        <p:spPr>
          <a:xfrm>
            <a:off x="4786200" y="2643120"/>
            <a:ext cx="3571920" cy="2724840"/>
          </a:xfrm>
          <a:custGeom>
            <a:avLst/>
            <a:gdLst>
              <a:gd name="textAreaLeft" fmla="*/ 0 w 3571920"/>
              <a:gd name="textAreaRight" fmla="*/ 3572280 w 3571920"/>
              <a:gd name="textAreaTop" fmla="*/ 340560 h 2724840"/>
              <a:gd name="textAreaBottom" fmla="*/ 2384280 h 2724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Кече яшьтәге мәктәп балаларын сәнгатьле сөйләмгә өйрәт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C:\Documents and Settings\Ilnar BKSH\Рабочий стол\фотолар\100CANON\IMG_1025.JPG"/>
          <p:cNvPicPr/>
          <p:nvPr/>
        </p:nvPicPr>
        <p:blipFill>
          <a:blip r:embed="rId4"/>
          <a:stretch/>
        </p:blipFill>
        <p:spPr>
          <a:xfrm>
            <a:off x="2627280" y="3419640"/>
            <a:ext cx="167652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Сәнгатьле сөйләүгә карата куелган таләплә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1. Сөйләм тизлеген аерымлый 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2.Сөйләм ритмы камиллегенә омты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3. Төп тон – әдәби әсәрләрнең нигез яңгырашы төшенчәсен булд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4. Интонация төрлелегенә иреш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60160"/>
            <a:ext cx="8229960" cy="571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70c0"/>
                </a:solidFill>
                <a:latin typeface="Calibri"/>
              </a:rPr>
              <a:t>Сәнгатьле сөйләмгә өйрәтү алымна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Сөйләү үрнә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Сөйләү күнекмәләрен үстер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Сулыш урнаштыру һәм дикция булдыру юнәлешендә эшлә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Әдәби әйтелешне күнектер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37200" y="454680"/>
            <a:ext cx="7869600" cy="10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tt-RU" sz="3200" spc="-1" strike="noStrike">
                <a:solidFill>
                  <a:srgbClr val="0070c0"/>
                </a:solidFill>
                <a:latin typeface="Calibri"/>
              </a:rPr>
              <a:t>Сулыш урнаштыру һәм дикция булдыру юнәлешендә эшләү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изәйткечл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Карга кара,кара карг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Каррык-каррык каркылдам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Күпер башында күп күркә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Күп күркәгә кирәк күп көрп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5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7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21280" y="450000"/>
            <a:ext cx="4200120" cy="74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70c0"/>
                </a:solidFill>
                <a:latin typeface="Calibri"/>
              </a:rPr>
              <a:t>Сәнгатьле сөйләм түгәрәгенд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A18CB5ED"/>
          <p:cNvPicPr/>
          <p:nvPr/>
        </p:nvPicPr>
        <p:blipFill>
          <a:blip r:embed="rId2"/>
          <a:stretch/>
        </p:blipFill>
        <p:spPr>
          <a:xfrm>
            <a:off x="390600" y="1609560"/>
            <a:ext cx="4297320" cy="279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IMG_1038.JPG"/>
          <p:cNvPicPr/>
          <p:nvPr/>
        </p:nvPicPr>
        <p:blipFill>
          <a:blip r:embed="rId3"/>
          <a:stretch/>
        </p:blipFill>
        <p:spPr>
          <a:xfrm>
            <a:off x="5614920" y="3822840"/>
            <a:ext cx="1792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450000"/>
            <a:ext cx="5375880" cy="74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70c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70c0"/>
                </a:solidFill>
                <a:latin typeface="Calibri"/>
              </a:rPr>
              <a:t>Шигырь сөйләү бәйгесенд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F6AB3CEB"/>
          <p:cNvPicPr/>
          <p:nvPr/>
        </p:nvPicPr>
        <p:blipFill>
          <a:blip r:embed="rId2"/>
          <a:stretch/>
        </p:blipFill>
        <p:spPr>
          <a:xfrm>
            <a:off x="1670040" y="1822320"/>
            <a:ext cx="41576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14600" y="399240"/>
            <a:ext cx="4114800" cy="3044880"/>
          </a:xfrm>
          <a:prstGeom prst="rect">
            <a:avLst/>
          </a:prstGeom>
          <a:solidFill>
            <a:srgbClr val="dce6f2"/>
          </a:solidFill>
          <a:ln w="1260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alibri"/>
              </a:rPr>
              <a:t>Игътибарыгыз өчен рәхмә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51:57Z</dcterms:created>
  <dc:creator>Zver</dc:creator>
  <dc:description/>
  <dc:language>en-US</dc:language>
  <cp:lastModifiedBy>KIMPRO</cp:lastModifiedBy>
  <dcterms:modified xsi:type="dcterms:W3CDTF">2015-01-11T18:43:15Z</dcterms:modified>
  <cp:revision>29</cp:revision>
  <dc:subject/>
  <dc:title>Янсыбы башлангыч мәктәбе укытучысы  Хаматдинова Мөршидә Габделхаевна</dc:title>
</cp:coreProperties>
</file>