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945-8997-4FB3-9E8F-14726E2D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C18-FD9A-4A1B-806A-03185686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1CC-E538-4A52-946A-C49122A1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8E2-4D81-4725-9A7E-B3AE2BF2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F74-923F-4E12-AF14-D66026DD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D22-F106-4097-B08B-A53B9DD2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ABC-8C24-4960-8D5A-177D266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8F9-CC02-4AB0-A304-4B620080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674-63B5-4A57-AF9F-297D1EF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F43-EBCE-45B5-8DD2-951FA4CD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5AD-80AC-4150-9117-1162ECEE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DB6-C5AC-4E6C-B7E2-6D2BEA3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1AD-3774-4C60-BBF4-2C1604BF40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Ключевые сл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8712360" cy="456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Users\Asus\Desktop\rebenok_risuet.gif"/>
          <p:cNvPicPr/>
          <p:nvPr/>
        </p:nvPicPr>
        <p:blipFill>
          <a:blip r:embed="rId2"/>
          <a:stretch/>
        </p:blipFill>
        <p:spPr>
          <a:xfrm>
            <a:off x="7245360" y="333360"/>
            <a:ext cx="132228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8:05:51Z</dcterms:created>
  <dc:creator>Полякова Ирина</dc:creator>
  <dc:description/>
  <dc:language>en-US</dc:language>
  <cp:lastModifiedBy>Asus</cp:lastModifiedBy>
  <dcterms:modified xsi:type="dcterms:W3CDTF">2013-02-26T05:00:14Z</dcterms:modified>
  <cp:revision>288</cp:revision>
  <dc:subject/>
  <dc:title>Образовательное учреждение:  МОУ «СОШ №54»</dc:title>
</cp:coreProperties>
</file>