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9A514-460D-47AE-8729-07BE74E60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91FD-18EE-481E-BE72-6E83A9CB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CB5BA-FBCC-4A72-A8A2-D703EC93C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16227-F5CF-444F-B551-B40BFDF6F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7E6EE-FE4E-4E63-A87C-1BF9EA608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C6E42-D09A-47FC-9136-8E278D35F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E2475-CAC0-468F-A51A-0C0B82D9B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8D842-F326-45CF-89E6-09D8000FD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5F30C-F5B5-42C9-9E54-D95E53E1D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789B5-A5B8-436C-8C6D-6692F8661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2D538-97D8-4706-A07F-E23823B7D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5674D-F165-486F-ADC5-EC4EDBF9F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F56B7-7FE4-4974-A5C1-87AB87730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100D5-F8CA-41CF-BC5F-DCE4937A9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B88E6-3F8B-4E2A-8C3F-8B8989B89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FE9B2-6D67-4121-B39A-741087C91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1D5D6-4B85-494C-B0F5-DD60A899D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D276AC-81B0-4276-B3FC-BD4B4AF611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31421-3503-4AC9-BFA8-22BCCFBA0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B5175-06AD-4910-9EA2-E0804CB64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7B763-7F6A-44E2-925B-5AD5C657D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55B81-A326-4155-BD86-89352E802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47978-1A60-4087-A214-EECF2ED9D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CA8C4-EA6B-4017-ADEC-3180E196A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D2800-6FFB-4C64-83C0-BF87FB177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505FB-16E6-42A3-AB94-6FB6CF369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4CF08-1737-4127-8F02-3F39320E4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F7F45B-189D-4FAE-9AEA-2CFACE155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DFB774-F859-4E54-9514-57BC2E903F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C9CBBB-A9C6-46A8-8C5B-26F1753603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576202-DD7A-4709-9586-EB960C12C1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17334A-1A36-4A9C-BCE5-A51309A3B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EC969-5E5A-4B35-AB7D-4D47CF1AF2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E0302-0C43-4348-A243-50F14A9AC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69BEB-AAC4-4326-9CB1-1FC48B807D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31664C-F8EE-4A4A-B182-B5DD76DBED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B35F60-BE86-47A0-9188-97D0D96FD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03E26-32DE-4996-BE89-193BCF1DB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C07C0-05AA-496F-80E1-BA6B24D21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6514F-70B6-4AC5-8CD2-EC5490F41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AF17C-001B-499E-B1E1-7913247F8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3A58C2-7FB3-44D7-9DD9-431F2AFF7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30C479-B30A-4F2F-8362-87E9E06127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52F8-32D1-45CB-9CA6-C166F3F9F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19A72-4807-4F9B-96EA-86C6D5A82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F47F-AEFA-4EF5-AF8A-5AD6FED81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52A6-FF87-47F7-BA8A-154E165DC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ffac"/>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B1BE-6F1A-430D-A6BE-54616AD15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ece00">
                  <a:alpha val="45098"/>
                </a:srgbClr>
              </a:gs>
              <a:gs pos="100000">
                <a:srgbClr val="00cb43">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9436">
                  <a:alpha val="45098"/>
                </a:srgbClr>
              </a:gs>
              <a:gs pos="100000">
                <a:srgbClr val="ffff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b050"/>
                </a:solidFill>
                <a:latin typeface="Calibri"/>
              </a:rPr>
              <a:t>Click to edit the title text format</a:t>
            </a:r>
            <a:endParaRPr b="0" lang="en-US" sz="5000" spc="-1" strike="noStrike">
              <a:solidFill>
                <a:srgbClr val="00b05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0843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fff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0b05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b05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a84c"/>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a84c"/>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a84c"/>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97AE-945A-479A-A1C2-F8C534C9D8DB}" type="slidenum">
              <a:rPr b="0" lang="ru-RU" sz="1200" spc="-1" strike="noStrike">
                <a:solidFill>
                  <a:srgbClr val="00a84c"/>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ece00">
                  <a:alpha val="45098"/>
                </a:srgbClr>
              </a:gs>
              <a:gs pos="100000">
                <a:srgbClr val="00cb43">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9436">
                  <a:alpha val="45098"/>
                </a:srgbClr>
              </a:gs>
              <a:gs pos="100000">
                <a:srgbClr val="ffff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ffac"/>
                </a:solidFill>
                <a:latin typeface="Calibri"/>
              </a:rPr>
              <a:t>Click to edit the title text format</a:t>
            </a:r>
            <a:endParaRPr b="0" lang="en-US" sz="5000" spc="-1" strike="noStrike">
              <a:solidFill>
                <a:srgbClr val="67ffa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0843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fff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0b05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b05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2f3a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2f3a4"/>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2f3a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99AD-26B5-41E0-8702-0A6B6A871E82}" type="slidenum">
              <a:rPr b="0" lang="ru-RU" sz="1200" spc="-1" strike="noStrike">
                <a:solidFill>
                  <a:srgbClr val="62f3a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ece00">
                  <a:alpha val="45098"/>
                </a:srgbClr>
              </a:gs>
              <a:gs pos="100000">
                <a:srgbClr val="00cb43">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9436">
                  <a:alpha val="45098"/>
                </a:srgbClr>
              </a:gs>
              <a:gs pos="100000">
                <a:srgbClr val="ffff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ffac"/>
                </a:solidFill>
                <a:latin typeface="Calibri"/>
              </a:rPr>
              <a:t>Click to edit the title text format</a:t>
            </a:r>
            <a:endParaRPr b="0" lang="en-US" sz="5000" spc="-1" strike="noStrike">
              <a:solidFill>
                <a:srgbClr val="67ffa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0843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fff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0b05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b05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2f3a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2f3a4"/>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2f3a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CFD9-BD73-4FC7-8398-4DC8D64F63EF}" type="slidenum">
              <a:rPr b="0" lang="ru-RU" sz="1200" spc="-1" strike="noStrike">
                <a:solidFill>
                  <a:srgbClr val="62f3a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ece00">
                  <a:alpha val="45098"/>
                </a:srgbClr>
              </a:gs>
              <a:gs pos="100000">
                <a:srgbClr val="00cb43">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9436">
                  <a:alpha val="45098"/>
                </a:srgbClr>
              </a:gs>
              <a:gs pos="100000">
                <a:srgbClr val="ffff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b050"/>
                </a:solidFill>
                <a:latin typeface="Calibri"/>
              </a:rPr>
              <a:t>Click to edit the title text format</a:t>
            </a:r>
            <a:endParaRPr b="0" lang="en-US" sz="5000" spc="-1" strike="noStrike">
              <a:solidFill>
                <a:srgbClr val="00b05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0843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fff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0b05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b05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a84c"/>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a84c"/>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a84c"/>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E068-576E-446C-B734-9C87A84F4C20}" type="slidenum">
              <a:rPr b="0" lang="ru-RU" sz="1200" spc="-1" strike="noStrike">
                <a:solidFill>
                  <a:srgbClr val="00a84c"/>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858960" y="639720"/>
            <a:ext cx="8729640" cy="4681440"/>
          </a:xfrm>
          <a:prstGeom prst="rect">
            <a:avLst/>
          </a:prstGeom>
          <a:ln w="0">
            <a:noFill/>
          </a:ln>
        </p:spPr>
      </p:pic>
      <p:pic>
        <p:nvPicPr>
          <p:cNvPr id="196" name="Picture 2" descr="H:\ml.gif"/>
          <p:cNvPicPr/>
          <p:nvPr/>
        </p:nvPicPr>
        <p:blipFill>
          <a:blip r:embed="rId2"/>
          <a:stretch/>
        </p:blipFill>
        <p:spPr>
          <a:xfrm>
            <a:off x="428760" y="3500280"/>
            <a:ext cx="3085920" cy="3013200"/>
          </a:xfrm>
          <a:prstGeom prst="rect">
            <a:avLst/>
          </a:prstGeom>
          <a:ln w="0">
            <a:noFill/>
          </a:ln>
        </p:spPr>
      </p:pic>
      <p:sp>
        <p:nvSpPr>
          <p:cNvPr id="197" name="Прямоугольник 3"/>
          <p:cNvSpPr/>
          <p:nvPr/>
        </p:nvSpPr>
        <p:spPr>
          <a:xfrm>
            <a:off x="3889800" y="5773680"/>
            <a:ext cx="4489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аботу выполнила ученица 5 класса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аблина Наст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H:\oopt.gif"/>
          <p:cNvPicPr/>
          <p:nvPr/>
        </p:nvPicPr>
        <p:blipFill>
          <a:blip r:embed="rId1"/>
          <a:stretch/>
        </p:blipFill>
        <p:spPr>
          <a:xfrm>
            <a:off x="0" y="0"/>
            <a:ext cx="91836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Заголовок 1" descr=""/>
          <p:cNvPicPr/>
          <p:nvPr/>
        </p:nvPicPr>
        <p:blipFill>
          <a:blip r:embed="rId1"/>
          <a:stretch/>
        </p:blipFill>
        <p:spPr>
          <a:xfrm>
            <a:off x="1871640" y="285840"/>
            <a:ext cx="3870360" cy="1944720"/>
          </a:xfrm>
          <a:prstGeom prst="rect">
            <a:avLst/>
          </a:prstGeom>
          <a:ln w="0">
            <a:noFill/>
          </a:ln>
        </p:spPr>
      </p:pic>
      <p:sp>
        <p:nvSpPr>
          <p:cNvPr id="200" name="PlaceHolder 1"/>
          <p:cNvSpPr>
            <a:spLocks noGrp="1"/>
          </p:cNvSpPr>
          <p:nvPr>
            <p:ph/>
          </p:nvPr>
        </p:nvSpPr>
        <p:spPr>
          <a:xfrm>
            <a:off x="4714920" y="1785600"/>
            <a:ext cx="3929040" cy="4714920"/>
          </a:xfrm>
          <a:prstGeom prst="rect">
            <a:avLst/>
          </a:prstGeom>
          <a:solidFill>
            <a:srgbClr val="000000"/>
          </a:solidFill>
          <a:ln w="38160">
            <a:solidFill>
              <a:srgbClr val="ffffff"/>
            </a:solidFill>
            <a:miter/>
          </a:ln>
          <a:effectLst>
            <a:outerShdw dist="38160" dir="5400000" blurRad="0" rotWithShape="0">
              <a:srgbClr val="000000">
                <a:alpha val="48000"/>
              </a:srgbClr>
            </a:outerShdw>
          </a:effectLst>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onstantia"/>
              </a:rPr>
              <a:t>         </a:t>
            </a:r>
            <a:r>
              <a:rPr b="0" lang="ru-RU" sz="3200" spc="-1" strike="noStrike">
                <a:solidFill>
                  <a:srgbClr val="002060"/>
                </a:solidFill>
                <a:latin typeface="Constantia"/>
              </a:rPr>
              <a:t>Визитка.</a:t>
            </a:r>
            <a:endParaRPr b="0" lang="en-US" sz="32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onstantia"/>
              </a:rPr>
              <a:t> </a:t>
            </a:r>
            <a:r>
              <a:rPr b="0" lang="ru-RU" sz="2800" spc="-1" strike="noStrike">
                <a:solidFill>
                  <a:srgbClr val="ffffff"/>
                </a:solidFill>
                <a:latin typeface="Constantia"/>
              </a:rPr>
              <a:t> </a:t>
            </a:r>
            <a:r>
              <a:rPr b="0" lang="ru-RU" sz="2400" spc="-1" strike="noStrike">
                <a:solidFill>
                  <a:srgbClr val="ffffff"/>
                </a:solidFill>
                <a:latin typeface="Constantia"/>
              </a:rPr>
              <a:t>Лебедь- шипун, птица</a:t>
            </a: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отряда гусеобразных. Длина тела около 1,5 м. Оперение белое, у молодых птиц серое; вздутое основание клюва и кончик — чёрные, остальное — красное. </a:t>
            </a:r>
            <a:endParaRPr b="0" lang="en-US" sz="2400" spc="-1" strike="noStrike">
              <a:solidFill>
                <a:srgbClr val="ffffff"/>
              </a:solidFill>
              <a:latin typeface="Constantia"/>
            </a:endParaRPr>
          </a:p>
        </p:txBody>
      </p:sp>
      <p:pic>
        <p:nvPicPr>
          <p:cNvPr id="201" name="Picture 2" descr="C:\Documents and Settings\Admin\Рабочий стол\iCAG43K63.jpg"/>
          <p:cNvPicPr/>
          <p:nvPr/>
        </p:nvPicPr>
        <p:blipFill>
          <a:blip r:embed="rId2"/>
          <a:stretch/>
        </p:blipFill>
        <p:spPr>
          <a:xfrm>
            <a:off x="285840" y="3714840"/>
            <a:ext cx="3429000" cy="2582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714240" y="2000160"/>
            <a:ext cx="7772400" cy="3438720"/>
          </a:xfrm>
          <a:prstGeom prst="rect">
            <a:avLst/>
          </a:prstGeom>
          <a:noFill/>
          <a:ln w="0">
            <a:noFill/>
          </a:ln>
        </p:spPr>
        <p:txBody>
          <a:bodyPr lIns="45720" rIns="45720" anchor="t">
            <a:normAutofit fontScale="99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Распространён в Европе, Малой, Средней и Центральной Азии; в СССР — в Эстонии, Литве, низовьях Дуная, Днестра, Волги, в Юго-Западной Сибири, Казахстане, Средней Азии и Забайкалье. Обитает на больших озёрах с зарослями тростника. Зимует на Средиземном, Чёрном и Каспийском морях и в Средней Азии. В кладке 7— 9 яиц, насиживает 35 сут. Питается водными растениями. Охота запрещена, охраняется законом. Одомашненных Ш. содержат в парках.</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Заголовок 1" descr=""/>
          <p:cNvPicPr/>
          <p:nvPr/>
        </p:nvPicPr>
        <p:blipFill>
          <a:blip r:embed="rId1"/>
          <a:stretch/>
        </p:blipFill>
        <p:spPr>
          <a:xfrm>
            <a:off x="1457280" y="360360"/>
            <a:ext cx="3084480" cy="1852560"/>
          </a:xfrm>
          <a:prstGeom prst="rect">
            <a:avLst/>
          </a:prstGeom>
          <a:ln w="0">
            <a:noFill/>
          </a:ln>
        </p:spPr>
      </p:pic>
      <p:sp>
        <p:nvSpPr>
          <p:cNvPr id="204" name="PlaceHolder 1"/>
          <p:cNvSpPr>
            <a:spLocks noGrp="1"/>
          </p:cNvSpPr>
          <p:nvPr>
            <p:ph/>
          </p:nvPr>
        </p:nvSpPr>
        <p:spPr>
          <a:xfrm>
            <a:off x="4500360" y="1785600"/>
            <a:ext cx="4343400" cy="4714920"/>
          </a:xfrm>
          <a:prstGeom prst="rect">
            <a:avLst/>
          </a:prstGeom>
          <a:solidFill>
            <a:srgbClr val="00843c"/>
          </a:solidFill>
          <a:ln w="25560">
            <a:solidFill>
              <a:srgbClr val="005f29"/>
            </a:solidFill>
            <a:miter/>
          </a:ln>
        </p:spPr>
        <p:txBody>
          <a:bodyPr lIns="45720" rIns="45720" anchor="t">
            <a:normAutofit fontScale="93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nstantia"/>
              </a:rPr>
              <a:t>Места обитания.</a:t>
            </a:r>
            <a:r>
              <a:rPr b="0" lang="ru-RU" sz="2200" spc="-1" strike="noStrike">
                <a:solidFill>
                  <a:srgbClr val="ffffff"/>
                </a:solidFill>
                <a:latin typeface="Constantia"/>
              </a:rPr>
              <a:t> Тундроподобные (мари), горно-лесные и пойменные участки с обилием наземных и древесных лишайников, грибов и других кормовых объектов.</a:t>
            </a:r>
            <a:endParaRPr b="0" lang="en-US" sz="2200" spc="-1" strike="noStrike">
              <a:solidFill>
                <a:srgbClr val="ffffff"/>
              </a:solidFill>
              <a:latin typeface="Constanti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Constantia"/>
              </a:rPr>
              <a:t>Северные олени населяют как равнинные леса, так и горные. В горах зимой олени чаще бывают в верхней части изреженного лесного пояса, а летом — в гольцах. Олени горной и равнинной тайги не совершают длинных кочевок. Северные олени хорошо плавают </a:t>
            </a:r>
            <a:endParaRPr b="0" lang="en-US" sz="2200" spc="-1" strike="noStrike">
              <a:solidFill>
                <a:srgbClr val="ffffff"/>
              </a:solidFill>
              <a:latin typeface="Constanti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05" name="Рисунок 3" descr="http://www.sakhalin.ru/boomerang/red%20book/an/red_info/add/016.jpg"/>
          <p:cNvPicPr/>
          <p:nvPr/>
        </p:nvPicPr>
        <p:blipFill>
          <a:blip r:embed="rId2"/>
          <a:stretch/>
        </p:blipFill>
        <p:spPr>
          <a:xfrm>
            <a:off x="500040" y="3714840"/>
            <a:ext cx="3429000" cy="27622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0280" y="1213920"/>
            <a:ext cx="7772400" cy="4929480"/>
          </a:xfrm>
          <a:prstGeom prst="rect">
            <a:avLst/>
          </a:prstGeom>
          <a:noFill/>
          <a:ln w="0">
            <a:noFill/>
          </a:ln>
        </p:spPr>
        <p:txBody>
          <a:bodyPr lIns="45720" rIns="45720" anchor="t">
            <a:normAutofit fontScale="96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Constantia"/>
              </a:rPr>
              <a:t> </a:t>
            </a:r>
            <a:r>
              <a:rPr b="0" i="1" lang="ru-RU" sz="2200" spc="-1" strike="noStrike">
                <a:solidFill>
                  <a:srgbClr val="ffffff"/>
                </a:solidFill>
                <a:latin typeface="Constantia"/>
              </a:rPr>
              <a:t>Летом олени кормятся травой, особенно охотно едят такие растения, как пушица, хвощи, осоки, бобовые, щавель, часто подолгу кормятся листьями ив, отыскивают грибы. После образования снежного покрова олени переходят на питание ягелем — этот корм составляет основу питания северного оленя в течение 9 месяцев. Пользуясь великолепно развитым обонянием, они очень точно находят под снегом и раскапывают не только ягель, но и осоки по берегам рек или ягодные кустарники и грибы. </a:t>
            </a:r>
            <a:r>
              <a:rPr b="1" lang="ru-RU" sz="2200" spc="-1" strike="noStrike">
                <a:solidFill>
                  <a:srgbClr val="ffffff"/>
                </a:solidFill>
                <a:latin typeface="Constantia"/>
              </a:rPr>
              <a:t>Размножение. </a:t>
            </a:r>
            <a:r>
              <a:rPr b="0" lang="ru-RU" sz="2200" spc="-1" strike="noStrike">
                <a:solidFill>
                  <a:srgbClr val="ffffff"/>
                </a:solidFill>
                <a:latin typeface="Constantia"/>
              </a:rPr>
              <a:t>Начало гона на Сахалине наблюдается в середине октября. Продолжительность беременности 223 дня. Отёл приходится на вторую декаду мая. Размножающиеся самки за сезон приносят, как правило, одного телёнка (3,4,5).</a:t>
            </a:r>
            <a:endParaRPr b="0" lang="en-US" sz="2200" spc="-1" strike="noStrike">
              <a:solidFill>
                <a:srgbClr val="ffffff"/>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3:16:48Z</dcterms:created>
  <dc:creator>Admin</dc:creator>
  <dc:description/>
  <dc:language>en-US</dc:language>
  <cp:lastModifiedBy>Kolesnikova</cp:lastModifiedBy>
  <dcterms:modified xsi:type="dcterms:W3CDTF">2015-01-11T14:07:43Z</dcterms:modified>
  <cp:revision>6</cp:revision>
  <dc:subject/>
  <dc:title>Красная книга Новосибирской области.</dc:title>
</cp:coreProperties>
</file>