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393-B9CB-44E5-B016-B768D63F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2AA-7320-421D-A6CE-8DCC8EB1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932-3680-4676-89AF-FC3BFC16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854-21A2-4653-966A-C17CC04B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9E0-EDE8-4C0B-8092-0E148AE4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43F-F198-4ABB-BB95-6984671B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FB0-CB61-4DF0-9D53-3B853BF9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E4F-A78F-4157-A467-D9C1BC87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3AF-D447-45EA-8574-F0D633E2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5B4-0628-48DA-9C2E-CCBF09F8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019-BBEA-4CE7-9597-17D7B164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A0D-BC15-49BD-A981-B163F36E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25F7-5F46-4768-9E6A-A2D4C056C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0;&#1085;&#1075;&#1083;&#1080;&#1081;&#1089;&#1082;&#1080;&#1081;_&#1103;&#1079;&#1099;&#1082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стер-класс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Как прикрепить документы на сайт через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oogle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диск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9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БОУ школа №60 Выборгского района Санкт-Петербург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сказова Н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4437000"/>
            <a:ext cx="914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мастер-класс поможет педагогам и учащимся овладеть облачным пространством Google.  На Google-диске даже самые важные файлы будут в безопасности. С ними можно работать на всех устройствах в любое время. В нем можно хранить документы различных форматов. Google может быть не только почтовым сервисом, в нем есть огромное количество приложений. Создавая сайт, я со своими коллегами столкнулась с проблемой, как опубликовать документы на сайте. Изучив Google пространство, решила создать подробный мастер-класс о том как сохранить документ на Google-диск и опубликовать на сай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роется окно, выберите файл для загрузк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0" t="0" r="0" b="41683"/>
          <a:stretch/>
        </p:blipFill>
        <p:spPr>
          <a:xfrm>
            <a:off x="250920" y="1989000"/>
            <a:ext cx="7921440" cy="3462480"/>
          </a:xfrm>
          <a:prstGeom prst="rect">
            <a:avLst/>
          </a:prstGeom>
          <a:ln w="0">
            <a:noFill/>
          </a:ln>
        </p:spPr>
      </p:pic>
      <p:sp>
        <p:nvSpPr>
          <p:cNvPr id="69" name="Заголовок 1"/>
          <p:cNvSpPr/>
          <p:nvPr/>
        </p:nvSpPr>
        <p:spPr>
          <a:xfrm>
            <a:off x="324000" y="5715000"/>
            <a:ext cx="8229600" cy="1143000"/>
          </a:xfrm>
          <a:prstGeom prst="rect">
            <a:avLst/>
          </a:prstGeom>
          <a:solidFill>
            <a:srgbClr val="ffc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жмите ОТКРЫ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3851280" y="4653000"/>
            <a:ext cx="720720" cy="288720"/>
          </a:xfrm>
          <a:prstGeom prst="rect">
            <a:avLst/>
          </a:prstGeom>
          <a:noFill/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ле загрузки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строить доступ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136000" cy="4457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7596360" y="5589720"/>
            <a:ext cx="7999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ключить доступ по ссыл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4457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4932360" y="3357720"/>
            <a:ext cx="13716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57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ключить доступ всем  в интерне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064360" cy="4457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578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сылку на место хранения файла скопиров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писать название файла 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делить правой кнопкой мыш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44578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4500720" y="2349360"/>
            <a:ext cx="21564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395280" y="571500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АВКА-СС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рать меню ВЕБ-АДР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457880"/>
          </a:xfrm>
          <a:prstGeom prst="rect">
            <a:avLst/>
          </a:prstGeom>
          <a:ln w="0">
            <a:noFill/>
          </a:ln>
        </p:spPr>
      </p:pic>
      <p:sp>
        <p:nvSpPr>
          <p:cNvPr id="89" name="Заголовок 1"/>
          <p:cNvSpPr/>
          <p:nvPr/>
        </p:nvSpPr>
        <p:spPr>
          <a:xfrm>
            <a:off x="468360" y="5229360"/>
            <a:ext cx="8229600" cy="1628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ой кнопкой мыши выбрать в выпадающем меню пункт ВСТАВ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кумент храниться на облачном диске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gle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имеет ссылку на сайте, доступен для просмотр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скачив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Google Дис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нгл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Google Drive) — облачное хранилище данных, принадлежащее компании Google Inc., позволяющее пользователям хранить свои данные на серверах в облаке и делиться ими с другими пользователями в Интернете. После активации заменяет собой Документы Google.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alibri"/>
              </a:rPr>
              <a:t>[1]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Хранение, синхронизация, общий досту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а Google Диске даже самые важные файлы будут в безопасности. Вы сможете работать с ними на всех своих устройствах в любое врем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граниченное пространство для хран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аждому пользователю предоставляется 30 ГБ для хранения данных 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Диска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Gmail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, а если этого окажется недостаточно, за 10 долларов США в месяц за одного пользователя можно приобрести неограниченное пространство. Если в аккаунте менее пяти пользователей, каждому предоставляется 1 Т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втоматическая синхронизация с компьютеро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хронизируйте данные с папкой Диска на компьютере. Все изменения, внесенные локально, автоматически применяются к файлам на Диске, и наобор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8f8f8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смотр файлов без специального П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тите открыть файл, но нет нужного приложения? Диск поддерживает более 40 популярных форматов, включая видео, картинки, документы Microsoft Office и PD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ww.google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7596360" cy="42703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7885080" y="3068640"/>
            <a:ext cx="50328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йдите на сай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регистрируйтесь на сай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11040" y="1892160"/>
            <a:ext cx="8832960" cy="4965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771640" y="3068640"/>
            <a:ext cx="4104000" cy="431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solidFill>
            <a:srgbClr val="6600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Google выберите список приложе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0" t="0" r="0" b="55433"/>
          <a:stretch/>
        </p:blipFill>
        <p:spPr>
          <a:xfrm>
            <a:off x="611280" y="2421000"/>
            <a:ext cx="8229600" cy="3106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7451640" y="3357720"/>
            <a:ext cx="35892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539640" y="57150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тем выберите приложение Д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7667640" y="4005360"/>
            <a:ext cx="720720" cy="1008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ерить меню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ЗДАТЬ-ЗАГРУЗИ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0" t="0" r="0" b="20846"/>
          <a:stretch/>
        </p:blipFill>
        <p:spPr>
          <a:xfrm>
            <a:off x="468360" y="1557360"/>
            <a:ext cx="8207280" cy="424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611280" y="3141720"/>
            <a:ext cx="1152360" cy="358560"/>
          </a:xfrm>
          <a:prstGeom prst="rect">
            <a:avLst/>
          </a:prstGeom>
          <a:noFill/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21:32:17Z</dcterms:created>
  <dc:creator>805797</dc:creator>
  <dc:description/>
  <dc:language>en-US</dc:language>
  <cp:lastModifiedBy>805797</cp:lastModifiedBy>
  <dcterms:modified xsi:type="dcterms:W3CDTF">2015-01-07T16:03:14Z</dcterms:modified>
  <cp:revision>19</cp:revision>
  <dc:subject/>
  <dc:title>Методическая разработка. «Как прикрепить документы на сайт через Google-диск» Рассказова Н.Н.</dc:title>
</cp:coreProperties>
</file>