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060-467C-4B27-95D0-F2D4C7C0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E3A-DF99-48CC-A6C0-320883F6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AD6-1451-4C33-BD94-9A3E9829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D77-3120-452B-A443-A7821AA0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D074-8F18-4B12-87D3-32F1EC4F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E991-CF08-4BE1-9C00-349E0FE6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A276-4248-4084-86DC-15D30A6E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5E5D-975D-495A-8B8A-0B99F52C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1533-7DB0-414A-8432-3F7D012C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4AEB-C312-4BC9-B991-802DD04D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F3F2-211A-42C2-93BC-9C0EB6BD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15C-5618-45EA-A6C2-A9CF2F2A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2DC6-62E4-4AC6-9F14-31FFC33B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33B5-B87E-489C-9E3C-D1856C1A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0BBB-F4FA-45FD-9965-5454DE8D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0247-51C4-4FF1-840D-73DA016D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507C-B5F9-4E61-B824-9147FBB6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47C-F191-4768-8EB0-9933EB68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E29-FBAB-407F-86F9-695A6FD9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29C-EFCA-4047-9E8B-2DD42C8B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B8B-C5C7-48F1-A38C-8C222F1E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388-775F-486F-83D9-AFC4AE3A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C11-C1E8-459B-ABAB-AEF9C795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361-D9C3-4791-95A9-8F44CD89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6052-F6DD-4BA1-B866-A90F66E9F7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D4B9-4E85-4F88-9FF4-FE9C44DF71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147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a500"/>
                </a:solidFill>
                <a:latin typeface="Times New Roman"/>
              </a:rPr>
              <a:t>ФИЗИКА</a:t>
            </a:r>
            <a:br>
              <a:rPr sz="6000"/>
            </a:br>
            <a:r>
              <a:rPr b="1" lang="en-US" sz="6000" spc="-1" strike="noStrike">
                <a:solidFill>
                  <a:srgbClr val="f8a500"/>
                </a:solidFill>
                <a:latin typeface="Times New Roman"/>
              </a:rPr>
              <a:t>10 класс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736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Учебник: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.А. Тихомирова, Б.М. Яворский. Физика. 10 класс.М. Мнемозина, 2010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a500"/>
                </a:solidFill>
                <a:latin typeface="Arial"/>
              </a:rPr>
              <a:t>План урок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ды энер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он сохранения энер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ы решения зада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a500"/>
                </a:solidFill>
                <a:latin typeface="Arial"/>
              </a:rPr>
              <a:t>ЭНЕРГИЯ</a:t>
            </a:r>
            <a:r>
              <a:rPr b="0" lang="en-US" sz="4000" spc="-1" strike="noStrike">
                <a:solidFill>
                  <a:srgbClr val="f8a5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8a500"/>
                </a:solidFill>
                <a:latin typeface="Arial"/>
              </a:rPr>
              <a:t>ОБОЗНАЧАЕ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bbd71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ffffff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a5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8a500"/>
                </a:solidFill>
                <a:latin typeface="Comic Sans MS"/>
              </a:rPr>
              <a:t>ЭНЕРГИЯ</a:t>
            </a:r>
            <a:r>
              <a:rPr b="0" lang="en-US" sz="4000" spc="-1" strike="noStrike">
                <a:solidFill>
                  <a:srgbClr val="f8a5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8a500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bbd71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Управляющая кнопка: домой 1"/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Кинетическая энергия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2"/>
              <p:cNvSpPr txBox="1"/>
              <p:nvPr/>
            </p:nvSpPr>
            <p:spPr>
              <a:xfrm>
                <a:off x="1917720" y="2048040"/>
                <a:ext cx="5235480" cy="37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Потенциальная энергия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1379520" y="3494160"/>
                <a:ext cx="6391440" cy="21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88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a500"/>
                </a:solidFill>
                <a:latin typeface="Arial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2149560" y="1690560"/>
                <a:ext cx="4511520" cy="370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0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Управляющая кнопка: домой 1"/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a500"/>
                </a:solidFill>
                <a:latin typeface="Arial"/>
              </a:rPr>
              <a:t>Закон сохранени</a:t>
            </a: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я </a:t>
            </a:r>
            <a:r>
              <a:rPr b="1" lang="en-US" sz="4400" spc="-1" strike="noStrike">
                <a:solidFill>
                  <a:srgbClr val="f8a500"/>
                </a:solidFill>
                <a:latin typeface="Arial"/>
              </a:rPr>
              <a:t>энергии</a:t>
            </a: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50920" y="1989000"/>
            <a:ext cx="806616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из одного вида в другой.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a500"/>
                </a:solidFill>
                <a:latin typeface="Times New Roman"/>
              </a:rPr>
              <a:t>Ek1 + Ep1 = Ek2 + Ep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Управляющая кнопка: домой 1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a500"/>
                </a:solidFill>
                <a:latin typeface="Times New Roman"/>
              </a:rPr>
              <a:t>Маятник Максвелл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4897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3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250920" y="836640"/>
            <a:ext cx="7850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? Считать удар абсолютно упруги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a500"/>
                </a:solidFill>
                <a:latin typeface="Times New Roman"/>
              </a:rPr>
              <a:t>Вопрос 1</a:t>
            </a:r>
            <a:br>
              <a:rPr sz="4400"/>
            </a:br>
            <a:r>
              <a:rPr b="1" lang="en-US" sz="4400" spc="-1" strike="noStrike">
                <a:solidFill>
                  <a:srgbClr val="e12c1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Как называется единица работы в С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7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Управляющая кнопка: возврат 1"/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22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9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Задача №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Параграф 30, упр.25 (зад 3, 4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48808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f8a500"/>
                </a:solidFill>
                <a:latin typeface="Times New Roman"/>
              </a:rPr>
              <a:t>Вопрос 2</a:t>
            </a: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Какое выражение определяет потенциальную энергию пружины?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221000"/>
            <a:ext cx="1800360" cy="6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m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5157720"/>
            <a:ext cx="2303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mq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5805360"/>
            <a:ext cx="2158920" cy="6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kx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104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Times New Roman"/>
              </a:rPr>
              <a:t>Вопрос </a:t>
            </a:r>
            <a:r>
              <a:rPr b="1" lang="en-US" sz="4400" spc="-1" strike="noStrike">
                <a:solidFill>
                  <a:srgbClr val="f8a500"/>
                </a:solidFill>
                <a:latin typeface="Times New Roman"/>
              </a:rPr>
              <a:t>3</a:t>
            </a:r>
            <a:br>
              <a:rPr sz="4400"/>
            </a:b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На какой высоте от поверхности Земли тело массой 3 кг имеет потенциальную энергию 60 Дж (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g=10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м/с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Arial"/>
              </a:rPr>
              <a:t>²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49360"/>
            <a:ext cx="8964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a500"/>
                </a:solidFill>
                <a:latin typeface="Times New Roman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Как изменится кинетическая энергия тела  при увеличении его скорости в 3 раза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533520"/>
            <a:ext cx="79898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Times New Roman"/>
              </a:rPr>
              <a:t>Вопрос 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Работ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A=F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·Scos</a:t>
            </a:r>
            <a:r>
              <a:rPr b="1" lang="el-GR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α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равна нулю, если угол, образованный векторами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F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и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1628640"/>
            <a:ext cx="28728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1628640"/>
            <a:ext cx="28728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3933720"/>
            <a:ext cx="3313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a)  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90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4869000"/>
            <a:ext cx="33116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&lt;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5805360"/>
            <a:ext cx="33112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 = 9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89000"/>
            <a:ext cx="8893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Times New Roman"/>
              </a:rPr>
              <a:t>Вопрос </a:t>
            </a:r>
            <a:r>
              <a:rPr b="1" lang="en-US" sz="4400" spc="-1" strike="noStrike">
                <a:solidFill>
                  <a:srgbClr val="f8a5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Автомобиль движется с постоянной скоростью 72 км/ч. Сила тяги автомобиля 1000 Н. Мощность двигателя равна 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60280"/>
            <a:ext cx="88930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Times New Roman"/>
              </a:rPr>
              <a:t>Вопрос 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Работа всех сил, действующих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на тело, при изменении скорост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от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v0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до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равн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4292640"/>
            <a:ext cx="2448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 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m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_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mv</a:t>
            </a:r>
            <a:r>
              <a:rPr b="1" lang="en-US" sz="10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0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2        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5157720"/>
            <a:ext cx="223380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m (v - v</a:t>
            </a:r>
            <a:r>
              <a:rPr b="1" lang="en-US" sz="1000" spc="-1" strike="noStrike">
                <a:solidFill>
                  <a:srgbClr val="e12c19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5950080"/>
            <a:ext cx="2089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  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 - v</a:t>
            </a:r>
            <a:r>
              <a:rPr b="1" lang="en-US" sz="10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0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a500"/>
                </a:solidFill>
                <a:latin typeface="Arial"/>
              </a:rPr>
              <a:t>Механическая энергия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47640" y="4437000"/>
            <a:ext cx="5855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Закон сохранения энер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school</cp:lastModifiedBy>
  <dcterms:modified xsi:type="dcterms:W3CDTF">2011-11-17T09:24:04Z</dcterms:modified>
  <cp:revision>30</cp:revision>
  <dc:subject/>
  <dc:title>Механическая энергия</dc:title>
</cp:coreProperties>
</file>