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F9A-C7F1-4942-8258-103A79B5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062-E07B-4177-BD83-B0620AB3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016-0F10-45E5-828E-AD86BABD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55A4-4017-4921-ADFE-66A92285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065-AF42-4218-AFC5-354886F5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50D-3D96-45BA-87B3-F4AD287A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B9A2-3E29-43B5-B4C0-A5DE15D5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E12-5310-497A-8DEA-2FECDE8B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E200-5E81-414E-9315-5DA0842F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6E43-0441-4F8E-A076-6115EB28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124D-2F2F-4AFA-A19F-03786D95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CAA6-7AEA-498F-9A0F-D214FB55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7A37-7AB4-499F-B08E-F923E87C4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История  возникнове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7772400" cy="49690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70 году профессор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иклаус Вир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дал в Цюрихском политехническом университете язык программирования Паскаль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cal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датель языка назвал его в честь Блеза Паскаля – первого конструктора устро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создавался как язык, который, с одной стороны, был бы хорошо приспособлен для обучения программированию, а с другой – давал бы возможность эффективно решать самые разнообразные задачи на современных ЭВ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лгоритм записанный на языке программирования называют ПРОГРАМ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404640"/>
            <a:ext cx="9144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d6e608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бъекты языка программирования Паскаль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d6e608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133720"/>
            <a:ext cx="226836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ста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2852640"/>
            <a:ext cx="259236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133720"/>
            <a:ext cx="237636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2781360"/>
            <a:ext cx="194328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042920" y="1484280"/>
            <a:ext cx="2449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195640" y="1484280"/>
            <a:ext cx="151272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1484280"/>
            <a:ext cx="6476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1484280"/>
            <a:ext cx="1944720" cy="12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4149720"/>
            <a:ext cx="3097440" cy="520560"/>
          </a:xfrm>
          <a:prstGeom prst="rect">
            <a:avLst/>
          </a:prstGeom>
          <a:solidFill>
            <a:srgbClr val="d6e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ифме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4797360"/>
            <a:ext cx="2089080" cy="520560"/>
          </a:xfrm>
          <a:prstGeom prst="rect">
            <a:avLst/>
          </a:prstGeom>
          <a:solidFill>
            <a:srgbClr val="d6e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6000" y="5373720"/>
            <a:ext cx="2449440" cy="520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ме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12000" y="6021360"/>
            <a:ext cx="2232000" cy="520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уме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95280" y="2708280"/>
            <a:ext cx="1297080" cy="1441440"/>
          </a:xfrm>
          <a:prstGeom prst="line">
            <a:avLst/>
          </a:prstGeom>
          <a:ln w="28440">
            <a:solidFill>
              <a:srgbClr val="d6e6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2708280"/>
            <a:ext cx="431640" cy="2016000"/>
          </a:xfrm>
          <a:prstGeom prst="line">
            <a:avLst/>
          </a:prstGeom>
          <a:ln w="28440">
            <a:solidFill>
              <a:srgbClr val="d6e6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803640" y="3357720"/>
            <a:ext cx="289080" cy="2016000"/>
          </a:xfrm>
          <a:prstGeom prst="line">
            <a:avLst/>
          </a:prstGeom>
          <a:ln w="28440">
            <a:solidFill>
              <a:srgbClr val="66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28000" y="3357720"/>
            <a:ext cx="792000" cy="2663640"/>
          </a:xfrm>
          <a:prstGeom prst="line">
            <a:avLst/>
          </a:prstGeom>
          <a:ln w="28440">
            <a:solidFill>
              <a:srgbClr val="66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3573360"/>
            <a:ext cx="172872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203640" y="1557360"/>
            <a:ext cx="93672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661000"/>
            <a:ext cx="2916360" cy="52056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ндар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5013360"/>
            <a:ext cx="3241800" cy="52056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ьзователь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11280" y="4076640"/>
            <a:ext cx="1512720" cy="1584360"/>
          </a:xfrm>
          <a:prstGeom prst="line">
            <a:avLst/>
          </a:prstGeom>
          <a:ln w="2844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076640"/>
            <a:ext cx="142920" cy="936720"/>
          </a:xfrm>
          <a:prstGeom prst="line">
            <a:avLst/>
          </a:prstGeom>
          <a:ln w="2844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39640" y="404640"/>
            <a:ext cx="2067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стан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476280"/>
            <a:ext cx="612144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нная, которая не меняется в процессе выполнения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628640"/>
            <a:ext cx="3600720" cy="459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ние: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t  x=3,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789360"/>
            <a:ext cx="2268360" cy="719280"/>
          </a:xfrm>
          <a:prstGeom prst="wedgeRectCallout">
            <a:avLst>
              <a:gd name="adj1" fmla="val 43000"/>
              <a:gd name="adj2" fmla="val -298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нтификатор конс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4869000"/>
            <a:ext cx="1512720" cy="720720"/>
          </a:xfrm>
          <a:prstGeom prst="wedgeEllipseCallout">
            <a:avLst>
              <a:gd name="adj1" fmla="val -6453"/>
              <a:gd name="adj2" fmla="val -453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56000" y="5013360"/>
            <a:ext cx="1656000" cy="431640"/>
          </a:xfrm>
          <a:prstGeom prst="wedgeRoundRectCallout">
            <a:avLst>
              <a:gd name="adj1" fmla="val -101388"/>
              <a:gd name="adj2" fmla="val -74706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404640"/>
            <a:ext cx="248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менн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04640"/>
            <a:ext cx="532764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данная, значение которой может меняться в процессе выполнения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2060640"/>
            <a:ext cx="4464000" cy="459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ние :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ar  x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a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724280"/>
            <a:ext cx="2268360" cy="719280"/>
          </a:xfrm>
          <a:prstGeom prst="wedgeRectCallout">
            <a:avLst>
              <a:gd name="adj1" fmla="val 43560"/>
              <a:gd name="adj2" fmla="val -360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нтификатор перем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5373720"/>
            <a:ext cx="1512720" cy="720720"/>
          </a:xfrm>
          <a:prstGeom prst="wedgeEllipseCallout">
            <a:avLst>
              <a:gd name="adj1" fmla="val -18939"/>
              <a:gd name="adj2" fmla="val -4535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51280" y="4292640"/>
            <a:ext cx="1511280" cy="720720"/>
          </a:xfrm>
          <a:prstGeom prst="wedgeRoundRectCallout">
            <a:avLst>
              <a:gd name="adj1" fmla="val -80356"/>
              <a:gd name="adj2" fmla="val -30506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ип перем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24000" y="0"/>
            <a:ext cx="208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ункц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89000"/>
            <a:ext cx="561672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ая функция имеет имя и аргумент, заключенный в скоб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826920" y="1125360"/>
          <a:ext cx="3952800" cy="5453280"/>
        </p:xfrm>
        <a:graphic>
          <a:graphicData uri="http://schemas.openxmlformats.org/drawingml/2006/table">
            <a:tbl>
              <a:tblPr/>
              <a:tblGrid>
                <a:gridCol w="395280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Стандартные фун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cdeb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abs(x)- </a:t>
                      </a:r>
                      <a:r>
                        <a:rPr b="1" lang="ru-RU" sz="2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модуль </a:t>
                      </a:r>
                      <a:r>
                        <a:rPr b="1" lang="en-US" sz="2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cdeb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sqr(x)-</a:t>
                      </a:r>
                      <a:r>
                        <a:rPr b="1" lang="ru-RU" sz="2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 квад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cdeb"/>
                    </a:solidFill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sqrt(x)-</a:t>
                      </a:r>
                      <a:r>
                        <a:rPr b="1" lang="ru-RU" sz="2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 кор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cdeb"/>
                    </a:solidFill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sin(x)-</a:t>
                      </a:r>
                      <a:r>
                        <a:rPr b="1" lang="ru-RU" sz="2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 син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cdeb"/>
                    </a:solidFill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cos(x)-</a:t>
                      </a:r>
                      <a:r>
                        <a:rPr b="1" lang="ru-RU" sz="2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 косин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cdeb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Pi-</a:t>
                      </a:r>
                      <a:r>
                        <a:rPr b="1" lang="ru-RU" sz="2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 П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c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trunc(x)-</a:t>
                      </a:r>
                      <a:r>
                        <a:rPr b="1" lang="ru-RU" sz="2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целая часть от </a:t>
                      </a:r>
                      <a:r>
                        <a:rPr b="1" lang="en-US" sz="2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(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c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int(x)-</a:t>
                      </a:r>
                      <a:r>
                        <a:rPr b="1" lang="ru-RU" sz="2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целая часть от </a:t>
                      </a:r>
                      <a:r>
                        <a:rPr b="1" lang="en-US" sz="2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(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c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frac(x)-</a:t>
                      </a:r>
                      <a:r>
                        <a:rPr b="1" lang="ru-RU" sz="2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 дробная часть от </a:t>
                      </a:r>
                      <a:r>
                        <a:rPr b="1" lang="en-US" sz="2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(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cdeb"/>
                    </a:solidFill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5759280" y="1413000"/>
            <a:ext cx="1476720" cy="459720"/>
          </a:xfrm>
          <a:prstGeom prst="rect">
            <a:avLst/>
          </a:prstGeom>
          <a:solidFill>
            <a:srgbClr val="d6e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bs ( x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4797360"/>
            <a:ext cx="1295640" cy="503280"/>
          </a:xfrm>
          <a:prstGeom prst="wedgeRoundRectCallout">
            <a:avLst>
              <a:gd name="adj1" fmla="val -245"/>
              <a:gd name="adj2" fmla="val -62981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3933720"/>
            <a:ext cx="1942920" cy="574920"/>
          </a:xfrm>
          <a:prstGeom prst="wedgeEllipseCallout">
            <a:avLst>
              <a:gd name="adj1" fmla="val -49263"/>
              <a:gd name="adj2" fmla="val -417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гу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39640" y="404640"/>
            <a:ext cx="2486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ражени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476280"/>
            <a:ext cx="540072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ятся из операндов и знаков операций. Операндом может быть константа , переменная, функци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0920" y="1628640"/>
          <a:ext cx="8229600" cy="3951360"/>
        </p:xfrm>
        <a:graphic>
          <a:graphicData uri="http://schemas.openxmlformats.org/drawingml/2006/table">
            <a:tbl>
              <a:tblPr/>
              <a:tblGrid>
                <a:gridCol w="2678040"/>
                <a:gridCol w="2774880"/>
                <a:gridCol w="27766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имвол арифметической опер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азвание опер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нож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*3 (результат: 6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/5 (результат: 6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3 (результат: 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чит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3 (результат: 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826920" y="5589720"/>
            <a:ext cx="7848720" cy="581400"/>
          </a:xfrm>
          <a:prstGeom prst="rect">
            <a:avLst/>
          </a:prstGeom>
          <a:solidFill>
            <a:srgbClr val="d6e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ифметическое выражение: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( 5* 8.7 – х )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/ sin ( y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6237360"/>
            <a:ext cx="7848720" cy="5814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ое выражение: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x &gt; y ) or ( y &gt; z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4:03:03Z</dcterms:created>
  <dc:creator>Полухина Вера </dc:creator>
  <dc:description/>
  <dc:language>en-US</dc:language>
  <cp:lastModifiedBy>Полухина Вера </cp:lastModifiedBy>
  <dcterms:modified xsi:type="dcterms:W3CDTF">2010-09-12T15:09:46Z</dcterms:modified>
  <cp:revision>5</cp:revision>
  <dc:subject/>
  <dc:title>Слайд 1</dc:title>
</cp:coreProperties>
</file>