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3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9.jpeg" ContentType="image/jpeg"/>
  <Override PartName="/ppt/media/image11.jpeg" ContentType="image/jpeg"/>
  <Override PartName="/ppt/media/image6.png" ContentType="image/png"/>
  <Override PartName="/ppt/media/image28.png" ContentType="image/png"/>
  <Override PartName="/ppt/media/image7.jpeg" ContentType="image/jpeg"/>
  <Override PartName="/ppt/media/image34.jpeg" ContentType="image/jpeg"/>
  <Override PartName="/ppt/media/image12.jpeg" ContentType="image/jpeg"/>
  <Override PartName="/ppt/media/image13.png" ContentType="image/png"/>
  <Override PartName="/ppt/media/image31.jpeg" ContentType="image/jpeg"/>
  <Override PartName="/ppt/media/image4.jpeg" ContentType="image/jpeg"/>
  <Override PartName="/ppt/media/image33.png" ContentType="image/png"/>
  <Override PartName="/ppt/media/image1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4389-5E88-40DE-9F5B-4A2C35A160E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20CC-7AA6-4A0B-A1E0-3FE2473CEF3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74E3-CB89-437A-9A06-AC37E8198E3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B1B0-E566-4A78-8962-DEF10139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C157-93BB-4601-A127-29DD56E6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C6C3-8DC7-4572-8A3C-91F013BB1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875B-9CC3-445D-91E8-5DF19F2FC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A162-37F9-4162-A01F-8ACD89AA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B28A-30C9-4FCB-A8F0-EDD82874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4193-819F-429A-BC7D-9CD4863F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D011-EF3F-434F-9D33-5338F3D5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0EAB-A74A-4EC2-BD63-AACFCFB6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05D3-F637-45FC-A28A-E9846510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24D3-46F0-4BB9-81D4-5AF11C42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64FB-D141-4033-8042-0DD521EC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554C-F247-4999-944B-085E3FE152D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0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26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13.xml"/><Relationship Id="rId8" Type="http://schemas.openxmlformats.org/officeDocument/2006/relationships/slide" Target="slide19.xml"/><Relationship Id="rId9" Type="http://schemas.openxmlformats.org/officeDocument/2006/relationships/slide" Target="slide22.xml"/><Relationship Id="rId10" Type="http://schemas.openxmlformats.org/officeDocument/2006/relationships/slide" Target="slide23.xml"/><Relationship Id="rId11" Type="http://schemas.openxmlformats.org/officeDocument/2006/relationships/slide" Target="slide32.xm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1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1.jpeg"/><Relationship Id="rId5" Type="http://schemas.openxmlformats.org/officeDocument/2006/relationships/image" Target="../media/image5.jpeg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jpeg"/><Relationship Id="rId3" Type="http://schemas.openxmlformats.org/officeDocument/2006/relationships/image" Target="../media/image16.jpeg"/><Relationship Id="rId4" Type="http://schemas.openxmlformats.org/officeDocument/2006/relationships/image" Target="../media/image1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2491920"/>
            <a:ext cx="889308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5ffff"/>
                </a:solidFill>
                <a:latin typeface="Tahoma"/>
              </a:rPr>
              <a:t>Одноклеточные животные или Простейшие</a:t>
            </a:r>
            <a:br>
              <a:rPr sz="5400"/>
            </a:b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6" descr="te020201103"/>
          <p:cNvPicPr/>
          <p:nvPr/>
        </p:nvPicPr>
        <p:blipFill>
          <a:blip r:embed="rId1"/>
          <a:stretch/>
        </p:blipFill>
        <p:spPr>
          <a:xfrm>
            <a:off x="7093080" y="4807080"/>
            <a:ext cx="2050920" cy="2050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50" name="Picture 7" descr="te020201102"/>
          <p:cNvPicPr/>
          <p:nvPr/>
        </p:nvPicPr>
        <p:blipFill>
          <a:blip r:embed="rId2"/>
          <a:stretch/>
        </p:blipFill>
        <p:spPr>
          <a:xfrm>
            <a:off x="0" y="0"/>
            <a:ext cx="2050920" cy="2050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51" name="Picture 8" descr="02020106"/>
          <p:cNvPicPr/>
          <p:nvPr/>
        </p:nvPicPr>
        <p:blipFill>
          <a:blip r:embed="rId3"/>
          <a:stretch/>
        </p:blipFill>
        <p:spPr>
          <a:xfrm>
            <a:off x="7553160" y="0"/>
            <a:ext cx="1590840" cy="19890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52" name="Picture 9" descr="te020201101"/>
          <p:cNvPicPr/>
          <p:nvPr/>
        </p:nvPicPr>
        <p:blipFill>
          <a:blip r:embed="rId4"/>
          <a:stretch/>
        </p:blipFill>
        <p:spPr>
          <a:xfrm>
            <a:off x="0" y="4807080"/>
            <a:ext cx="2050920" cy="2050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Класс Саркодовые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Фораминифер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6193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итоплазма фораминифер заключена в известковую, однокамерную или многокамерную, иногда ветвящуюся раковин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морские, как правило, донные организ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реди фораминифер чаще всего попадаются экземпляры размерами от 0,1 мм до 1 м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6" descr="02020103"/>
          <p:cNvPicPr/>
          <p:nvPr/>
        </p:nvPicPr>
        <p:blipFill>
          <a:blip r:embed="rId1"/>
          <a:stretch/>
        </p:blipFill>
        <p:spPr>
          <a:xfrm>
            <a:off x="7164360" y="1628640"/>
            <a:ext cx="1575000" cy="4753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3" name="AutoShape 7">
            <a:hlinkClick r:id="" action="ppaction://hlinkshowjump?jump=previousslide"/>
          </p:cNvPr>
          <p:cNvSpPr/>
          <p:nvPr/>
        </p:nvSpPr>
        <p:spPr>
          <a:xfrm>
            <a:off x="6372360" y="6453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10800"/>
                </a:moveTo>
                <a:lnTo>
                  <a:pt x="22376" y="3794"/>
                </a:lnTo>
                <a:lnTo>
                  <a:pt x="22376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AutoShape 8">
            <a:hlinkClick r:id="rId2" action="ppaction://hlinksldjump"/>
          </p:cNvPr>
          <p:cNvSpPr/>
          <p:nvPr/>
        </p:nvSpPr>
        <p:spPr>
          <a:xfrm>
            <a:off x="702000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15379" y="3837"/>
                </a:moveTo>
                <a:lnTo>
                  <a:pt x="17955" y="6448"/>
                </a:ln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lnTo>
                  <a:pt x="22342" y="10800"/>
                </a:lnTo>
                <a:lnTo>
                  <a:pt x="20688" y="10800"/>
                </a:lnTo>
                <a:lnTo>
                  <a:pt x="20688" y="17989"/>
                </a:lnTo>
                <a:lnTo>
                  <a:pt x="10070" y="17989"/>
                </a:lnTo>
                <a:lnTo>
                  <a:pt x="10070" y="10800"/>
                </a:lnTo>
                <a:lnTo>
                  <a:pt x="8416" y="10800"/>
                </a:lnTo>
                <a:close/>
              </a:path>
              <a:path fill="darkenLess" w="30758" h="21600">
                <a:moveTo>
                  <a:pt x="17955" y="6448"/>
                </a:move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close/>
              </a:path>
              <a:path fill="darkenLess" w="30758" h="21600">
                <a:moveTo>
                  <a:pt x="14457" y="14299"/>
                </a:moveTo>
                <a:lnTo>
                  <a:pt x="16302" y="14299"/>
                </a:lnTo>
                <a:lnTo>
                  <a:pt x="16302" y="17989"/>
                </a:lnTo>
                <a:lnTo>
                  <a:pt x="20688" y="17989"/>
                </a:lnTo>
                <a:lnTo>
                  <a:pt x="20688" y="10800"/>
                </a:lnTo>
                <a:lnTo>
                  <a:pt x="10070" y="10800"/>
                </a:lnTo>
                <a:lnTo>
                  <a:pt x="10070" y="17989"/>
                </a:lnTo>
                <a:lnTo>
                  <a:pt x="14457" y="17989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AutoShape 9">
            <a:hlinkClick r:id="" action="ppaction://hlinkshowjump?jump=nextslide"/>
          </p:cNvPr>
          <p:cNvSpPr/>
          <p:nvPr/>
        </p:nvSpPr>
        <p:spPr>
          <a:xfrm>
            <a:off x="766764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2086-D2C7-475A-A738-8B0E31FC69A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Класс Саркодовые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Лучевики или радиоляри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348000" y="2060280"/>
            <a:ext cx="51228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учевики обладают радикально расположенными псевдоподиями, часто с плотной осевой нитью. Минеральный скелет, состоящий из кремнезёма или сульфата стронция , принимает форму правильных геометрических фигур (шаров, многогранников, колец), состоящих из отдельных иг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7" descr="02020108"/>
          <p:cNvPicPr/>
          <p:nvPr/>
        </p:nvPicPr>
        <p:blipFill>
          <a:blip r:embed="rId1"/>
          <a:stretch/>
        </p:blipFill>
        <p:spPr>
          <a:xfrm>
            <a:off x="395280" y="1916280"/>
            <a:ext cx="2692440" cy="280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0" name="Picture 8" descr="02020105"/>
          <p:cNvPicPr/>
          <p:nvPr/>
        </p:nvPicPr>
        <p:blipFill>
          <a:blip r:embed="rId2"/>
          <a:stretch/>
        </p:blipFill>
        <p:spPr>
          <a:xfrm>
            <a:off x="395280" y="4724280"/>
            <a:ext cx="2736720" cy="1573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1" name="Rectangle 9"/>
          <p:cNvSpPr/>
          <p:nvPr/>
        </p:nvSpPr>
        <p:spPr>
          <a:xfrm>
            <a:off x="395280" y="6232680"/>
            <a:ext cx="28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ружные скелеты радиолярий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AutoShape 10">
            <a:hlinkClick r:id="" action="ppaction://hlinkshowjump?jump=previousslide"/>
          </p:cNvPr>
          <p:cNvSpPr/>
          <p:nvPr/>
        </p:nvSpPr>
        <p:spPr>
          <a:xfrm>
            <a:off x="6372360" y="6453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10800"/>
                </a:moveTo>
                <a:lnTo>
                  <a:pt x="22376" y="3794"/>
                </a:lnTo>
                <a:lnTo>
                  <a:pt x="22376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AutoShape 11">
            <a:hlinkClick r:id="rId3" action="ppaction://hlinksldjump"/>
          </p:cNvPr>
          <p:cNvSpPr/>
          <p:nvPr/>
        </p:nvSpPr>
        <p:spPr>
          <a:xfrm>
            <a:off x="702000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15379" y="3837"/>
                </a:moveTo>
                <a:lnTo>
                  <a:pt x="17955" y="6448"/>
                </a:ln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lnTo>
                  <a:pt x="22342" y="10800"/>
                </a:lnTo>
                <a:lnTo>
                  <a:pt x="20688" y="10800"/>
                </a:lnTo>
                <a:lnTo>
                  <a:pt x="20688" y="17989"/>
                </a:lnTo>
                <a:lnTo>
                  <a:pt x="10070" y="17989"/>
                </a:lnTo>
                <a:lnTo>
                  <a:pt x="10070" y="10800"/>
                </a:lnTo>
                <a:lnTo>
                  <a:pt x="8416" y="10800"/>
                </a:lnTo>
                <a:close/>
              </a:path>
              <a:path fill="darkenLess" w="30758" h="21600">
                <a:moveTo>
                  <a:pt x="17955" y="6448"/>
                </a:move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close/>
              </a:path>
              <a:path fill="darkenLess" w="30758" h="21600">
                <a:moveTo>
                  <a:pt x="14457" y="14299"/>
                </a:moveTo>
                <a:lnTo>
                  <a:pt x="16302" y="14299"/>
                </a:lnTo>
                <a:lnTo>
                  <a:pt x="16302" y="17989"/>
                </a:lnTo>
                <a:lnTo>
                  <a:pt x="20688" y="17989"/>
                </a:lnTo>
                <a:lnTo>
                  <a:pt x="20688" y="10800"/>
                </a:lnTo>
                <a:lnTo>
                  <a:pt x="10070" y="10800"/>
                </a:lnTo>
                <a:lnTo>
                  <a:pt x="10070" y="17989"/>
                </a:lnTo>
                <a:lnTo>
                  <a:pt x="14457" y="17989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AutoShape 12">
            <a:hlinkClick r:id="" action="ppaction://hlinkshowjump?jump=nextslide"/>
          </p:cNvPr>
          <p:cNvSpPr/>
          <p:nvPr/>
        </p:nvSpPr>
        <p:spPr>
          <a:xfrm>
            <a:off x="766764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A601-370A-407C-A3D8-5A20629862C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Класс Саркодовые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олнечник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5905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всех солнечников из шаровидного тела подобна лучам солнца расходятся плотные прямые нитевидные ложноножки; в цитоплазме расположено одно или несколько ядер (до 500). В эндоплазме часто симбиотируют водоросл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7" descr="02020106"/>
          <p:cNvPicPr/>
          <p:nvPr/>
        </p:nvPicPr>
        <p:blipFill>
          <a:blip r:embed="rId1"/>
          <a:stretch/>
        </p:blipFill>
        <p:spPr>
          <a:xfrm>
            <a:off x="5867280" y="2133720"/>
            <a:ext cx="3000600" cy="3751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9" name="Rectangle 8"/>
          <p:cNvSpPr/>
          <p:nvPr/>
        </p:nvSpPr>
        <p:spPr>
          <a:xfrm>
            <a:off x="6443640" y="5789880"/>
            <a:ext cx="19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ктиносфериу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AutoShape 9">
            <a:hlinkClick r:id="" action="ppaction://hlinkshowjump?jump=previousslide"/>
          </p:cNvPr>
          <p:cNvSpPr/>
          <p:nvPr/>
        </p:nvSpPr>
        <p:spPr>
          <a:xfrm>
            <a:off x="6372360" y="6453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10800"/>
                </a:moveTo>
                <a:lnTo>
                  <a:pt x="22376" y="3794"/>
                </a:lnTo>
                <a:lnTo>
                  <a:pt x="22376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AutoShape 10">
            <a:hlinkClick r:id="rId2" action="ppaction://hlinksldjump"/>
          </p:cNvPr>
          <p:cNvSpPr/>
          <p:nvPr/>
        </p:nvSpPr>
        <p:spPr>
          <a:xfrm>
            <a:off x="702000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15379" y="3837"/>
                </a:moveTo>
                <a:lnTo>
                  <a:pt x="17955" y="6448"/>
                </a:ln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lnTo>
                  <a:pt x="22342" y="10800"/>
                </a:lnTo>
                <a:lnTo>
                  <a:pt x="20688" y="10800"/>
                </a:lnTo>
                <a:lnTo>
                  <a:pt x="20688" y="17989"/>
                </a:lnTo>
                <a:lnTo>
                  <a:pt x="10070" y="17989"/>
                </a:lnTo>
                <a:lnTo>
                  <a:pt x="10070" y="10800"/>
                </a:lnTo>
                <a:lnTo>
                  <a:pt x="8416" y="10800"/>
                </a:lnTo>
                <a:close/>
              </a:path>
              <a:path fill="darkenLess" w="30758" h="21600">
                <a:moveTo>
                  <a:pt x="17955" y="6448"/>
                </a:move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close/>
              </a:path>
              <a:path fill="darkenLess" w="30758" h="21600">
                <a:moveTo>
                  <a:pt x="14457" y="14299"/>
                </a:moveTo>
                <a:lnTo>
                  <a:pt x="16302" y="14299"/>
                </a:lnTo>
                <a:lnTo>
                  <a:pt x="16302" y="17989"/>
                </a:lnTo>
                <a:lnTo>
                  <a:pt x="20688" y="17989"/>
                </a:lnTo>
                <a:lnTo>
                  <a:pt x="20688" y="10800"/>
                </a:lnTo>
                <a:lnTo>
                  <a:pt x="10070" y="10800"/>
                </a:lnTo>
                <a:lnTo>
                  <a:pt x="10070" y="17989"/>
                </a:lnTo>
                <a:lnTo>
                  <a:pt x="14457" y="17989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AutoShape 11">
            <a:hlinkClick r:id="" action="ppaction://hlinkshowjump?jump=nextslide"/>
          </p:cNvPr>
          <p:cNvSpPr/>
          <p:nvPr/>
        </p:nvSpPr>
        <p:spPr>
          <a:xfrm>
            <a:off x="766764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Номер слайда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D15C-8193-4418-920F-654C45501E3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Класс Жгутиковы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95280" y="2205000"/>
            <a:ext cx="469116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 жгутиковые имеют не менее одного жгутика (некоторые – тысячи). Одни из них – свободноживущие формы, заглатывающие твёрдую пищу, другие– паразиты, питающиеся жидкими органическими веществами, например, кровью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13" descr="02020201"/>
          <p:cNvPicPr/>
          <p:nvPr/>
        </p:nvPicPr>
        <p:blipFill>
          <a:blip r:embed="rId1"/>
          <a:stretch/>
        </p:blipFill>
        <p:spPr>
          <a:xfrm>
            <a:off x="1376280" y="2205000"/>
            <a:ext cx="2403720" cy="3745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7" name="Rectangle 14"/>
          <p:cNvSpPr/>
          <p:nvPr/>
        </p:nvSpPr>
        <p:spPr>
          <a:xfrm>
            <a:off x="1979640" y="6165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ямбл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AutoShape 15">
            <a:hlinkClick r:id="" action="ppaction://hlinkshowjump?jump=previousslide"/>
          </p:cNvPr>
          <p:cNvSpPr/>
          <p:nvPr/>
        </p:nvSpPr>
        <p:spPr>
          <a:xfrm>
            <a:off x="6372360" y="6453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10800"/>
                </a:moveTo>
                <a:lnTo>
                  <a:pt x="22376" y="3794"/>
                </a:lnTo>
                <a:lnTo>
                  <a:pt x="22376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AutoShape 16">
            <a:hlinkClick r:id="rId2" action="ppaction://hlinksldjump"/>
          </p:cNvPr>
          <p:cNvSpPr/>
          <p:nvPr/>
        </p:nvSpPr>
        <p:spPr>
          <a:xfrm>
            <a:off x="702000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15379" y="3837"/>
                </a:moveTo>
                <a:lnTo>
                  <a:pt x="17955" y="6448"/>
                </a:ln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lnTo>
                  <a:pt x="22342" y="10800"/>
                </a:lnTo>
                <a:lnTo>
                  <a:pt x="20688" y="10800"/>
                </a:lnTo>
                <a:lnTo>
                  <a:pt x="20688" y="17989"/>
                </a:lnTo>
                <a:lnTo>
                  <a:pt x="10070" y="17989"/>
                </a:lnTo>
                <a:lnTo>
                  <a:pt x="10070" y="10800"/>
                </a:lnTo>
                <a:lnTo>
                  <a:pt x="8416" y="10800"/>
                </a:lnTo>
                <a:close/>
              </a:path>
              <a:path fill="darkenLess" w="30758" h="21600">
                <a:moveTo>
                  <a:pt x="17955" y="6448"/>
                </a:move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close/>
              </a:path>
              <a:path fill="darkenLess" w="30758" h="21600">
                <a:moveTo>
                  <a:pt x="14457" y="14299"/>
                </a:moveTo>
                <a:lnTo>
                  <a:pt x="16302" y="14299"/>
                </a:lnTo>
                <a:lnTo>
                  <a:pt x="16302" y="17989"/>
                </a:lnTo>
                <a:lnTo>
                  <a:pt x="20688" y="17989"/>
                </a:lnTo>
                <a:lnTo>
                  <a:pt x="20688" y="10800"/>
                </a:lnTo>
                <a:lnTo>
                  <a:pt x="10070" y="10800"/>
                </a:lnTo>
                <a:lnTo>
                  <a:pt x="10070" y="17989"/>
                </a:lnTo>
                <a:lnTo>
                  <a:pt x="14457" y="17989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AutoShape 17">
            <a:hlinkClick r:id="" action="ppaction://hlinkshowjump?jump=nextslide"/>
          </p:cNvPr>
          <p:cNvSpPr/>
          <p:nvPr/>
        </p:nvSpPr>
        <p:spPr>
          <a:xfrm>
            <a:off x="766764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Номер слайда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0BEF-FF3D-43E3-91FA-62A3A0F588F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1471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Класс Жгутиковые. Многообразие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064360" cy="29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акие жгутиконосцы, как трипаносома, лейшмания – опасные паразиты человека, вызывающие подчас смертельные заболевания (сонную болезнь, болезнь Шагаса, восточную язву, кала-азар). Их переносчиками являются кровососущие насекомые, например, муха-цеце (трипаносомы) или москиты (лейшмании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олее 200 видов жгутиковых обитают в желудках термитов, превращая в них клетчатку в саха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ротничковые жгутиконосцы (Choanoflagellata) – возможные предки многоклеточных животны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11" descr="02020203"/>
          <p:cNvPicPr/>
          <p:nvPr/>
        </p:nvPicPr>
        <p:blipFill>
          <a:blip r:embed="rId1"/>
          <a:stretch/>
        </p:blipFill>
        <p:spPr>
          <a:xfrm>
            <a:off x="684360" y="4437000"/>
            <a:ext cx="6221160" cy="2235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5" name="Rectangle 12"/>
          <p:cNvSpPr/>
          <p:nvPr/>
        </p:nvSpPr>
        <p:spPr>
          <a:xfrm>
            <a:off x="395280" y="39232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озбудитель сонной болезни - трипаносома гамбийская, возбудитель лейшманиоза - лейшман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AutoShape 13">
            <a:hlinkClick r:id="" action="ppaction://hlinkshowjump?jump=previousslide"/>
          </p:cNvPr>
          <p:cNvSpPr/>
          <p:nvPr/>
        </p:nvSpPr>
        <p:spPr>
          <a:xfrm>
            <a:off x="7093080" y="595008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10800"/>
                </a:moveTo>
                <a:lnTo>
                  <a:pt x="22376" y="3794"/>
                </a:lnTo>
                <a:lnTo>
                  <a:pt x="22376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AutoShape 14">
            <a:hlinkClick r:id="rId2" action="ppaction://hlinksldjump"/>
          </p:cNvPr>
          <p:cNvSpPr/>
          <p:nvPr/>
        </p:nvSpPr>
        <p:spPr>
          <a:xfrm>
            <a:off x="7740720" y="595008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15379" y="3837"/>
                </a:moveTo>
                <a:lnTo>
                  <a:pt x="17955" y="6448"/>
                </a:ln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lnTo>
                  <a:pt x="22342" y="10800"/>
                </a:lnTo>
                <a:lnTo>
                  <a:pt x="20688" y="10800"/>
                </a:lnTo>
                <a:lnTo>
                  <a:pt x="20688" y="17989"/>
                </a:lnTo>
                <a:lnTo>
                  <a:pt x="10070" y="17989"/>
                </a:lnTo>
                <a:lnTo>
                  <a:pt x="10070" y="10800"/>
                </a:lnTo>
                <a:lnTo>
                  <a:pt x="8416" y="10800"/>
                </a:lnTo>
                <a:close/>
              </a:path>
              <a:path fill="darkenLess" w="30758" h="21600">
                <a:moveTo>
                  <a:pt x="17955" y="6448"/>
                </a:move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close/>
              </a:path>
              <a:path fill="darkenLess" w="30758" h="21600">
                <a:moveTo>
                  <a:pt x="14457" y="14299"/>
                </a:moveTo>
                <a:lnTo>
                  <a:pt x="16302" y="14299"/>
                </a:lnTo>
                <a:lnTo>
                  <a:pt x="16302" y="17989"/>
                </a:lnTo>
                <a:lnTo>
                  <a:pt x="20688" y="17989"/>
                </a:lnTo>
                <a:lnTo>
                  <a:pt x="20688" y="10800"/>
                </a:lnTo>
                <a:lnTo>
                  <a:pt x="10070" y="10800"/>
                </a:lnTo>
                <a:lnTo>
                  <a:pt x="10070" y="17989"/>
                </a:lnTo>
                <a:lnTo>
                  <a:pt x="14457" y="17989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AutoShape 15">
            <a:hlinkClick r:id="" action="ppaction://hlinkshowjump?jump=nextslide"/>
          </p:cNvPr>
          <p:cNvSpPr/>
          <p:nvPr/>
        </p:nvSpPr>
        <p:spPr>
          <a:xfrm>
            <a:off x="8388360" y="595008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Номер слайда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B2A2-94B0-40BF-B3E6-402ADB84D9C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Класс Жгутиковые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Колония вольвокса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42920" y="1989000"/>
            <a:ext cx="40388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 вольвокса колония представляет собой студенистый шар, стенки которого образованы одним слоем жгутиконосцев. В составе колонии отдельные организмы оказываются лучше защищены от нападения врагов и обеспечены пищ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6" descr="колония вольвокса"/>
          <p:cNvPicPr/>
          <p:nvPr/>
        </p:nvPicPr>
        <p:blipFill>
          <a:blip r:embed="rId1"/>
          <a:stretch/>
        </p:blipFill>
        <p:spPr>
          <a:xfrm>
            <a:off x="539640" y="2060640"/>
            <a:ext cx="3409920" cy="341136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sp>
        <p:nvSpPr>
          <p:cNvPr id="183" name="AutoShape 8">
            <a:hlinkClick r:id="" action="ppaction://hlinkshowjump?jump=previousslide"/>
          </p:cNvPr>
          <p:cNvSpPr/>
          <p:nvPr/>
        </p:nvSpPr>
        <p:spPr>
          <a:xfrm>
            <a:off x="6372360" y="6453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10800"/>
                </a:moveTo>
                <a:lnTo>
                  <a:pt x="22376" y="3794"/>
                </a:lnTo>
                <a:lnTo>
                  <a:pt x="22376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AutoShape 9">
            <a:hlinkClick r:id="rId2" action="ppaction://hlinksldjump"/>
          </p:cNvPr>
          <p:cNvSpPr/>
          <p:nvPr/>
        </p:nvSpPr>
        <p:spPr>
          <a:xfrm>
            <a:off x="702000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15379" y="3837"/>
                </a:moveTo>
                <a:lnTo>
                  <a:pt x="17955" y="6448"/>
                </a:ln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lnTo>
                  <a:pt x="22342" y="10800"/>
                </a:lnTo>
                <a:lnTo>
                  <a:pt x="20688" y="10800"/>
                </a:lnTo>
                <a:lnTo>
                  <a:pt x="20688" y="17989"/>
                </a:lnTo>
                <a:lnTo>
                  <a:pt x="10070" y="17989"/>
                </a:lnTo>
                <a:lnTo>
                  <a:pt x="10070" y="10800"/>
                </a:lnTo>
                <a:lnTo>
                  <a:pt x="8416" y="10800"/>
                </a:lnTo>
                <a:close/>
              </a:path>
              <a:path fill="darkenLess" w="30758" h="21600">
                <a:moveTo>
                  <a:pt x="17955" y="6448"/>
                </a:move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close/>
              </a:path>
              <a:path fill="darkenLess" w="30758" h="21600">
                <a:moveTo>
                  <a:pt x="14457" y="14299"/>
                </a:moveTo>
                <a:lnTo>
                  <a:pt x="16302" y="14299"/>
                </a:lnTo>
                <a:lnTo>
                  <a:pt x="16302" y="17989"/>
                </a:lnTo>
                <a:lnTo>
                  <a:pt x="20688" y="17989"/>
                </a:lnTo>
                <a:lnTo>
                  <a:pt x="20688" y="10800"/>
                </a:lnTo>
                <a:lnTo>
                  <a:pt x="10070" y="10800"/>
                </a:lnTo>
                <a:lnTo>
                  <a:pt x="10070" y="17989"/>
                </a:lnTo>
                <a:lnTo>
                  <a:pt x="14457" y="17989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AutoShape 10">
            <a:hlinkClick r:id="" action="ppaction://hlinkshowjump?jump=nextslide"/>
          </p:cNvPr>
          <p:cNvSpPr/>
          <p:nvPr/>
        </p:nvSpPr>
        <p:spPr>
          <a:xfrm>
            <a:off x="766764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8DC7-2A91-4049-A4C3-85D2485BBEC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троение эвглены зелено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356000" y="2133720"/>
            <a:ext cx="4330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йдите на рисунк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оболочк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цитоплазм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др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лороплас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веточувствитель 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ый глаз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AutoShape 8"/>
          <p:cNvSpPr/>
          <p:nvPr/>
        </p:nvSpPr>
        <p:spPr>
          <a:xfrm>
            <a:off x="4284720" y="2852640"/>
            <a:ext cx="144360" cy="14472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AutoShape 9"/>
          <p:cNvSpPr/>
          <p:nvPr/>
        </p:nvSpPr>
        <p:spPr>
          <a:xfrm>
            <a:off x="4284720" y="3357720"/>
            <a:ext cx="144360" cy="14436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AutoShape 10"/>
          <p:cNvSpPr/>
          <p:nvPr/>
        </p:nvSpPr>
        <p:spPr>
          <a:xfrm>
            <a:off x="4284720" y="3860640"/>
            <a:ext cx="144360" cy="14472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4284720" y="4365720"/>
            <a:ext cx="144360" cy="14436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AutoShape 12"/>
          <p:cNvSpPr/>
          <p:nvPr/>
        </p:nvSpPr>
        <p:spPr>
          <a:xfrm>
            <a:off x="4284720" y="4941720"/>
            <a:ext cx="144360" cy="14472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AutoShape 13">
            <a:hlinkClick r:id="" action="ppaction://hlinkshowjump?jump=previousslide"/>
          </p:cNvPr>
          <p:cNvSpPr/>
          <p:nvPr/>
        </p:nvSpPr>
        <p:spPr>
          <a:xfrm>
            <a:off x="6372360" y="6453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10800"/>
                </a:moveTo>
                <a:lnTo>
                  <a:pt x="22376" y="3794"/>
                </a:lnTo>
                <a:lnTo>
                  <a:pt x="22376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AutoShape 14">
            <a:hlinkClick r:id="rId1" action="ppaction://hlinksldjump"/>
          </p:cNvPr>
          <p:cNvSpPr/>
          <p:nvPr/>
        </p:nvSpPr>
        <p:spPr>
          <a:xfrm>
            <a:off x="702000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15379" y="3837"/>
                </a:moveTo>
                <a:lnTo>
                  <a:pt x="17955" y="6448"/>
                </a:ln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lnTo>
                  <a:pt x="22342" y="10800"/>
                </a:lnTo>
                <a:lnTo>
                  <a:pt x="20688" y="10800"/>
                </a:lnTo>
                <a:lnTo>
                  <a:pt x="20688" y="17989"/>
                </a:lnTo>
                <a:lnTo>
                  <a:pt x="10070" y="17989"/>
                </a:lnTo>
                <a:lnTo>
                  <a:pt x="10070" y="10800"/>
                </a:lnTo>
                <a:lnTo>
                  <a:pt x="8416" y="10800"/>
                </a:lnTo>
                <a:close/>
              </a:path>
              <a:path fill="darkenLess" w="30758" h="21600">
                <a:moveTo>
                  <a:pt x="17955" y="6448"/>
                </a:move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close/>
              </a:path>
              <a:path fill="darkenLess" w="30758" h="21600">
                <a:moveTo>
                  <a:pt x="14457" y="14299"/>
                </a:moveTo>
                <a:lnTo>
                  <a:pt x="16302" y="14299"/>
                </a:lnTo>
                <a:lnTo>
                  <a:pt x="16302" y="17989"/>
                </a:lnTo>
                <a:lnTo>
                  <a:pt x="20688" y="17989"/>
                </a:lnTo>
                <a:lnTo>
                  <a:pt x="20688" y="10800"/>
                </a:lnTo>
                <a:lnTo>
                  <a:pt x="10070" y="10800"/>
                </a:lnTo>
                <a:lnTo>
                  <a:pt x="10070" y="17989"/>
                </a:lnTo>
                <a:lnTo>
                  <a:pt x="14457" y="17989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AutoShape 15">
            <a:hlinkClick r:id="" action="ppaction://hlinkshowjump?jump=nextslide"/>
          </p:cNvPr>
          <p:cNvSpPr/>
          <p:nvPr/>
        </p:nvSpPr>
        <p:spPr>
          <a:xfrm>
            <a:off x="766764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16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2793960" cy="4032000"/>
          </a:xfrm>
          <a:prstGeom prst="rect">
            <a:avLst/>
          </a:prstGeom>
          <a:ln w="0">
            <a:noFill/>
          </a:ln>
        </p:spPr>
      </p:pic>
      <p:sp>
        <p:nvSpPr>
          <p:cNvPr id="198" name="Line 19"/>
          <p:cNvSpPr/>
          <p:nvPr/>
        </p:nvSpPr>
        <p:spPr>
          <a:xfrm flipV="1">
            <a:off x="1258920" y="5373360"/>
            <a:ext cx="576360" cy="142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Line 23"/>
          <p:cNvSpPr/>
          <p:nvPr/>
        </p:nvSpPr>
        <p:spPr>
          <a:xfrm flipV="1">
            <a:off x="1258920" y="4797360"/>
            <a:ext cx="504720" cy="287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Line 25"/>
          <p:cNvSpPr/>
          <p:nvPr/>
        </p:nvSpPr>
        <p:spPr>
          <a:xfrm flipH="1" flipV="1">
            <a:off x="2410920" y="4653000"/>
            <a:ext cx="792360" cy="792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Line 27"/>
          <p:cNvSpPr/>
          <p:nvPr/>
        </p:nvSpPr>
        <p:spPr>
          <a:xfrm flipH="1">
            <a:off x="2627280" y="3141720"/>
            <a:ext cx="432000" cy="216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Line 28"/>
          <p:cNvSpPr/>
          <p:nvPr/>
        </p:nvSpPr>
        <p:spPr>
          <a:xfrm flipH="1">
            <a:off x="2410920" y="2349360"/>
            <a:ext cx="576360" cy="432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WordArt 29"/>
          <p:cNvSpPr txBox="1"/>
          <p:nvPr/>
        </p:nvSpPr>
        <p:spPr>
          <a:xfrm rot="5400000">
            <a:off x="2914920" y="2205720"/>
            <a:ext cx="288720" cy="144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4" name="WordArt 30"/>
          <p:cNvSpPr txBox="1"/>
          <p:nvPr/>
        </p:nvSpPr>
        <p:spPr>
          <a:xfrm rot="5400000">
            <a:off x="3060000" y="2996280"/>
            <a:ext cx="215640" cy="217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5" name="WordArt 31"/>
          <p:cNvSpPr txBox="1"/>
          <p:nvPr/>
        </p:nvSpPr>
        <p:spPr>
          <a:xfrm rot="5400000">
            <a:off x="3059280" y="5516640"/>
            <a:ext cx="217440" cy="217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6" name="WordArt 32"/>
          <p:cNvSpPr txBox="1"/>
          <p:nvPr/>
        </p:nvSpPr>
        <p:spPr>
          <a:xfrm rot="5400000">
            <a:off x="949680" y="4890240"/>
            <a:ext cx="258480" cy="21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7" name="WordArt 33"/>
          <p:cNvSpPr txBox="1"/>
          <p:nvPr/>
        </p:nvSpPr>
        <p:spPr>
          <a:xfrm rot="5400000">
            <a:off x="934560" y="5481720"/>
            <a:ext cx="289080" cy="21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8" name="Номер слайда 2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98C2-D847-4C58-BD67-E5542609672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ип Споровик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140000" y="2205000"/>
            <a:ext cx="454644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т тип включает только паразитические фор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 влиянием паразитизма строение споровиков сильно упростилось: они не имеют органоидов движения, пищеварительных и сократительных вакуо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ложные жизненные цикл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Picture 6" descr="споровики"/>
          <p:cNvPicPr/>
          <p:nvPr/>
        </p:nvPicPr>
        <p:blipFill>
          <a:blip r:embed="rId1"/>
          <a:stretch/>
        </p:blipFill>
        <p:spPr>
          <a:xfrm>
            <a:off x="611280" y="1989000"/>
            <a:ext cx="2117520" cy="244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2" name="Picture 8" descr="маляр паразит"/>
          <p:cNvPicPr/>
          <p:nvPr/>
        </p:nvPicPr>
        <p:blipFill>
          <a:blip r:embed="rId2"/>
          <a:stretch/>
        </p:blipFill>
        <p:spPr>
          <a:xfrm>
            <a:off x="1763640" y="4124160"/>
            <a:ext cx="2206800" cy="1413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3" name="AutoShape 9">
            <a:hlinkClick r:id="" action="ppaction://hlinkshowjump?jump=previousslide"/>
          </p:cNvPr>
          <p:cNvSpPr/>
          <p:nvPr/>
        </p:nvSpPr>
        <p:spPr>
          <a:xfrm>
            <a:off x="630072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10800"/>
                </a:moveTo>
                <a:lnTo>
                  <a:pt x="22386" y="3794"/>
                </a:lnTo>
                <a:lnTo>
                  <a:pt x="22386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AutoShape 10">
            <a:hlinkClick r:id="rId3" action="ppaction://hlinksldjump"/>
          </p:cNvPr>
          <p:cNvSpPr/>
          <p:nvPr/>
        </p:nvSpPr>
        <p:spPr>
          <a:xfrm>
            <a:off x="694836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15379" y="3837"/>
                </a:moveTo>
                <a:lnTo>
                  <a:pt x="17955" y="6448"/>
                </a:ln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lnTo>
                  <a:pt x="22342" y="10800"/>
                </a:lnTo>
                <a:lnTo>
                  <a:pt x="20688" y="10800"/>
                </a:lnTo>
                <a:lnTo>
                  <a:pt x="20688" y="17989"/>
                </a:lnTo>
                <a:lnTo>
                  <a:pt x="10070" y="17989"/>
                </a:lnTo>
                <a:lnTo>
                  <a:pt x="10070" y="10800"/>
                </a:lnTo>
                <a:lnTo>
                  <a:pt x="8416" y="10800"/>
                </a:lnTo>
                <a:close/>
              </a:path>
              <a:path fill="darkenLess" w="30758" h="21600">
                <a:moveTo>
                  <a:pt x="17955" y="6448"/>
                </a:move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close/>
              </a:path>
              <a:path fill="darkenLess" w="30758" h="21600">
                <a:moveTo>
                  <a:pt x="14457" y="14299"/>
                </a:moveTo>
                <a:lnTo>
                  <a:pt x="16302" y="14299"/>
                </a:lnTo>
                <a:lnTo>
                  <a:pt x="16302" y="17989"/>
                </a:lnTo>
                <a:lnTo>
                  <a:pt x="20688" y="17989"/>
                </a:lnTo>
                <a:lnTo>
                  <a:pt x="20688" y="10800"/>
                </a:lnTo>
                <a:lnTo>
                  <a:pt x="10070" y="10800"/>
                </a:lnTo>
                <a:lnTo>
                  <a:pt x="10070" y="17989"/>
                </a:lnTo>
                <a:lnTo>
                  <a:pt x="14457" y="17989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AutoShape 11">
            <a:hlinkClick r:id="" action="ppaction://hlinkshowjump?jump=nextslide"/>
          </p:cNvPr>
          <p:cNvSpPr/>
          <p:nvPr/>
        </p:nvSpPr>
        <p:spPr>
          <a:xfrm>
            <a:off x="7596360" y="6453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3794"/>
                </a:moveTo>
                <a:lnTo>
                  <a:pt x="22376" y="10800"/>
                </a:lnTo>
                <a:lnTo>
                  <a:pt x="8363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Номер слайда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9E07-BDC5-42D8-91F7-97482B27C08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Тип Инфузории,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ли Ресничны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рганоиды движения – реснич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цитоплазме находятся 2 ядра: макронуклеус и микронукле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ищеварительные органоиды: клеточная воронка, глотка, рот, порош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делительные органоиды – сократительные вакуо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9" name="Picture 6" descr="инфузории"/>
          <p:cNvPicPr/>
          <p:nvPr/>
        </p:nvPicPr>
        <p:blipFill>
          <a:blip r:embed="rId1"/>
          <a:stretch/>
        </p:blipFill>
        <p:spPr>
          <a:xfrm>
            <a:off x="324000" y="2133720"/>
            <a:ext cx="2226960" cy="2293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220" name="Picture 7" descr="te020201102"/>
          <p:cNvPicPr/>
          <p:nvPr/>
        </p:nvPicPr>
        <p:blipFill>
          <a:blip r:embed="rId2"/>
          <a:stretch/>
        </p:blipFill>
        <p:spPr>
          <a:xfrm>
            <a:off x="7451640" y="189000"/>
            <a:ext cx="1428840" cy="1428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1" name="Picture 8" descr="02020403"/>
          <p:cNvPicPr/>
          <p:nvPr/>
        </p:nvPicPr>
        <p:blipFill>
          <a:blip r:embed="rId3"/>
          <a:stretch/>
        </p:blipFill>
        <p:spPr>
          <a:xfrm>
            <a:off x="2556000" y="3500280"/>
            <a:ext cx="1890720" cy="252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22" name="Rectangle 10"/>
          <p:cNvSpPr/>
          <p:nvPr/>
        </p:nvSpPr>
        <p:spPr>
          <a:xfrm>
            <a:off x="2195640" y="6020280"/>
            <a:ext cx="30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олония инфузорий кархезиум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900000" y="44330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нфузори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AutoShape 12">
            <a:hlinkClick r:id="" action="ppaction://hlinkshowjump?jump=previousslide"/>
          </p:cNvPr>
          <p:cNvSpPr/>
          <p:nvPr/>
        </p:nvSpPr>
        <p:spPr>
          <a:xfrm>
            <a:off x="6372360" y="6453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10800"/>
                </a:moveTo>
                <a:lnTo>
                  <a:pt x="22376" y="3794"/>
                </a:lnTo>
                <a:lnTo>
                  <a:pt x="22376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AutoShape 13">
            <a:hlinkClick r:id="rId4" action="ppaction://hlinksldjump"/>
          </p:cNvPr>
          <p:cNvSpPr/>
          <p:nvPr/>
        </p:nvSpPr>
        <p:spPr>
          <a:xfrm>
            <a:off x="702000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15379" y="3837"/>
                </a:moveTo>
                <a:lnTo>
                  <a:pt x="17955" y="6448"/>
                </a:ln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lnTo>
                  <a:pt x="22342" y="10800"/>
                </a:lnTo>
                <a:lnTo>
                  <a:pt x="20688" y="10800"/>
                </a:lnTo>
                <a:lnTo>
                  <a:pt x="20688" y="17989"/>
                </a:lnTo>
                <a:lnTo>
                  <a:pt x="10070" y="17989"/>
                </a:lnTo>
                <a:lnTo>
                  <a:pt x="10070" y="10800"/>
                </a:lnTo>
                <a:lnTo>
                  <a:pt x="8416" y="10800"/>
                </a:lnTo>
                <a:close/>
              </a:path>
              <a:path fill="darkenLess" w="30758" h="21600">
                <a:moveTo>
                  <a:pt x="17955" y="6448"/>
                </a:move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close/>
              </a:path>
              <a:path fill="darkenLess" w="30758" h="21600">
                <a:moveTo>
                  <a:pt x="14457" y="14299"/>
                </a:moveTo>
                <a:lnTo>
                  <a:pt x="16302" y="14299"/>
                </a:lnTo>
                <a:lnTo>
                  <a:pt x="16302" y="17989"/>
                </a:lnTo>
                <a:lnTo>
                  <a:pt x="20688" y="17989"/>
                </a:lnTo>
                <a:lnTo>
                  <a:pt x="20688" y="10800"/>
                </a:lnTo>
                <a:lnTo>
                  <a:pt x="10070" y="10800"/>
                </a:lnTo>
                <a:lnTo>
                  <a:pt x="10070" y="17989"/>
                </a:lnTo>
                <a:lnTo>
                  <a:pt x="14457" y="17989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AutoShape 14">
            <a:hlinkClick r:id="" action="ppaction://hlinkshowjump?jump=nextslide"/>
          </p:cNvPr>
          <p:cNvSpPr/>
          <p:nvPr/>
        </p:nvSpPr>
        <p:spPr>
          <a:xfrm>
            <a:off x="766764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Номер слайда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65B3-B637-4B0D-BA02-67433B060C6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ип Инфузор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3739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фузории произошли от примитивных жгутиконосцев; их 6000–8000 вид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и обитают и в пресной, и в морской воде (как в толще воды, так и возле дна), в почве и влажных мхах; некоторые – являются паразит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02020402"/>
          <p:cNvPicPr/>
          <p:nvPr/>
        </p:nvPicPr>
        <p:blipFill>
          <a:blip r:embed="rId1"/>
          <a:stretch/>
        </p:blipFill>
        <p:spPr>
          <a:xfrm>
            <a:off x="611280" y="4076640"/>
            <a:ext cx="8353440" cy="1911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31" name="Rectangle 9"/>
          <p:cNvSpPr/>
          <p:nvPr/>
        </p:nvSpPr>
        <p:spPr>
          <a:xfrm>
            <a:off x="324000" y="6139080"/>
            <a:ext cx="813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лева направо: парамеция (инфузория-туфелька), блефаризма, эвплотес, подофрия, инфузория-трубач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AutoShape 10">
            <a:hlinkClick r:id="" action="ppaction://hlinkshowjump?jump=previousslide"/>
          </p:cNvPr>
          <p:cNvSpPr/>
          <p:nvPr/>
        </p:nvSpPr>
        <p:spPr>
          <a:xfrm>
            <a:off x="644364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10800"/>
                </a:moveTo>
                <a:lnTo>
                  <a:pt x="22386" y="3794"/>
                </a:lnTo>
                <a:lnTo>
                  <a:pt x="22386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AutoShape 11">
            <a:hlinkClick r:id="rId2" action="ppaction://hlinksldjump"/>
          </p:cNvPr>
          <p:cNvSpPr/>
          <p:nvPr/>
        </p:nvSpPr>
        <p:spPr>
          <a:xfrm>
            <a:off x="709128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15379" y="3837"/>
                </a:moveTo>
                <a:lnTo>
                  <a:pt x="17955" y="6448"/>
                </a:ln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lnTo>
                  <a:pt x="22342" y="10800"/>
                </a:lnTo>
                <a:lnTo>
                  <a:pt x="20688" y="10800"/>
                </a:lnTo>
                <a:lnTo>
                  <a:pt x="20688" y="17989"/>
                </a:lnTo>
                <a:lnTo>
                  <a:pt x="10070" y="17989"/>
                </a:lnTo>
                <a:lnTo>
                  <a:pt x="10070" y="10800"/>
                </a:lnTo>
                <a:lnTo>
                  <a:pt x="8416" y="10800"/>
                </a:lnTo>
                <a:close/>
              </a:path>
              <a:path fill="darkenLess" w="30758" h="21600">
                <a:moveTo>
                  <a:pt x="17955" y="6448"/>
                </a:move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close/>
              </a:path>
              <a:path fill="darkenLess" w="30758" h="21600">
                <a:moveTo>
                  <a:pt x="14457" y="14299"/>
                </a:moveTo>
                <a:lnTo>
                  <a:pt x="16302" y="14299"/>
                </a:lnTo>
                <a:lnTo>
                  <a:pt x="16302" y="17989"/>
                </a:lnTo>
                <a:lnTo>
                  <a:pt x="20688" y="17989"/>
                </a:lnTo>
                <a:lnTo>
                  <a:pt x="20688" y="10800"/>
                </a:lnTo>
                <a:lnTo>
                  <a:pt x="10070" y="10800"/>
                </a:lnTo>
                <a:lnTo>
                  <a:pt x="10070" y="17989"/>
                </a:lnTo>
                <a:lnTo>
                  <a:pt x="14457" y="17989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AutoShape 12">
            <a:hlinkClick r:id="" action="ppaction://hlinkshowjump?jump=nextslide"/>
          </p:cNvPr>
          <p:cNvSpPr/>
          <p:nvPr/>
        </p:nvSpPr>
        <p:spPr>
          <a:xfrm>
            <a:off x="773892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Номер слайда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A7B5-910F-45D2-9840-AE54132ABD7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ПОДЦАРСТВО ОДНОКЛЕТОЧНЫ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91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Основные признаки животных организм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Подцарство Одноклеточные или Простейшие. Общая характеристи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Тип </a:t>
            </a: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C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аркожгутиконосц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Класс Саркодовы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7" action="ppaction://hlinksldjump"/>
              </a:rPr>
              <a:t>Класс Жгутиковые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8" action="ppaction://hlinksldjump"/>
              </a:rPr>
              <a:t>Тип Инфузор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9" action="ppaction://hlinksldjump"/>
              </a:rPr>
              <a:t>Значение Простейши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10" action="ppaction://hlinksldjump"/>
              </a:rPr>
              <a:t>Задач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11" action="ppaction://hlinksldjump"/>
              </a:rPr>
              <a:t>Лабораторные работы: «Строение одноклеточного животного»,_x000b_ « Строение инфузории– туфельк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AutoShape 5">
            <a:hlinkClick r:id="" action="ppaction://hlinkshowjump?jump=previousslide"/>
          </p:cNvPr>
          <p:cNvSpPr/>
          <p:nvPr/>
        </p:nvSpPr>
        <p:spPr>
          <a:xfrm>
            <a:off x="7020000" y="6308640"/>
            <a:ext cx="576360" cy="40500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0731" h="21600">
                <a:moveTo>
                  <a:pt x="0" y="0"/>
                </a:moveTo>
                <a:lnTo>
                  <a:pt x="30731" y="0"/>
                </a:lnTo>
                <a:lnTo>
                  <a:pt x="30731" y="21600"/>
                </a:lnTo>
                <a:lnTo>
                  <a:pt x="0" y="21600"/>
                </a:lnTo>
                <a:close/>
              </a:path>
              <a:path fill="lightenLess" w="30731" h="21600">
                <a:moveTo>
                  <a:pt x="0" y="0"/>
                </a:moveTo>
                <a:lnTo>
                  <a:pt x="30731" y="0"/>
                </a:lnTo>
                <a:lnTo>
                  <a:pt x="29331" y="1400"/>
                </a:lnTo>
                <a:lnTo>
                  <a:pt x="1400" y="1400"/>
                </a:lnTo>
                <a:close/>
              </a:path>
              <a:path fill="darken" w="30731" h="21600">
                <a:moveTo>
                  <a:pt x="30731" y="0"/>
                </a:moveTo>
                <a:lnTo>
                  <a:pt x="30731" y="21600"/>
                </a:lnTo>
                <a:lnTo>
                  <a:pt x="29331" y="20200"/>
                </a:lnTo>
                <a:lnTo>
                  <a:pt x="29331" y="1400"/>
                </a:lnTo>
                <a:close/>
              </a:path>
              <a:path fill="darkenLess" w="30731" h="21600">
                <a:moveTo>
                  <a:pt x="30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1" y="20200"/>
                </a:lnTo>
                <a:close/>
              </a:path>
              <a:path fill="lighten" w="30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1" h="21600">
                <a:moveTo>
                  <a:pt x="8359" y="10800"/>
                </a:moveTo>
                <a:lnTo>
                  <a:pt x="22372" y="3794"/>
                </a:lnTo>
                <a:lnTo>
                  <a:pt x="22372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AutoShape 7">
            <a:hlinkClick r:id="" action="ppaction://hlinkshowjump?jump=nextslide"/>
          </p:cNvPr>
          <p:cNvSpPr/>
          <p:nvPr/>
        </p:nvSpPr>
        <p:spPr>
          <a:xfrm>
            <a:off x="7740720" y="6308640"/>
            <a:ext cx="576360" cy="40500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0731" h="21600">
                <a:moveTo>
                  <a:pt x="0" y="0"/>
                </a:moveTo>
                <a:lnTo>
                  <a:pt x="30731" y="0"/>
                </a:lnTo>
                <a:lnTo>
                  <a:pt x="30731" y="21600"/>
                </a:lnTo>
                <a:lnTo>
                  <a:pt x="0" y="21600"/>
                </a:lnTo>
                <a:close/>
              </a:path>
              <a:path fill="lightenLess" w="30731" h="21600">
                <a:moveTo>
                  <a:pt x="0" y="0"/>
                </a:moveTo>
                <a:lnTo>
                  <a:pt x="30731" y="0"/>
                </a:lnTo>
                <a:lnTo>
                  <a:pt x="29331" y="1400"/>
                </a:lnTo>
                <a:lnTo>
                  <a:pt x="1400" y="1400"/>
                </a:lnTo>
                <a:close/>
              </a:path>
              <a:path fill="darken" w="30731" h="21600">
                <a:moveTo>
                  <a:pt x="30731" y="0"/>
                </a:moveTo>
                <a:lnTo>
                  <a:pt x="30731" y="21600"/>
                </a:lnTo>
                <a:lnTo>
                  <a:pt x="29331" y="20200"/>
                </a:lnTo>
                <a:lnTo>
                  <a:pt x="29331" y="1400"/>
                </a:lnTo>
                <a:close/>
              </a:path>
              <a:path fill="darkenLess" w="30731" h="21600">
                <a:moveTo>
                  <a:pt x="30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1" y="20200"/>
                </a:lnTo>
                <a:close/>
              </a:path>
              <a:path fill="lighten" w="30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1" h="21600">
                <a:moveTo>
                  <a:pt x="8359" y="3794"/>
                </a:moveTo>
                <a:lnTo>
                  <a:pt x="22372" y="10800"/>
                </a:lnTo>
                <a:lnTo>
                  <a:pt x="8359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F9E9-DABF-4DE0-9630-1F16DFEF248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Под какими номерами расположены инфузория – туфелька и инфузория – трубач?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1763640" y="4581360"/>
            <a:ext cx="2651040" cy="206712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238" name="Picture 5" descr=""/>
          <p:cNvPicPr/>
          <p:nvPr/>
        </p:nvPicPr>
        <p:blipFill>
          <a:blip r:embed="rId2"/>
          <a:stretch/>
        </p:blipFill>
        <p:spPr>
          <a:xfrm>
            <a:off x="6516720" y="2362320"/>
            <a:ext cx="2362320" cy="202860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239" name="Picture 6" descr=""/>
          <p:cNvPicPr/>
          <p:nvPr/>
        </p:nvPicPr>
        <p:blipFill>
          <a:blip r:embed="rId3"/>
          <a:stretch/>
        </p:blipFill>
        <p:spPr>
          <a:xfrm>
            <a:off x="4572000" y="4581360"/>
            <a:ext cx="2448000" cy="204480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240" name="Picture 7" descr=""/>
          <p:cNvPicPr/>
          <p:nvPr/>
        </p:nvPicPr>
        <p:blipFill>
          <a:blip r:embed="rId4"/>
          <a:stretch/>
        </p:blipFill>
        <p:spPr>
          <a:xfrm>
            <a:off x="3635280" y="2205000"/>
            <a:ext cx="2095560" cy="223200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241" name="Picture 8" descr=""/>
          <p:cNvPicPr/>
          <p:nvPr/>
        </p:nvPicPr>
        <p:blipFill>
          <a:blip r:embed="rId5"/>
          <a:stretch/>
        </p:blipFill>
        <p:spPr>
          <a:xfrm>
            <a:off x="250920" y="2421000"/>
            <a:ext cx="2376360" cy="19018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242" name="Text Box 9"/>
          <p:cNvSpPr/>
          <p:nvPr/>
        </p:nvSpPr>
        <p:spPr>
          <a:xfrm>
            <a:off x="1434960" y="35672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WordArt 20"/>
          <p:cNvSpPr txBox="1"/>
          <p:nvPr/>
        </p:nvSpPr>
        <p:spPr>
          <a:xfrm rot="5400000">
            <a:off x="2266560" y="2638440"/>
            <a:ext cx="289080" cy="142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4" name="WordArt 21"/>
          <p:cNvSpPr txBox="1"/>
          <p:nvPr/>
        </p:nvSpPr>
        <p:spPr>
          <a:xfrm rot="5400000">
            <a:off x="3687480" y="4097160"/>
            <a:ext cx="257400" cy="21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5" name="WordArt 22"/>
          <p:cNvSpPr txBox="1"/>
          <p:nvPr/>
        </p:nvSpPr>
        <p:spPr>
          <a:xfrm rot="5400000">
            <a:off x="8466840" y="2413800"/>
            <a:ext cx="287280" cy="301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6" name="WordArt 25"/>
          <p:cNvSpPr txBox="1"/>
          <p:nvPr/>
        </p:nvSpPr>
        <p:spPr>
          <a:xfrm>
            <a:off x="1979640" y="6165720"/>
            <a:ext cx="216000" cy="3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7" name="WordArt 26"/>
          <p:cNvSpPr txBox="1"/>
          <p:nvPr/>
        </p:nvSpPr>
        <p:spPr>
          <a:xfrm rot="5400000">
            <a:off x="6552360" y="6273000"/>
            <a:ext cx="287280" cy="21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8" name="AutoShape 27">
            <a:hlinkClick r:id="" action="ppaction://hlinkshowjump?jump=previousslide"/>
          </p:cNvPr>
          <p:cNvSpPr/>
          <p:nvPr/>
        </p:nvSpPr>
        <p:spPr>
          <a:xfrm>
            <a:off x="7093080" y="595008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10800"/>
                </a:moveTo>
                <a:lnTo>
                  <a:pt x="22376" y="3794"/>
                </a:lnTo>
                <a:lnTo>
                  <a:pt x="22376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AutoShape 28">
            <a:hlinkClick r:id="rId6" action="ppaction://hlinksldjump"/>
          </p:cNvPr>
          <p:cNvSpPr/>
          <p:nvPr/>
        </p:nvSpPr>
        <p:spPr>
          <a:xfrm>
            <a:off x="7740720" y="595008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15379" y="3837"/>
                </a:moveTo>
                <a:lnTo>
                  <a:pt x="17955" y="6448"/>
                </a:ln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lnTo>
                  <a:pt x="22342" y="10800"/>
                </a:lnTo>
                <a:lnTo>
                  <a:pt x="20688" y="10800"/>
                </a:lnTo>
                <a:lnTo>
                  <a:pt x="20688" y="17989"/>
                </a:lnTo>
                <a:lnTo>
                  <a:pt x="10070" y="17989"/>
                </a:lnTo>
                <a:lnTo>
                  <a:pt x="10070" y="10800"/>
                </a:lnTo>
                <a:lnTo>
                  <a:pt x="8416" y="10800"/>
                </a:lnTo>
                <a:close/>
              </a:path>
              <a:path fill="darkenLess" w="30758" h="21600">
                <a:moveTo>
                  <a:pt x="17955" y="6448"/>
                </a:move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close/>
              </a:path>
              <a:path fill="darkenLess" w="30758" h="21600">
                <a:moveTo>
                  <a:pt x="14457" y="14299"/>
                </a:moveTo>
                <a:lnTo>
                  <a:pt x="16302" y="14299"/>
                </a:lnTo>
                <a:lnTo>
                  <a:pt x="16302" y="17989"/>
                </a:lnTo>
                <a:lnTo>
                  <a:pt x="20688" y="17989"/>
                </a:lnTo>
                <a:lnTo>
                  <a:pt x="20688" y="10800"/>
                </a:lnTo>
                <a:lnTo>
                  <a:pt x="10070" y="10800"/>
                </a:lnTo>
                <a:lnTo>
                  <a:pt x="10070" y="17989"/>
                </a:lnTo>
                <a:lnTo>
                  <a:pt x="14457" y="17989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AutoShape 29">
            <a:hlinkClick r:id="" action="ppaction://hlinkshowjump?jump=nextslide"/>
          </p:cNvPr>
          <p:cNvSpPr/>
          <p:nvPr/>
        </p:nvSpPr>
        <p:spPr>
          <a:xfrm>
            <a:off x="8388360" y="595008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Номер слайда 1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A399-FEFF-4F84-9F45-AD21B808C09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троение инфузории - туфельк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 – ро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- глот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 – пищеварительная вакуо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 – порош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 – макронукле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6 – микронукле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7,8 – сократительные вакуо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9 – реснич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0 – пищеварительная вакуо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4" name="Picture 6" descr="инфузория туфелька"/>
          <p:cNvPicPr/>
          <p:nvPr/>
        </p:nvPicPr>
        <p:blipFill>
          <a:blip r:embed="rId1"/>
          <a:stretch/>
        </p:blipFill>
        <p:spPr>
          <a:xfrm>
            <a:off x="826920" y="2071800"/>
            <a:ext cx="2521080" cy="399420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sp>
        <p:nvSpPr>
          <p:cNvPr id="255" name="AutoShape 7">
            <a:hlinkClick r:id="" action="ppaction://hlinkshowjump?jump=previousslide"/>
          </p:cNvPr>
          <p:cNvSpPr/>
          <p:nvPr/>
        </p:nvSpPr>
        <p:spPr>
          <a:xfrm>
            <a:off x="6372360" y="6453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10800"/>
                </a:moveTo>
                <a:lnTo>
                  <a:pt x="22376" y="3794"/>
                </a:lnTo>
                <a:lnTo>
                  <a:pt x="22376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AutoShape 8">
            <a:hlinkClick r:id="rId2" action="ppaction://hlinksldjump"/>
          </p:cNvPr>
          <p:cNvSpPr/>
          <p:nvPr/>
        </p:nvSpPr>
        <p:spPr>
          <a:xfrm>
            <a:off x="702000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15379" y="3837"/>
                </a:moveTo>
                <a:lnTo>
                  <a:pt x="17955" y="6448"/>
                </a:ln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lnTo>
                  <a:pt x="22342" y="10800"/>
                </a:lnTo>
                <a:lnTo>
                  <a:pt x="20688" y="10800"/>
                </a:lnTo>
                <a:lnTo>
                  <a:pt x="20688" y="17989"/>
                </a:lnTo>
                <a:lnTo>
                  <a:pt x="10070" y="17989"/>
                </a:lnTo>
                <a:lnTo>
                  <a:pt x="10070" y="10800"/>
                </a:lnTo>
                <a:lnTo>
                  <a:pt x="8416" y="10800"/>
                </a:lnTo>
                <a:close/>
              </a:path>
              <a:path fill="darkenLess" w="30758" h="21600">
                <a:moveTo>
                  <a:pt x="17955" y="6448"/>
                </a:move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close/>
              </a:path>
              <a:path fill="darkenLess" w="30758" h="21600">
                <a:moveTo>
                  <a:pt x="14457" y="14299"/>
                </a:moveTo>
                <a:lnTo>
                  <a:pt x="16302" y="14299"/>
                </a:lnTo>
                <a:lnTo>
                  <a:pt x="16302" y="17989"/>
                </a:lnTo>
                <a:lnTo>
                  <a:pt x="20688" y="17989"/>
                </a:lnTo>
                <a:lnTo>
                  <a:pt x="20688" y="10800"/>
                </a:lnTo>
                <a:lnTo>
                  <a:pt x="10070" y="10800"/>
                </a:lnTo>
                <a:lnTo>
                  <a:pt x="10070" y="17989"/>
                </a:lnTo>
                <a:lnTo>
                  <a:pt x="14457" y="17989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AutoShape 9">
            <a:hlinkClick r:id="" action="ppaction://hlinkshowjump?jump=nextslide"/>
          </p:cNvPr>
          <p:cNvSpPr/>
          <p:nvPr/>
        </p:nvSpPr>
        <p:spPr>
          <a:xfrm>
            <a:off x="766764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A469-59DD-4957-92C1-4543A91C690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7005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начение простейших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стейшие играют заметную роль в пищевых цепях водоем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морях и океанах раковины отмерших корненожек, оседая на дно, образуют пласты осадочных поро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реди простейших много парази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стейшие, живущие в водоемах, играют роль биофильтраторов в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громна роль почвенных одноклеточных организм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AutoShape 22"/>
          <p:cNvSpPr/>
          <p:nvPr/>
        </p:nvSpPr>
        <p:spPr>
          <a:xfrm>
            <a:off x="324000" y="1773360"/>
            <a:ext cx="71280" cy="7128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AutoShape 23"/>
          <p:cNvSpPr/>
          <p:nvPr/>
        </p:nvSpPr>
        <p:spPr>
          <a:xfrm>
            <a:off x="324000" y="2637000"/>
            <a:ext cx="71280" cy="7272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AutoShape 24"/>
          <p:cNvSpPr/>
          <p:nvPr/>
        </p:nvSpPr>
        <p:spPr>
          <a:xfrm>
            <a:off x="395280" y="3860640"/>
            <a:ext cx="73080" cy="7308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AutoShape 25"/>
          <p:cNvSpPr/>
          <p:nvPr/>
        </p:nvSpPr>
        <p:spPr>
          <a:xfrm>
            <a:off x="395280" y="4292640"/>
            <a:ext cx="73080" cy="7308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AutoShape 26"/>
          <p:cNvSpPr/>
          <p:nvPr/>
        </p:nvSpPr>
        <p:spPr>
          <a:xfrm>
            <a:off x="395280" y="5157720"/>
            <a:ext cx="71280" cy="7164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6" name="Picture 27" descr="te020201103"/>
          <p:cNvPicPr/>
          <p:nvPr/>
        </p:nvPicPr>
        <p:blipFill>
          <a:blip r:embed="rId1"/>
          <a:stretch/>
        </p:blipFill>
        <p:spPr>
          <a:xfrm>
            <a:off x="324000" y="189000"/>
            <a:ext cx="1284120" cy="1284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67" name="Picture 32" descr="саркодовые"/>
          <p:cNvPicPr/>
          <p:nvPr/>
        </p:nvPicPr>
        <p:blipFill>
          <a:blip r:embed="rId2"/>
          <a:stretch/>
        </p:blipFill>
        <p:spPr>
          <a:xfrm>
            <a:off x="7596360" y="4797360"/>
            <a:ext cx="1295280" cy="1397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68" name="AutoShape 33">
            <a:hlinkClick r:id="" action="ppaction://hlinkshowjump?jump=previousslide"/>
          </p:cNvPr>
          <p:cNvSpPr/>
          <p:nvPr/>
        </p:nvSpPr>
        <p:spPr>
          <a:xfrm>
            <a:off x="6372360" y="6453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10800"/>
                </a:moveTo>
                <a:lnTo>
                  <a:pt x="22376" y="3794"/>
                </a:lnTo>
                <a:lnTo>
                  <a:pt x="22376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AutoShape 34">
            <a:hlinkClick r:id="rId3" action="ppaction://hlinksldjump"/>
          </p:cNvPr>
          <p:cNvSpPr/>
          <p:nvPr/>
        </p:nvSpPr>
        <p:spPr>
          <a:xfrm>
            <a:off x="702000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15379" y="3837"/>
                </a:moveTo>
                <a:lnTo>
                  <a:pt x="17955" y="6448"/>
                </a:ln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lnTo>
                  <a:pt x="22342" y="10800"/>
                </a:lnTo>
                <a:lnTo>
                  <a:pt x="20688" y="10800"/>
                </a:lnTo>
                <a:lnTo>
                  <a:pt x="20688" y="17989"/>
                </a:lnTo>
                <a:lnTo>
                  <a:pt x="10070" y="17989"/>
                </a:lnTo>
                <a:lnTo>
                  <a:pt x="10070" y="10800"/>
                </a:lnTo>
                <a:lnTo>
                  <a:pt x="8416" y="10800"/>
                </a:lnTo>
                <a:close/>
              </a:path>
              <a:path fill="darkenLess" w="30758" h="21600">
                <a:moveTo>
                  <a:pt x="17955" y="6448"/>
                </a:move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close/>
              </a:path>
              <a:path fill="darkenLess" w="30758" h="21600">
                <a:moveTo>
                  <a:pt x="14457" y="14299"/>
                </a:moveTo>
                <a:lnTo>
                  <a:pt x="16302" y="14299"/>
                </a:lnTo>
                <a:lnTo>
                  <a:pt x="16302" y="17989"/>
                </a:lnTo>
                <a:lnTo>
                  <a:pt x="20688" y="17989"/>
                </a:lnTo>
                <a:lnTo>
                  <a:pt x="20688" y="10800"/>
                </a:lnTo>
                <a:lnTo>
                  <a:pt x="10070" y="10800"/>
                </a:lnTo>
                <a:lnTo>
                  <a:pt x="10070" y="17989"/>
                </a:lnTo>
                <a:lnTo>
                  <a:pt x="14457" y="17989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AutoShape 35">
            <a:hlinkClick r:id="" action="ppaction://hlinkshowjump?jump=nextslide"/>
          </p:cNvPr>
          <p:cNvSpPr/>
          <p:nvPr/>
        </p:nvSpPr>
        <p:spPr>
          <a:xfrm>
            <a:off x="766764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Номер слайда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E5C9-1E6B-4AAF-9E92-97DEA8DF503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Задачи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Ученые ботаники относят эвглену зеленую к растениям, а зоологи  - к животным. Кто из них прав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Простейшие широко распространены в почве и воде, однако, они не могут жить в кипяченной воде. Как вы думаете, почем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AutoShape 7">
            <a:hlinkClick r:id="" action="ppaction://hlinkshowjump?jump=previousslide"/>
          </p:cNvPr>
          <p:cNvSpPr/>
          <p:nvPr/>
        </p:nvSpPr>
        <p:spPr>
          <a:xfrm>
            <a:off x="630072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10800"/>
                </a:moveTo>
                <a:lnTo>
                  <a:pt x="22386" y="3794"/>
                </a:lnTo>
                <a:lnTo>
                  <a:pt x="22386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AutoShape 8">
            <a:hlinkClick r:id="rId1" action="ppaction://hlinksldjump"/>
          </p:cNvPr>
          <p:cNvSpPr/>
          <p:nvPr/>
        </p:nvSpPr>
        <p:spPr>
          <a:xfrm>
            <a:off x="694836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15379" y="3837"/>
                </a:moveTo>
                <a:lnTo>
                  <a:pt x="17955" y="6448"/>
                </a:ln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lnTo>
                  <a:pt x="22342" y="10800"/>
                </a:lnTo>
                <a:lnTo>
                  <a:pt x="20688" y="10800"/>
                </a:lnTo>
                <a:lnTo>
                  <a:pt x="20688" y="17989"/>
                </a:lnTo>
                <a:lnTo>
                  <a:pt x="10070" y="17989"/>
                </a:lnTo>
                <a:lnTo>
                  <a:pt x="10070" y="10800"/>
                </a:lnTo>
                <a:lnTo>
                  <a:pt x="8416" y="10800"/>
                </a:lnTo>
                <a:close/>
              </a:path>
              <a:path fill="darkenLess" w="30758" h="21600">
                <a:moveTo>
                  <a:pt x="17955" y="6448"/>
                </a:move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close/>
              </a:path>
              <a:path fill="darkenLess" w="30758" h="21600">
                <a:moveTo>
                  <a:pt x="14457" y="14299"/>
                </a:moveTo>
                <a:lnTo>
                  <a:pt x="16302" y="14299"/>
                </a:lnTo>
                <a:lnTo>
                  <a:pt x="16302" y="17989"/>
                </a:lnTo>
                <a:lnTo>
                  <a:pt x="20688" y="17989"/>
                </a:lnTo>
                <a:lnTo>
                  <a:pt x="20688" y="10800"/>
                </a:lnTo>
                <a:lnTo>
                  <a:pt x="10070" y="10800"/>
                </a:lnTo>
                <a:lnTo>
                  <a:pt x="10070" y="17989"/>
                </a:lnTo>
                <a:lnTo>
                  <a:pt x="14457" y="17989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AutoShape 9">
            <a:hlinkClick r:id="" action="ppaction://hlinkshowjump?jump=nextslide"/>
          </p:cNvPr>
          <p:cNvSpPr/>
          <p:nvPr/>
        </p:nvSpPr>
        <p:spPr>
          <a:xfrm>
            <a:off x="7596360" y="6453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3794"/>
                </a:moveTo>
                <a:lnTo>
                  <a:pt x="22376" y="10800"/>
                </a:lnTo>
                <a:lnTo>
                  <a:pt x="8363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WordArt 10"/>
          <p:cNvSpPr txBox="1"/>
          <p:nvPr/>
        </p:nvSpPr>
        <p:spPr>
          <a:xfrm>
            <a:off x="7093080" y="3141720"/>
            <a:ext cx="93492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</a:t>
            </a: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78" name="WordArt 11"/>
          <p:cNvSpPr txBox="1"/>
          <p:nvPr/>
        </p:nvSpPr>
        <p:spPr>
          <a:xfrm>
            <a:off x="7236000" y="5661000"/>
            <a:ext cx="93492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</a:t>
            </a: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79" name="Номер слайда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487C-0459-48AB-920E-71A430E541B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Для жизни инфузорий – туфелек углекислый газ не нужен, а в больших количествах даже вреден. Однако замечено, что они всегда плывут в ту сторону, где углекислого газа больше. Объясните, почем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AutoShape 4">
            <a:hlinkClick r:id="" action="ppaction://hlinkshowjump?jump=previousslide"/>
          </p:cNvPr>
          <p:cNvSpPr/>
          <p:nvPr/>
        </p:nvSpPr>
        <p:spPr>
          <a:xfrm>
            <a:off x="630072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10800"/>
                </a:moveTo>
                <a:lnTo>
                  <a:pt x="22386" y="3794"/>
                </a:lnTo>
                <a:lnTo>
                  <a:pt x="22386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AutoShape 5">
            <a:hlinkClick r:id="rId1" action="ppaction://hlinksldjump"/>
          </p:cNvPr>
          <p:cNvSpPr/>
          <p:nvPr/>
        </p:nvSpPr>
        <p:spPr>
          <a:xfrm>
            <a:off x="694836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15379" y="3837"/>
                </a:moveTo>
                <a:lnTo>
                  <a:pt x="17955" y="6448"/>
                </a:ln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lnTo>
                  <a:pt x="22342" y="10800"/>
                </a:lnTo>
                <a:lnTo>
                  <a:pt x="20688" y="10800"/>
                </a:lnTo>
                <a:lnTo>
                  <a:pt x="20688" y="17989"/>
                </a:lnTo>
                <a:lnTo>
                  <a:pt x="10070" y="17989"/>
                </a:lnTo>
                <a:lnTo>
                  <a:pt x="10070" y="10800"/>
                </a:lnTo>
                <a:lnTo>
                  <a:pt x="8416" y="10800"/>
                </a:lnTo>
                <a:close/>
              </a:path>
              <a:path fill="darkenLess" w="30758" h="21600">
                <a:moveTo>
                  <a:pt x="17955" y="6448"/>
                </a:move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close/>
              </a:path>
              <a:path fill="darkenLess" w="30758" h="21600">
                <a:moveTo>
                  <a:pt x="14457" y="14299"/>
                </a:moveTo>
                <a:lnTo>
                  <a:pt x="16302" y="14299"/>
                </a:lnTo>
                <a:lnTo>
                  <a:pt x="16302" y="17989"/>
                </a:lnTo>
                <a:lnTo>
                  <a:pt x="20688" y="17989"/>
                </a:lnTo>
                <a:lnTo>
                  <a:pt x="20688" y="10800"/>
                </a:lnTo>
                <a:lnTo>
                  <a:pt x="10070" y="10800"/>
                </a:lnTo>
                <a:lnTo>
                  <a:pt x="10070" y="17989"/>
                </a:lnTo>
                <a:lnTo>
                  <a:pt x="14457" y="17989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AutoShape 6">
            <a:hlinkClick r:id="" action="ppaction://hlinkshowjump?jump=nextslide"/>
          </p:cNvPr>
          <p:cNvSpPr/>
          <p:nvPr/>
        </p:nvSpPr>
        <p:spPr>
          <a:xfrm>
            <a:off x="7596360" y="6453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3794"/>
                </a:moveTo>
                <a:lnTo>
                  <a:pt x="22376" y="10800"/>
                </a:lnTo>
                <a:lnTo>
                  <a:pt x="8363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WordArt 7"/>
          <p:cNvSpPr txBox="1"/>
          <p:nvPr/>
        </p:nvSpPr>
        <p:spPr>
          <a:xfrm>
            <a:off x="7020000" y="5157720"/>
            <a:ext cx="93492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</a:t>
            </a: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86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7AE0-A31A-4280-B93F-6B82C0CA6BD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В пробирку воды из пруда с эвгле - нами прилили немного раствора йода. Смесь изменила цвет. Почему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Среди водных животных имеется довольно много прозрачных форм, а среди обитателей поверхности почвы их почти нет. Как вы думаете, почем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AutoShape 4">
            <a:hlinkClick r:id="" action="ppaction://hlinkshowjump?jump=previousslide"/>
          </p:cNvPr>
          <p:cNvSpPr/>
          <p:nvPr/>
        </p:nvSpPr>
        <p:spPr>
          <a:xfrm>
            <a:off x="622764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10800"/>
                </a:moveTo>
                <a:lnTo>
                  <a:pt x="22386" y="3794"/>
                </a:lnTo>
                <a:lnTo>
                  <a:pt x="22386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AutoShape 5">
            <a:hlinkClick r:id="rId1" action="ppaction://hlinksldjump"/>
          </p:cNvPr>
          <p:cNvSpPr/>
          <p:nvPr/>
        </p:nvSpPr>
        <p:spPr>
          <a:xfrm>
            <a:off x="6875640" y="6453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15370" y="3837"/>
                </a:moveTo>
                <a:lnTo>
                  <a:pt x="17946" y="6448"/>
                </a:lnTo>
                <a:lnTo>
                  <a:pt x="17946" y="4707"/>
                </a:lnTo>
                <a:lnTo>
                  <a:pt x="19721" y="4707"/>
                </a:lnTo>
                <a:lnTo>
                  <a:pt x="19721" y="8224"/>
                </a:lnTo>
                <a:lnTo>
                  <a:pt x="22333" y="10800"/>
                </a:lnTo>
                <a:lnTo>
                  <a:pt x="20679" y="10800"/>
                </a:lnTo>
                <a:lnTo>
                  <a:pt x="20679" y="17989"/>
                </a:lnTo>
                <a:lnTo>
                  <a:pt x="10060" y="17989"/>
                </a:lnTo>
                <a:lnTo>
                  <a:pt x="10060" y="10800"/>
                </a:lnTo>
                <a:lnTo>
                  <a:pt x="8407" y="10800"/>
                </a:lnTo>
                <a:close/>
              </a:path>
              <a:path fill="darkenLess" w="30739" h="21600">
                <a:moveTo>
                  <a:pt x="17946" y="6448"/>
                </a:moveTo>
                <a:lnTo>
                  <a:pt x="17946" y="4707"/>
                </a:lnTo>
                <a:lnTo>
                  <a:pt x="19721" y="4707"/>
                </a:lnTo>
                <a:lnTo>
                  <a:pt x="19721" y="8224"/>
                </a:lnTo>
                <a:close/>
              </a:path>
              <a:path fill="darkenLess" w="30739" h="21600">
                <a:moveTo>
                  <a:pt x="14447" y="14299"/>
                </a:moveTo>
                <a:lnTo>
                  <a:pt x="16292" y="14299"/>
                </a:lnTo>
                <a:lnTo>
                  <a:pt x="16292" y="17989"/>
                </a:lnTo>
                <a:lnTo>
                  <a:pt x="20679" y="17989"/>
                </a:lnTo>
                <a:lnTo>
                  <a:pt x="20679" y="10800"/>
                </a:lnTo>
                <a:lnTo>
                  <a:pt x="10060" y="10800"/>
                </a:lnTo>
                <a:lnTo>
                  <a:pt x="10060" y="17989"/>
                </a:lnTo>
                <a:lnTo>
                  <a:pt x="14447" y="17989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AutoShape 6">
            <a:hlinkClick r:id="rId2" action="ppaction://hlinksldjump"/>
          </p:cNvPr>
          <p:cNvSpPr/>
          <p:nvPr/>
        </p:nvSpPr>
        <p:spPr>
          <a:xfrm>
            <a:off x="7523280" y="6453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3794"/>
                </a:moveTo>
                <a:lnTo>
                  <a:pt x="22376" y="10800"/>
                </a:lnTo>
                <a:lnTo>
                  <a:pt x="8363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WordArt 7"/>
          <p:cNvSpPr txBox="1"/>
          <p:nvPr/>
        </p:nvSpPr>
        <p:spPr>
          <a:xfrm>
            <a:off x="7380360" y="5661000"/>
            <a:ext cx="93492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</a:t>
            </a: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93" name="WordArt 8"/>
          <p:cNvSpPr txBox="1"/>
          <p:nvPr/>
        </p:nvSpPr>
        <p:spPr>
          <a:xfrm>
            <a:off x="7380360" y="2924280"/>
            <a:ext cx="93492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</a:t>
            </a: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94" name="Номер слайда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1406-FAB8-4D30-B4FA-978DC238371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твет к задаче 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Ученые ботаники относят эвглену зеленую к растениям, а зоологи  - к животным. Кто из них прав?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твет.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вглена – животное, но ее нельзя назвать типичным животным. Она свободно передвигается, питается автотрофно, подобно зеленым растениям, использует на свету воду и углекислый газ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7596360" y="6453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3794"/>
                </a:moveTo>
                <a:lnTo>
                  <a:pt x="22376" y="10800"/>
                </a:lnTo>
                <a:lnTo>
                  <a:pt x="8363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C6AC-58CE-42CA-B2DC-4BDC5E19DE0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твет к задаче 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Простейшие широко распространены в почве и воде, однако, они не могут жить в кипяченной воде. Как вы думаете, почему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твет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ростейшие не могут жить в кипяченной воде, потому что в ней нет растворенного кислорода, а он необходим для жизни большинства животны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AutoShape 4"/>
          <p:cNvSpPr/>
          <p:nvPr/>
        </p:nvSpPr>
        <p:spPr>
          <a:xfrm>
            <a:off x="7596360" y="6453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3794"/>
                </a:moveTo>
                <a:lnTo>
                  <a:pt x="22376" y="10800"/>
                </a:lnTo>
                <a:lnTo>
                  <a:pt x="8363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8131-B3B6-44AD-B469-632C503D7B0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твет к задаче 3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Для жизни инфузорий – туфелек углекислый газ не нужен, а в больших количествах даже вреден. Однако замечено, что они всегда плывут в ту сторону, где углекислого газа больше. Объясните, почему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твет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Эти одноклеточные животные питаются бактериями, а бактерии питаются, в основном, отмершими организмами. В результате их разложения органические соединения превращаются в воду и углекислый газ, следовательно, там, где много бактерий, много и углекислого газа. Таким образом , реагируя на углекислоту, инфузории -  туфельки двигаются в сторону бактер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AutoShape 4"/>
          <p:cNvSpPr/>
          <p:nvPr/>
        </p:nvSpPr>
        <p:spPr>
          <a:xfrm>
            <a:off x="7596360" y="6453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3794"/>
                </a:moveTo>
                <a:lnTo>
                  <a:pt x="22376" y="10800"/>
                </a:lnTo>
                <a:lnTo>
                  <a:pt x="8363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E616-7BAA-4BDF-A6DE-4B27301763C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твет к задаче 4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 В пробирку воды из пруда с эвгленами прилили немного раствора йода. Смесь изменила цвет. Почему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вет. Зеленая окраска эвглены обусловлена многочисленными зелеными хлоропластами, содержащими хлорофилл, благодаря которому эвглены способны вырабатывать органические вещества из неорганических. В состав органических веществ, входит парамил – углевод, близкий к крахмалу и под действием йода окрашивающийся в синий цв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AutoShape 4"/>
          <p:cNvSpPr/>
          <p:nvPr/>
        </p:nvSpPr>
        <p:spPr>
          <a:xfrm>
            <a:off x="7596360" y="6453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3794"/>
                </a:moveTo>
                <a:lnTo>
                  <a:pt x="22376" y="10800"/>
                </a:lnTo>
                <a:lnTo>
                  <a:pt x="8363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5A9F-4E37-496B-88B4-0C52D3829A2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76720" y="0"/>
            <a:ext cx="5410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Основные признаки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животных организмов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563640" y="1844640"/>
            <a:ext cx="524196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теротрофное пит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сутствие плотной клеточной стен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тивное передвиж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граниченный ро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ичие систем орган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ткая симметрия те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7" descr="заяц"/>
          <p:cNvPicPr/>
          <p:nvPr/>
        </p:nvPicPr>
        <p:blipFill>
          <a:blip r:embed="rId1"/>
          <a:stretch/>
        </p:blipFill>
        <p:spPr>
          <a:xfrm>
            <a:off x="0" y="0"/>
            <a:ext cx="1908000" cy="1647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1" name="Picture 8" descr="инфузории"/>
          <p:cNvPicPr/>
          <p:nvPr/>
        </p:nvPicPr>
        <p:blipFill>
          <a:blip r:embed="rId2"/>
          <a:stretch/>
        </p:blipFill>
        <p:spPr>
          <a:xfrm>
            <a:off x="0" y="3500280"/>
            <a:ext cx="1835280" cy="1568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2" name="Picture 9" descr="крупный осьминог"/>
          <p:cNvPicPr/>
          <p:nvPr/>
        </p:nvPicPr>
        <p:blipFill>
          <a:blip r:embed="rId3"/>
          <a:stretch/>
        </p:blipFill>
        <p:spPr>
          <a:xfrm>
            <a:off x="1116000" y="1773360"/>
            <a:ext cx="1800360" cy="16002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63" name="Picture 10" descr="розовый пеликан"/>
          <p:cNvPicPr/>
          <p:nvPr/>
        </p:nvPicPr>
        <p:blipFill>
          <a:blip r:embed="rId4"/>
          <a:stretch/>
        </p:blipFill>
        <p:spPr>
          <a:xfrm>
            <a:off x="1187280" y="5229360"/>
            <a:ext cx="1800360" cy="14396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64" name="AutoShape 12">
            <a:hlinkClick r:id="" action="ppaction://hlinkshowjump?jump=previousslide"/>
          </p:cNvPr>
          <p:cNvSpPr/>
          <p:nvPr/>
        </p:nvSpPr>
        <p:spPr>
          <a:xfrm>
            <a:off x="6516720" y="6264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10800"/>
                </a:moveTo>
                <a:lnTo>
                  <a:pt x="22386" y="3794"/>
                </a:lnTo>
                <a:lnTo>
                  <a:pt x="22386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AutoShape 14">
            <a:hlinkClick r:id="rId5" action="ppaction://hlinksldjump"/>
          </p:cNvPr>
          <p:cNvSpPr/>
          <p:nvPr/>
        </p:nvSpPr>
        <p:spPr>
          <a:xfrm>
            <a:off x="7164360" y="6264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15379" y="3837"/>
                </a:moveTo>
                <a:lnTo>
                  <a:pt x="17955" y="6448"/>
                </a:ln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lnTo>
                  <a:pt x="22342" y="10800"/>
                </a:lnTo>
                <a:lnTo>
                  <a:pt x="20688" y="10800"/>
                </a:lnTo>
                <a:lnTo>
                  <a:pt x="20688" y="17989"/>
                </a:lnTo>
                <a:lnTo>
                  <a:pt x="10070" y="17989"/>
                </a:lnTo>
                <a:lnTo>
                  <a:pt x="10070" y="10800"/>
                </a:lnTo>
                <a:lnTo>
                  <a:pt x="8416" y="10800"/>
                </a:lnTo>
                <a:close/>
              </a:path>
              <a:path fill="darkenLess" w="30758" h="21600">
                <a:moveTo>
                  <a:pt x="17955" y="6448"/>
                </a:move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close/>
              </a:path>
              <a:path fill="darkenLess" w="30758" h="21600">
                <a:moveTo>
                  <a:pt x="14457" y="14299"/>
                </a:moveTo>
                <a:lnTo>
                  <a:pt x="16302" y="14299"/>
                </a:lnTo>
                <a:lnTo>
                  <a:pt x="16302" y="17989"/>
                </a:lnTo>
                <a:lnTo>
                  <a:pt x="20688" y="17989"/>
                </a:lnTo>
                <a:lnTo>
                  <a:pt x="20688" y="10800"/>
                </a:lnTo>
                <a:lnTo>
                  <a:pt x="10070" y="10800"/>
                </a:lnTo>
                <a:lnTo>
                  <a:pt x="10070" y="17989"/>
                </a:lnTo>
                <a:lnTo>
                  <a:pt x="14457" y="17989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AutoShape 15">
            <a:hlinkClick r:id="" action="ppaction://hlinkshowjump?jump=nextslide"/>
          </p:cNvPr>
          <p:cNvSpPr/>
          <p:nvPr/>
        </p:nvSpPr>
        <p:spPr>
          <a:xfrm>
            <a:off x="7812000" y="6264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15F2-C453-4D3B-888C-E6A6F74213B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твет к задаче 5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. Среди водных животных имеется довольно много прозрачных форм, а среди обитателей поверхности почвы их почти нет. Как вы думаете, почему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вет. Прозрачные формы животных в воде имеют больше шансов выжить , они менее заметны, пропуская через свое тело солнечный свет. Темные формы в почве лучше сливаются с фоном, а также лучше нагревают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7596360" y="6453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3794"/>
                </a:moveTo>
                <a:lnTo>
                  <a:pt x="22376" y="10800"/>
                </a:lnTo>
                <a:lnTo>
                  <a:pt x="8363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694836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15379" y="3837"/>
                </a:moveTo>
                <a:lnTo>
                  <a:pt x="17955" y="6448"/>
                </a:ln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lnTo>
                  <a:pt x="22342" y="10800"/>
                </a:lnTo>
                <a:lnTo>
                  <a:pt x="20688" y="10800"/>
                </a:lnTo>
                <a:lnTo>
                  <a:pt x="20688" y="17989"/>
                </a:lnTo>
                <a:lnTo>
                  <a:pt x="10070" y="17989"/>
                </a:lnTo>
                <a:lnTo>
                  <a:pt x="10070" y="10800"/>
                </a:lnTo>
                <a:lnTo>
                  <a:pt x="8416" y="10800"/>
                </a:lnTo>
                <a:close/>
              </a:path>
              <a:path fill="darkenLess" w="30758" h="21600">
                <a:moveTo>
                  <a:pt x="17955" y="6448"/>
                </a:move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close/>
              </a:path>
              <a:path fill="darkenLess" w="30758" h="21600">
                <a:moveTo>
                  <a:pt x="14457" y="14299"/>
                </a:moveTo>
                <a:lnTo>
                  <a:pt x="16302" y="14299"/>
                </a:lnTo>
                <a:lnTo>
                  <a:pt x="16302" y="17989"/>
                </a:lnTo>
                <a:lnTo>
                  <a:pt x="20688" y="17989"/>
                </a:lnTo>
                <a:lnTo>
                  <a:pt x="20688" y="10800"/>
                </a:lnTo>
                <a:lnTo>
                  <a:pt x="10070" y="10800"/>
                </a:lnTo>
                <a:lnTo>
                  <a:pt x="10070" y="17989"/>
                </a:lnTo>
                <a:lnTo>
                  <a:pt x="14457" y="17989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C8FF-517B-4979-90C8-D1FDCF1D02B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Лабораторная работа: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«Строение одноклеточного животного организма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3628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Рассмотрите воду в пробирке. Чистая ли это вода? Видны ли в ней какие – то организм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Настройте микроскоп. Приготовьте микропрепара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Рассмотрите микропрепарат при малом увеличении. Что вы обнаружил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Передвигается ли увиденное существо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563640" y="4581360"/>
            <a:ext cx="532908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. Какая у него форма? Что напоминает? Предложите назва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9" name="Picture 7" descr="инфузории"/>
          <p:cNvPicPr/>
          <p:nvPr/>
        </p:nvPicPr>
        <p:blipFill>
          <a:blip r:embed="rId1"/>
          <a:stretch/>
        </p:blipFill>
        <p:spPr>
          <a:xfrm>
            <a:off x="611280" y="4653000"/>
            <a:ext cx="2566800" cy="19447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320" name="AutoShape 6">
            <a:hlinkClick r:id="" action="ppaction://hlinkshowjump?jump=previousslide"/>
          </p:cNvPr>
          <p:cNvSpPr/>
          <p:nvPr/>
        </p:nvSpPr>
        <p:spPr>
          <a:xfrm>
            <a:off x="630072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10800"/>
                </a:moveTo>
                <a:lnTo>
                  <a:pt x="22386" y="3794"/>
                </a:lnTo>
                <a:lnTo>
                  <a:pt x="22386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AutoShape 11"/>
          <p:cNvSpPr/>
          <p:nvPr/>
        </p:nvSpPr>
        <p:spPr>
          <a:xfrm>
            <a:off x="694836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15379" y="3837"/>
                </a:moveTo>
                <a:lnTo>
                  <a:pt x="17955" y="6448"/>
                </a:ln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lnTo>
                  <a:pt x="22342" y="10800"/>
                </a:lnTo>
                <a:lnTo>
                  <a:pt x="20688" y="10800"/>
                </a:lnTo>
                <a:lnTo>
                  <a:pt x="20688" y="17989"/>
                </a:lnTo>
                <a:lnTo>
                  <a:pt x="10070" y="17989"/>
                </a:lnTo>
                <a:lnTo>
                  <a:pt x="10070" y="10800"/>
                </a:lnTo>
                <a:lnTo>
                  <a:pt x="8416" y="10800"/>
                </a:lnTo>
                <a:close/>
              </a:path>
              <a:path fill="darkenLess" w="30758" h="21600">
                <a:moveTo>
                  <a:pt x="17955" y="6448"/>
                </a:move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close/>
              </a:path>
              <a:path fill="darkenLess" w="30758" h="21600">
                <a:moveTo>
                  <a:pt x="14457" y="14299"/>
                </a:moveTo>
                <a:lnTo>
                  <a:pt x="16302" y="14299"/>
                </a:lnTo>
                <a:lnTo>
                  <a:pt x="16302" y="17989"/>
                </a:lnTo>
                <a:lnTo>
                  <a:pt x="20688" y="17989"/>
                </a:lnTo>
                <a:lnTo>
                  <a:pt x="20688" y="10800"/>
                </a:lnTo>
                <a:lnTo>
                  <a:pt x="10070" y="10800"/>
                </a:lnTo>
                <a:lnTo>
                  <a:pt x="10070" y="17989"/>
                </a:lnTo>
                <a:lnTo>
                  <a:pt x="14457" y="17989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AutoShape 12">
            <a:hlinkClick r:id="" action="ppaction://hlinkshowjump?jump=nextslide"/>
          </p:cNvPr>
          <p:cNvSpPr/>
          <p:nvPr/>
        </p:nvSpPr>
        <p:spPr>
          <a:xfrm>
            <a:off x="7596360" y="6453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3794"/>
                </a:moveTo>
                <a:lnTo>
                  <a:pt x="22376" y="10800"/>
                </a:lnTo>
                <a:lnTo>
                  <a:pt x="8363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Номер слайда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DC6C-5C48-45BB-920D-95E3AB4CC0D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8" descr="инфузория туфелька"/>
          <p:cNvPicPr/>
          <p:nvPr/>
        </p:nvPicPr>
        <p:blipFill>
          <a:blip r:embed="rId1"/>
          <a:stretch/>
        </p:blipFill>
        <p:spPr>
          <a:xfrm>
            <a:off x="755640" y="2492280"/>
            <a:ext cx="1440000" cy="295272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2411280" y="1628640"/>
            <a:ext cx="6120000" cy="38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. При большом увеличении рассмотрите строение инфузории – туфель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. Предположите, как она питается, дышит, размножает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9. Сделайте рисунок. Органоиды подпишит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6" name="Picture 7" descr="te020201102"/>
          <p:cNvPicPr/>
          <p:nvPr/>
        </p:nvPicPr>
        <p:blipFill>
          <a:blip r:embed="rId2"/>
          <a:stretch/>
        </p:blipFill>
        <p:spPr>
          <a:xfrm>
            <a:off x="755640" y="765000"/>
            <a:ext cx="1428840" cy="1428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27" name="AutoShape 12"/>
          <p:cNvSpPr/>
          <p:nvPr/>
        </p:nvSpPr>
        <p:spPr>
          <a:xfrm>
            <a:off x="766764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15379" y="3837"/>
                </a:moveTo>
                <a:lnTo>
                  <a:pt x="17955" y="6448"/>
                </a:ln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lnTo>
                  <a:pt x="22342" y="10800"/>
                </a:lnTo>
                <a:lnTo>
                  <a:pt x="20688" y="10800"/>
                </a:lnTo>
                <a:lnTo>
                  <a:pt x="20688" y="17989"/>
                </a:lnTo>
                <a:lnTo>
                  <a:pt x="10070" y="17989"/>
                </a:lnTo>
                <a:lnTo>
                  <a:pt x="10070" y="10800"/>
                </a:lnTo>
                <a:lnTo>
                  <a:pt x="8416" y="10800"/>
                </a:lnTo>
                <a:close/>
              </a:path>
              <a:path fill="darkenLess" w="30758" h="21600">
                <a:moveTo>
                  <a:pt x="17955" y="6448"/>
                </a:move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close/>
              </a:path>
              <a:path fill="darkenLess" w="30758" h="21600">
                <a:moveTo>
                  <a:pt x="14457" y="14299"/>
                </a:moveTo>
                <a:lnTo>
                  <a:pt x="16302" y="14299"/>
                </a:lnTo>
                <a:lnTo>
                  <a:pt x="16302" y="17989"/>
                </a:lnTo>
                <a:lnTo>
                  <a:pt x="20688" y="17989"/>
                </a:lnTo>
                <a:lnTo>
                  <a:pt x="20688" y="10800"/>
                </a:lnTo>
                <a:lnTo>
                  <a:pt x="10070" y="10800"/>
                </a:lnTo>
                <a:lnTo>
                  <a:pt x="10070" y="17989"/>
                </a:lnTo>
                <a:lnTo>
                  <a:pt x="14457" y="17989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4FD6-6068-4E3C-845C-30723561A46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Лабораторная работа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Тема: «Строение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нфузории-туфельки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57120" y="2571840"/>
            <a:ext cx="822960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ая цель нашей лабораторной работы? Запишите ее в тетрад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й ход работы вы предложите для  реализации цели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формите в тетради результаты работы и сделайте вывод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7767-5053-4575-9556-72C30231589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42680" y="571320"/>
            <a:ext cx="692964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нфузория - туфелька (световой микроскоп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780000" y="1989000"/>
            <a:ext cx="496872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1200" indent="-31500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рисуйте микропрепара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1200" indent="-31500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рисунке отметьте части клеток: оболочку, цитоплазму, ядра, вакуо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1200" indent="-31500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ишите особенности клеток (форму, окраску, относительные размеры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4" name="Picture 6" descr="инфузории"/>
          <p:cNvPicPr/>
          <p:nvPr/>
        </p:nvPicPr>
        <p:blipFill>
          <a:blip r:embed="rId1"/>
          <a:stretch/>
        </p:blipFill>
        <p:spPr>
          <a:xfrm>
            <a:off x="468360" y="2276640"/>
            <a:ext cx="3154320" cy="3270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335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C0F9-DE24-41CA-8121-48B20A2DA5A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57960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нфузория – туфелька </a:t>
            </a:r>
            <a:br>
              <a:rPr sz="40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(электронный микроскоп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58920" y="2642760"/>
            <a:ext cx="55846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5760" indent="-43884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рисуйте строение инфузории, видимое в электронный микроскоп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5760" indent="-43884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пишите части клетки, указанные цифр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5760" indent="-43884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ъясните значение этих часте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8" name="Picture 6" descr="инфузория туфелька"/>
          <p:cNvPicPr/>
          <p:nvPr/>
        </p:nvPicPr>
        <p:blipFill>
          <a:blip r:embed="rId1"/>
          <a:stretch/>
        </p:blipFill>
        <p:spPr>
          <a:xfrm>
            <a:off x="755640" y="2349360"/>
            <a:ext cx="1612800" cy="390528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sp>
        <p:nvSpPr>
          <p:cNvPr id="339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D6F3-F483-469E-962E-C161C807964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8400" y="533520"/>
            <a:ext cx="90392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делайте выводы,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отвечая на вопросы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13880" y="1447560"/>
            <a:ext cx="7796520" cy="42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785520" y="1642680"/>
            <a:ext cx="7715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м отличаются выполненные рисунки? Объясните – почем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чему инфузорию-туфельку относят к гетеротрофам? Какие у нее появляются приспособления для такого способа питани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чему в процессе эволюции этот организм практически не изменилс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4FFA-2EE6-4C8D-A866-BE27D16AF9C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Используемая литература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250560" y="1125360"/>
            <a:ext cx="88930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ин Н, Стаут У, Тейлор Д. Биология : В 3 т.  1том: Пер с англ. / Под ред. Р Сопера. – М.: Мир, 199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уфельд И М . Зоология: Учебное пособие/ Под общей редакцией Л Панфиловой. – М. : ТЕРРА, 200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мьянков Е Н . Биология. Мир животных 7 кл.: задачи, дополнительные материалы/ Е Н Демьянков, А И Никишов. – М.: Гуманитар. Изд. Центр ВЛАДОС, 20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харов В Б , Сонин Н И . Биология . Многообразие организмов. 7 класс. Учебник для общеобразовательных учреждений. -  М.: Дрофа. ОАО «Московские учебники», 20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крытая биология. Версия 2.5 /Автор курса – Д И Мамонтов. Под ред. А В Маталина/ Физикон . Новый диск, 200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9077-4508-4876-9FCB-A312A7E198E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-3160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Иллюстрации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6836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львокс: </a:t>
            </a:r>
            <a:r>
              <a:rPr b="0" lang="ru-RU" sz="2400" spc="-1" strike="noStrike">
                <a:solidFill>
                  <a:srgbClr val="00b0f0"/>
                </a:solidFill>
                <a:latin typeface="Tahoma"/>
              </a:rPr>
              <a:t>dic.academic.r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гутиковые: </a:t>
            </a:r>
            <a:r>
              <a:rPr b="0" lang="ru-RU" sz="2400" spc="-1" strike="noStrike">
                <a:solidFill>
                  <a:srgbClr val="00b0f0"/>
                </a:solidFill>
                <a:latin typeface="Tahoma"/>
              </a:rPr>
              <a:t>msk.plazmamed.r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фузории : </a:t>
            </a:r>
            <a:r>
              <a:rPr b="0" lang="ru-RU" sz="2400" spc="-1" strike="noStrike">
                <a:solidFill>
                  <a:srgbClr val="00b0f0"/>
                </a:solidFill>
                <a:latin typeface="Tahoma"/>
              </a:rPr>
              <a:t>zooclub-chel.r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лония инфузорий кархезиум: </a:t>
            </a:r>
            <a:r>
              <a:rPr b="0" lang="ru-RU" sz="2400" spc="-1" strike="noStrike">
                <a:solidFill>
                  <a:srgbClr val="00b0f0"/>
                </a:solidFill>
                <a:latin typeface="Tahoma"/>
              </a:rPr>
              <a:t>www.phytology.r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ямблия: </a:t>
            </a:r>
            <a:r>
              <a:rPr b="0" lang="ru-RU" sz="2400" spc="-1" strike="noStrike">
                <a:solidFill>
                  <a:srgbClr val="00b0f0"/>
                </a:solidFill>
                <a:latin typeface="Tahoma"/>
              </a:rPr>
              <a:t>www.phytology.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ряд Кровяные споровики (Haemosporidia): </a:t>
            </a:r>
            <a:r>
              <a:rPr b="0" lang="ru-RU" sz="2400" spc="-1" strike="noStrike">
                <a:solidFill>
                  <a:srgbClr val="00b0f0"/>
                </a:solidFill>
                <a:latin typeface="Tahoma"/>
              </a:rPr>
              <a:t>dic.academic.r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ковины фораминифер: </a:t>
            </a:r>
            <a:r>
              <a:rPr b="0" lang="ru-RU" sz="2400" spc="-1" strike="noStrike">
                <a:solidFill>
                  <a:srgbClr val="00b0f0"/>
                </a:solidFill>
                <a:latin typeface="Tahoma"/>
              </a:rPr>
              <a:t>www.phytology.r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ркодовые: </a:t>
            </a:r>
            <a:r>
              <a:rPr b="0" lang="en-US" sz="2400" spc="-1" strike="noStrike" u="sng">
                <a:solidFill>
                  <a:srgbClr val="00b0f0"/>
                </a:solidFill>
                <a:uFillTx/>
                <a:latin typeface="Tahoma"/>
              </a:rPr>
              <a:t>bio</a:t>
            </a:r>
            <a:r>
              <a:rPr b="0" lang="ru-RU" sz="2400" spc="-1" strike="noStrike" u="sng">
                <a:solidFill>
                  <a:srgbClr val="00b0f0"/>
                </a:solidFill>
                <a:uFillTx/>
                <a:latin typeface="Tahoma"/>
              </a:rPr>
              <a:t>.1</a:t>
            </a:r>
            <a:r>
              <a:rPr b="0" lang="en-US" sz="2400" spc="-1" strike="noStrike" u="sng">
                <a:solidFill>
                  <a:srgbClr val="00b0f0"/>
                </a:solidFill>
                <a:uFillTx/>
                <a:latin typeface="Tahoma"/>
              </a:rPr>
              <a:t>september</a:t>
            </a:r>
            <a:r>
              <a:rPr b="0" lang="ru-RU" sz="2400" spc="-1" strike="noStrike" u="sng">
                <a:solidFill>
                  <a:srgbClr val="00b0f0"/>
                </a:solidFill>
                <a:uFillTx/>
                <a:latin typeface="Tahoma"/>
              </a:rPr>
              <a:t>.</a:t>
            </a:r>
            <a:r>
              <a:rPr b="0" lang="en-US" sz="2400" spc="-1" strike="noStrike" u="sng">
                <a:solidFill>
                  <a:srgbClr val="00b0f0"/>
                </a:solidFill>
                <a:uFillTx/>
                <a:latin typeface="Tahoma"/>
              </a:rPr>
              <a:t>ru</a:t>
            </a:r>
            <a:r>
              <a:rPr b="0" lang="ru-RU" sz="2400" spc="-1" strike="noStrike">
                <a:solidFill>
                  <a:srgbClr val="00b0f0"/>
                </a:solidFill>
                <a:latin typeface="Tahoma"/>
              </a:rPr>
              <a:t>; </a:t>
            </a:r>
            <a:r>
              <a:rPr b="0" lang="en-US" sz="2400" spc="-1" strike="noStrike" u="sng">
                <a:solidFill>
                  <a:srgbClr val="00b0f0"/>
                </a:solidFill>
                <a:uFillTx/>
                <a:latin typeface="Tahoma"/>
              </a:rPr>
              <a:t>old</a:t>
            </a:r>
            <a:r>
              <a:rPr b="0" lang="ru-RU" sz="2400" spc="-1" strike="noStrike" u="sng">
                <a:solidFill>
                  <a:srgbClr val="00b0f0"/>
                </a:solidFill>
                <a:uFillTx/>
                <a:latin typeface="Tahoma"/>
              </a:rPr>
              <a:t>.</a:t>
            </a:r>
            <a:r>
              <a:rPr b="0" lang="en-US" sz="2400" spc="-1" strike="noStrike" u="sng">
                <a:solidFill>
                  <a:srgbClr val="00b0f0"/>
                </a:solidFill>
                <a:uFillTx/>
                <a:latin typeface="Tahoma"/>
              </a:rPr>
              <a:t>college</a:t>
            </a:r>
            <a:r>
              <a:rPr b="0" lang="ru-RU" sz="2400" spc="-1" strike="noStrike" u="sng">
                <a:solidFill>
                  <a:srgbClr val="00b0f0"/>
                </a:solidFill>
                <a:uFillTx/>
                <a:latin typeface="Tahoma"/>
              </a:rPr>
              <a:t>.</a:t>
            </a:r>
            <a:r>
              <a:rPr b="0" lang="en-US" sz="2400" spc="-1" strike="noStrike" u="sng">
                <a:solidFill>
                  <a:srgbClr val="00b0f0"/>
                </a:solidFill>
                <a:uFillTx/>
                <a:latin typeface="Tahoma"/>
              </a:rPr>
              <a:t>ru</a:t>
            </a:r>
            <a:r>
              <a:rPr b="0" lang="ru-RU" sz="2400" spc="-1" strike="noStrike">
                <a:solidFill>
                  <a:srgbClr val="00b0f0"/>
                </a:solidFill>
                <a:latin typeface="Tahoma"/>
              </a:rPr>
              <a:t>; </a:t>
            </a:r>
            <a:r>
              <a:rPr b="0" lang="en-US" sz="2400" spc="-1" strike="noStrike">
                <a:solidFill>
                  <a:srgbClr val="00b0f0"/>
                </a:solidFill>
                <a:latin typeface="Tahoma"/>
              </a:rPr>
              <a:t>edu</a:t>
            </a:r>
            <a:r>
              <a:rPr b="0" lang="ru-RU" sz="2400" spc="-1" strike="noStrike">
                <a:solidFill>
                  <a:srgbClr val="00b0f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b0f0"/>
                </a:solidFill>
                <a:latin typeface="Tahoma"/>
              </a:rPr>
              <a:t>tsu</a:t>
            </a:r>
            <a:r>
              <a:rPr b="0" lang="ru-RU" sz="2400" spc="-1" strike="noStrike">
                <a:solidFill>
                  <a:srgbClr val="00b0f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b0f0"/>
                </a:solidFill>
                <a:latin typeface="Tahoma"/>
              </a:rPr>
              <a:t>ru</a:t>
            </a:r>
            <a:r>
              <a:rPr b="0" lang="ru-RU" sz="2400" spc="-1" strike="noStrike">
                <a:solidFill>
                  <a:srgbClr val="00b0f0"/>
                </a:solidFill>
                <a:latin typeface="Tahoma"/>
              </a:rPr>
              <a:t>; </a:t>
            </a:r>
            <a:r>
              <a:rPr b="0" lang="en-US" sz="2400" spc="-1" strike="noStrike">
                <a:solidFill>
                  <a:srgbClr val="00b0f0"/>
                </a:solidFill>
                <a:latin typeface="Tahoma"/>
              </a:rPr>
              <a:t>www</a:t>
            </a:r>
            <a:r>
              <a:rPr b="0" lang="ru-RU" sz="2400" spc="-1" strike="noStrike">
                <a:solidFill>
                  <a:srgbClr val="00b0f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b0f0"/>
                </a:solidFill>
                <a:latin typeface="Tahoma"/>
              </a:rPr>
              <a:t>phytology</a:t>
            </a:r>
            <a:r>
              <a:rPr b="0" lang="ru-RU" sz="2400" spc="-1" strike="noStrike">
                <a:solidFill>
                  <a:srgbClr val="00b0f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b0f0"/>
                </a:solidFill>
                <a:latin typeface="Tahoma"/>
              </a:rPr>
              <a:t>ru</a:t>
            </a:r>
            <a:r>
              <a:rPr b="0" lang="ru-RU" sz="2400" spc="-1" strike="noStrike">
                <a:solidFill>
                  <a:srgbClr val="00b0f0"/>
                </a:solidFill>
                <a:latin typeface="Tahoma"/>
              </a:rPr>
              <a:t>; </a:t>
            </a:r>
            <a:r>
              <a:rPr b="0" lang="en-US" sz="2400" spc="-1" strike="noStrike" u="sng">
                <a:solidFill>
                  <a:srgbClr val="00b0f0"/>
                </a:solidFill>
                <a:uFillTx/>
                <a:latin typeface="Tahoma"/>
              </a:rPr>
              <a:t>biology</a:t>
            </a:r>
            <a:r>
              <a:rPr b="0" lang="ru-RU" sz="2400" spc="-1" strike="noStrike" u="sng">
                <a:solidFill>
                  <a:srgbClr val="00b0f0"/>
                </a:solidFill>
                <a:uFillTx/>
                <a:latin typeface="Tahoma"/>
              </a:rPr>
              <a:t>.</a:t>
            </a:r>
            <a:r>
              <a:rPr b="0" lang="en-US" sz="2400" spc="-1" strike="noStrike" u="sng">
                <a:solidFill>
                  <a:srgbClr val="00b0f0"/>
                </a:solidFill>
                <a:uFillTx/>
                <a:latin typeface="Tahoma"/>
              </a:rPr>
              <a:t>ru</a:t>
            </a:r>
            <a:r>
              <a:rPr b="0" lang="ru-RU" sz="2400" spc="-1" strike="noStrike">
                <a:solidFill>
                  <a:srgbClr val="00b0f0"/>
                </a:solidFill>
                <a:latin typeface="Tahoma"/>
              </a:rPr>
              <a:t>;  zoo.rin.ru; edu.tsu.r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лнечник Pompholyxophrys: </a:t>
            </a:r>
            <a:r>
              <a:rPr b="0" lang="ru-RU" sz="2400" spc="-1" strike="noStrike">
                <a:solidFill>
                  <a:srgbClr val="00b0f0"/>
                </a:solidFill>
                <a:latin typeface="Tahoma"/>
              </a:rPr>
              <a:t>www.phytology.r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крытая биология. Версия 2.5 /Автор курса – Д И Мамонтов. Под ред. А В Маталина/ Физикон . Новый диск, 200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0618-1461-48CD-881C-7C45FA40291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56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дцарство одноклеточные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или Простейш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ло из одной ядерной клет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кроскопически малые размеры (от 3 до 150мк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ть органоиды движ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неблагоприятных условиях образует цис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множение бесполое и полов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итают повсеместно. Есть паразитические форм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ногие образуют коло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Picture 32" descr="амеб"/>
          <p:cNvPicPr/>
          <p:nvPr/>
        </p:nvPicPr>
        <p:blipFill>
          <a:blip r:embed="rId1"/>
          <a:stretch/>
        </p:blipFill>
        <p:spPr>
          <a:xfrm>
            <a:off x="3924360" y="4437000"/>
            <a:ext cx="1320840" cy="144144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pic>
        <p:nvPicPr>
          <p:cNvPr id="71" name="Picture 42" descr="te020201103"/>
          <p:cNvPicPr/>
          <p:nvPr/>
        </p:nvPicPr>
        <p:blipFill>
          <a:blip r:embed="rId2"/>
          <a:stretch/>
        </p:blipFill>
        <p:spPr>
          <a:xfrm>
            <a:off x="7451640" y="450864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3" descr="te020201102"/>
          <p:cNvPicPr/>
          <p:nvPr/>
        </p:nvPicPr>
        <p:blipFill>
          <a:blip r:embed="rId3"/>
          <a:stretch/>
        </p:blipFill>
        <p:spPr>
          <a:xfrm>
            <a:off x="250920" y="44370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4" descr="te020200701"/>
          <p:cNvPicPr/>
          <p:nvPr/>
        </p:nvPicPr>
        <p:blipFill>
          <a:blip r:embed="rId4"/>
          <a:stretch/>
        </p:blipFill>
        <p:spPr>
          <a:xfrm>
            <a:off x="2050920" y="5157720"/>
            <a:ext cx="1428840" cy="142884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74" name="Picture 45" descr="te020201101"/>
          <p:cNvPicPr/>
          <p:nvPr/>
        </p:nvPicPr>
        <p:blipFill>
          <a:blip r:embed="rId5"/>
          <a:stretch/>
        </p:blipFill>
        <p:spPr>
          <a:xfrm>
            <a:off x="5580000" y="5157720"/>
            <a:ext cx="1428840" cy="1428840"/>
          </a:xfrm>
          <a:prstGeom prst="rect">
            <a:avLst/>
          </a:prstGeom>
          <a:ln w="9360">
            <a:solidFill>
              <a:srgbClr val="333300"/>
            </a:solidFill>
            <a:miter/>
          </a:ln>
        </p:spPr>
      </p:pic>
      <p:sp>
        <p:nvSpPr>
          <p:cNvPr id="75" name="AutoShape 47">
            <a:hlinkClick r:id="" action="ppaction://hlinkshowjump?jump=previousslide"/>
          </p:cNvPr>
          <p:cNvSpPr/>
          <p:nvPr/>
        </p:nvSpPr>
        <p:spPr>
          <a:xfrm>
            <a:off x="7093080" y="6021360"/>
            <a:ext cx="576000" cy="40500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0712" h="21600">
                <a:moveTo>
                  <a:pt x="0" y="0"/>
                </a:moveTo>
                <a:lnTo>
                  <a:pt x="30712" y="0"/>
                </a:lnTo>
                <a:lnTo>
                  <a:pt x="30712" y="21600"/>
                </a:lnTo>
                <a:lnTo>
                  <a:pt x="0" y="21600"/>
                </a:lnTo>
                <a:close/>
              </a:path>
              <a:path fill="lightenLess" w="30712" h="21600">
                <a:moveTo>
                  <a:pt x="0" y="0"/>
                </a:moveTo>
                <a:lnTo>
                  <a:pt x="30712" y="0"/>
                </a:lnTo>
                <a:lnTo>
                  <a:pt x="29312" y="1400"/>
                </a:lnTo>
                <a:lnTo>
                  <a:pt x="1400" y="1400"/>
                </a:lnTo>
                <a:close/>
              </a:path>
              <a:path fill="darken" w="30712" h="21600">
                <a:moveTo>
                  <a:pt x="30712" y="0"/>
                </a:moveTo>
                <a:lnTo>
                  <a:pt x="30712" y="21600"/>
                </a:lnTo>
                <a:lnTo>
                  <a:pt x="29312" y="20200"/>
                </a:lnTo>
                <a:lnTo>
                  <a:pt x="29312" y="1400"/>
                </a:lnTo>
                <a:close/>
              </a:path>
              <a:path fill="darkenLess" w="30712" h="21600">
                <a:moveTo>
                  <a:pt x="30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12" y="20200"/>
                </a:lnTo>
                <a:close/>
              </a:path>
              <a:path fill="lighten" w="30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12" h="21600">
                <a:moveTo>
                  <a:pt x="8349" y="10800"/>
                </a:moveTo>
                <a:lnTo>
                  <a:pt x="22362" y="3794"/>
                </a:lnTo>
                <a:lnTo>
                  <a:pt x="22362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AutoShape 49">
            <a:hlinkClick r:id="" action="ppaction://hlinkshowjump?jump=nextslide"/>
          </p:cNvPr>
          <p:cNvSpPr/>
          <p:nvPr/>
        </p:nvSpPr>
        <p:spPr>
          <a:xfrm>
            <a:off x="8388360" y="6021360"/>
            <a:ext cx="576360" cy="40500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0731" h="21600">
                <a:moveTo>
                  <a:pt x="0" y="0"/>
                </a:moveTo>
                <a:lnTo>
                  <a:pt x="30731" y="0"/>
                </a:lnTo>
                <a:lnTo>
                  <a:pt x="30731" y="21600"/>
                </a:lnTo>
                <a:lnTo>
                  <a:pt x="0" y="21600"/>
                </a:lnTo>
                <a:close/>
              </a:path>
              <a:path fill="lightenLess" w="30731" h="21600">
                <a:moveTo>
                  <a:pt x="0" y="0"/>
                </a:moveTo>
                <a:lnTo>
                  <a:pt x="30731" y="0"/>
                </a:lnTo>
                <a:lnTo>
                  <a:pt x="29331" y="1400"/>
                </a:lnTo>
                <a:lnTo>
                  <a:pt x="1400" y="1400"/>
                </a:lnTo>
                <a:close/>
              </a:path>
              <a:path fill="darken" w="30731" h="21600">
                <a:moveTo>
                  <a:pt x="30731" y="0"/>
                </a:moveTo>
                <a:lnTo>
                  <a:pt x="30731" y="21600"/>
                </a:lnTo>
                <a:lnTo>
                  <a:pt x="29331" y="20200"/>
                </a:lnTo>
                <a:lnTo>
                  <a:pt x="29331" y="1400"/>
                </a:lnTo>
                <a:close/>
              </a:path>
              <a:path fill="darkenLess" w="30731" h="21600">
                <a:moveTo>
                  <a:pt x="30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1" y="20200"/>
                </a:lnTo>
                <a:close/>
              </a:path>
              <a:path fill="lighten" w="30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1" h="21600">
                <a:moveTo>
                  <a:pt x="8359" y="3794"/>
                </a:moveTo>
                <a:lnTo>
                  <a:pt x="22372" y="10800"/>
                </a:lnTo>
                <a:lnTo>
                  <a:pt x="8359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AutoShape 50">
            <a:hlinkClick r:id="rId6" action="ppaction://hlinksldjump"/>
          </p:cNvPr>
          <p:cNvSpPr/>
          <p:nvPr/>
        </p:nvSpPr>
        <p:spPr>
          <a:xfrm>
            <a:off x="7740720" y="6021360"/>
            <a:ext cx="576360" cy="40500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0731" h="21600">
                <a:moveTo>
                  <a:pt x="0" y="0"/>
                </a:moveTo>
                <a:lnTo>
                  <a:pt x="30731" y="0"/>
                </a:lnTo>
                <a:lnTo>
                  <a:pt x="30731" y="21600"/>
                </a:lnTo>
                <a:lnTo>
                  <a:pt x="0" y="21600"/>
                </a:lnTo>
                <a:close/>
              </a:path>
              <a:path fill="lightenLess" w="30731" h="21600">
                <a:moveTo>
                  <a:pt x="0" y="0"/>
                </a:moveTo>
                <a:lnTo>
                  <a:pt x="30731" y="0"/>
                </a:lnTo>
                <a:lnTo>
                  <a:pt x="29331" y="1400"/>
                </a:lnTo>
                <a:lnTo>
                  <a:pt x="1400" y="1400"/>
                </a:lnTo>
                <a:close/>
              </a:path>
              <a:path fill="darken" w="30731" h="21600">
                <a:moveTo>
                  <a:pt x="30731" y="0"/>
                </a:moveTo>
                <a:lnTo>
                  <a:pt x="30731" y="21600"/>
                </a:lnTo>
                <a:lnTo>
                  <a:pt x="29331" y="20200"/>
                </a:lnTo>
                <a:lnTo>
                  <a:pt x="29331" y="1400"/>
                </a:lnTo>
                <a:close/>
              </a:path>
              <a:path fill="darkenLess" w="30731" h="21600">
                <a:moveTo>
                  <a:pt x="30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1" y="20200"/>
                </a:lnTo>
                <a:close/>
              </a:path>
              <a:path fill="lighten" w="30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1" h="21600">
                <a:moveTo>
                  <a:pt x="15366" y="3837"/>
                </a:moveTo>
                <a:lnTo>
                  <a:pt x="17942" y="6448"/>
                </a:lnTo>
                <a:lnTo>
                  <a:pt x="17942" y="4707"/>
                </a:lnTo>
                <a:lnTo>
                  <a:pt x="19717" y="4707"/>
                </a:lnTo>
                <a:lnTo>
                  <a:pt x="19717" y="8224"/>
                </a:lnTo>
                <a:lnTo>
                  <a:pt x="22329" y="10800"/>
                </a:lnTo>
                <a:lnTo>
                  <a:pt x="20675" y="10800"/>
                </a:lnTo>
                <a:lnTo>
                  <a:pt x="20675" y="17989"/>
                </a:lnTo>
                <a:lnTo>
                  <a:pt x="10056" y="17989"/>
                </a:lnTo>
                <a:lnTo>
                  <a:pt x="10056" y="10800"/>
                </a:lnTo>
                <a:lnTo>
                  <a:pt x="8403" y="10800"/>
                </a:lnTo>
                <a:close/>
              </a:path>
              <a:path fill="darkenLess" w="30731" h="21600">
                <a:moveTo>
                  <a:pt x="17942" y="6448"/>
                </a:moveTo>
                <a:lnTo>
                  <a:pt x="17942" y="4707"/>
                </a:lnTo>
                <a:lnTo>
                  <a:pt x="19717" y="4707"/>
                </a:lnTo>
                <a:lnTo>
                  <a:pt x="19717" y="8224"/>
                </a:lnTo>
                <a:close/>
              </a:path>
              <a:path fill="darkenLess" w="30731" h="21600">
                <a:moveTo>
                  <a:pt x="14443" y="14299"/>
                </a:moveTo>
                <a:lnTo>
                  <a:pt x="16288" y="14299"/>
                </a:lnTo>
                <a:lnTo>
                  <a:pt x="16288" y="17989"/>
                </a:lnTo>
                <a:lnTo>
                  <a:pt x="20675" y="17989"/>
                </a:lnTo>
                <a:lnTo>
                  <a:pt x="20675" y="10800"/>
                </a:lnTo>
                <a:lnTo>
                  <a:pt x="10056" y="10800"/>
                </a:lnTo>
                <a:lnTo>
                  <a:pt x="10056" y="17989"/>
                </a:lnTo>
                <a:lnTo>
                  <a:pt x="14443" y="17989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Номер слайда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CF26-193E-4026-970D-57FB8427BD3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2296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царство животны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80" name="Organization Chart 8"/>
          <p:cNvGrpSpPr/>
          <p:nvPr/>
        </p:nvGrpSpPr>
        <p:grpSpPr>
          <a:xfrm>
            <a:off x="395280" y="1557360"/>
            <a:ext cx="8460720" cy="4462920"/>
            <a:chOff x="395280" y="1557360"/>
            <a:chExt cx="8460720" cy="4462920"/>
          </a:xfrm>
        </p:grpSpPr>
        <p:cxnSp>
          <p:nvCxnSpPr>
            <p:cNvPr id="81" name="_s1028"/>
            <p:cNvCxnSpPr>
              <a:stCxn id="82" idx="0"/>
              <a:endCxn id="83" idx="2"/>
            </p:cNvCxnSpPr>
            <p:nvPr/>
          </p:nvCxnSpPr>
          <p:spPr>
            <a:xfrm flipV="1">
              <a:off x="1663920" y="4346280"/>
              <a:ext cx="3960" cy="558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4" name="_s1029"/>
            <p:cNvCxnSpPr>
              <a:stCxn id="85" idx="0"/>
              <a:endCxn id="86" idx="2"/>
            </p:cNvCxnSpPr>
            <p:nvPr/>
          </p:nvCxnSpPr>
          <p:spPr>
            <a:xfrm flipV="1" rot="16200000">
              <a:off x="5826960" y="1470240"/>
              <a:ext cx="558360" cy="296208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7" name="_s1030"/>
            <p:cNvCxnSpPr>
              <a:stCxn id="88" idx="0"/>
              <a:endCxn id="86" idx="2"/>
            </p:cNvCxnSpPr>
            <p:nvPr/>
          </p:nvCxnSpPr>
          <p:spPr>
            <a:xfrm flipV="1">
              <a:off x="4625280" y="2672280"/>
              <a:ext cx="3960" cy="558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" name="_s1031"/>
            <p:cNvCxnSpPr>
              <a:stCxn id="83" idx="0"/>
              <a:endCxn id="86" idx="2"/>
            </p:cNvCxnSpPr>
            <p:nvPr/>
          </p:nvCxnSpPr>
          <p:spPr>
            <a:xfrm flipH="1" flipV="1" rot="5400000">
              <a:off x="2865960" y="1470600"/>
              <a:ext cx="558360" cy="296208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6" name="_s1032"/>
            <p:cNvSpPr/>
            <p:nvPr/>
          </p:nvSpPr>
          <p:spPr>
            <a:xfrm>
              <a:off x="3356640" y="1557360"/>
              <a:ext cx="2538000" cy="1115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ffffff"/>
                  </a:solidFill>
                  <a:latin typeface="Arial"/>
                </a:rPr>
                <a:t>подцарство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ffffff"/>
                  </a:solidFill>
                  <a:latin typeface="Arial"/>
                </a:rPr>
                <a:t>одноклеточные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_s1033"/>
            <p:cNvSpPr/>
            <p:nvPr/>
          </p:nvSpPr>
          <p:spPr>
            <a:xfrm>
              <a:off x="395280" y="3231000"/>
              <a:ext cx="2538000" cy="1115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ffffff"/>
                  </a:solidFill>
                  <a:latin typeface="Arial"/>
                </a:rPr>
                <a:t>тип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ffffff"/>
                  </a:solidFill>
                  <a:latin typeface="Arial"/>
                </a:rPr>
                <a:t>сарко - 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ffffff"/>
                  </a:solidFill>
                  <a:latin typeface="Arial"/>
                </a:rPr>
                <a:t>жгутиконосцы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_s1034"/>
            <p:cNvSpPr/>
            <p:nvPr/>
          </p:nvSpPr>
          <p:spPr>
            <a:xfrm>
              <a:off x="3356640" y="3231000"/>
              <a:ext cx="2538000" cy="1115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тип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споровики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_s1035"/>
            <p:cNvSpPr/>
            <p:nvPr/>
          </p:nvSpPr>
          <p:spPr>
            <a:xfrm>
              <a:off x="6318000" y="3231000"/>
              <a:ext cx="2538000" cy="1115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тип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инфузории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_s1036"/>
            <p:cNvSpPr/>
            <p:nvPr/>
          </p:nvSpPr>
          <p:spPr>
            <a:xfrm>
              <a:off x="395280" y="4904640"/>
              <a:ext cx="2538000" cy="1115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классы: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саркодовы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жгутиковы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0" name="Oval 26"/>
          <p:cNvSpPr/>
          <p:nvPr/>
        </p:nvSpPr>
        <p:spPr>
          <a:xfrm>
            <a:off x="4932360" y="2637000"/>
            <a:ext cx="71280" cy="71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35" descr="колония вольвокса"/>
          <p:cNvPicPr/>
          <p:nvPr/>
        </p:nvPicPr>
        <p:blipFill>
          <a:blip r:embed="rId1"/>
          <a:stretch/>
        </p:blipFill>
        <p:spPr>
          <a:xfrm>
            <a:off x="4932360" y="4797360"/>
            <a:ext cx="1787400" cy="1844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2" name="Picture 36" descr="трихомонады"/>
          <p:cNvPicPr/>
          <p:nvPr/>
        </p:nvPicPr>
        <p:blipFill>
          <a:blip r:embed="rId2"/>
          <a:stretch/>
        </p:blipFill>
        <p:spPr>
          <a:xfrm>
            <a:off x="179280" y="1125360"/>
            <a:ext cx="1776600" cy="1727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3" name="Picture 37" descr="02020108"/>
          <p:cNvPicPr/>
          <p:nvPr/>
        </p:nvPicPr>
        <p:blipFill>
          <a:blip r:embed="rId3"/>
          <a:stretch/>
        </p:blipFill>
        <p:spPr>
          <a:xfrm>
            <a:off x="7308720" y="0"/>
            <a:ext cx="1835280" cy="1851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4" name="AutoShape 39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10800"/>
                </a:moveTo>
                <a:lnTo>
                  <a:pt x="22386" y="3794"/>
                </a:lnTo>
                <a:lnTo>
                  <a:pt x="22386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AutoShape 40">
            <a:hlinkClick r:id="rId4" action="ppaction://hlinksldjump"/>
          </p:cNvPr>
          <p:cNvSpPr/>
          <p:nvPr/>
        </p:nvSpPr>
        <p:spPr>
          <a:xfrm>
            <a:off x="7667640" y="609300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15379" y="3837"/>
                </a:moveTo>
                <a:lnTo>
                  <a:pt x="17955" y="6448"/>
                </a:ln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lnTo>
                  <a:pt x="22342" y="10800"/>
                </a:lnTo>
                <a:lnTo>
                  <a:pt x="20688" y="10800"/>
                </a:lnTo>
                <a:lnTo>
                  <a:pt x="20688" y="17989"/>
                </a:lnTo>
                <a:lnTo>
                  <a:pt x="10070" y="17989"/>
                </a:lnTo>
                <a:lnTo>
                  <a:pt x="10070" y="10800"/>
                </a:lnTo>
                <a:lnTo>
                  <a:pt x="8416" y="10800"/>
                </a:lnTo>
                <a:close/>
              </a:path>
              <a:path fill="darkenLess" w="30758" h="21600">
                <a:moveTo>
                  <a:pt x="17955" y="6448"/>
                </a:move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close/>
              </a:path>
              <a:path fill="darkenLess" w="30758" h="21600">
                <a:moveTo>
                  <a:pt x="14457" y="14299"/>
                </a:moveTo>
                <a:lnTo>
                  <a:pt x="16302" y="14299"/>
                </a:lnTo>
                <a:lnTo>
                  <a:pt x="16302" y="17989"/>
                </a:lnTo>
                <a:lnTo>
                  <a:pt x="20688" y="17989"/>
                </a:lnTo>
                <a:lnTo>
                  <a:pt x="20688" y="10800"/>
                </a:lnTo>
                <a:lnTo>
                  <a:pt x="10070" y="10800"/>
                </a:lnTo>
                <a:lnTo>
                  <a:pt x="10070" y="17989"/>
                </a:lnTo>
                <a:lnTo>
                  <a:pt x="14457" y="17989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AutoShape 41">
            <a:hlinkClick r:id="" action="ppaction://hlinkshowjump?jump=nextslide"/>
          </p:cNvPr>
          <p:cNvSpPr/>
          <p:nvPr/>
        </p:nvSpPr>
        <p:spPr>
          <a:xfrm>
            <a:off x="8317080" y="609300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3794"/>
                </a:moveTo>
                <a:lnTo>
                  <a:pt x="22376" y="10800"/>
                </a:lnTo>
                <a:lnTo>
                  <a:pt x="8363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Номер слайда 12"/>
          <p:cNvSpPr/>
          <p:nvPr/>
        </p:nvSpPr>
        <p:spPr>
          <a:xfrm>
            <a:off x="6804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19E9-2279-4548-95E4-2CABC83647F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9912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ип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аркожгутиконосц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765000"/>
            <a:ext cx="84963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саркожгутиконосцам принадлежат наиболее древние простейш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них нет постоянной формы те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сутствуют органоиды специального назначения, такие как клеточный рот, воронка и т.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ть свободноживущие и паразитические фор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ип саркожгутиконосцев представлен двумя классами: саркодовыми и жгутиковы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179280" y="6380640"/>
            <a:ext cx="925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11" descr="саркодовые"/>
          <p:cNvPicPr/>
          <p:nvPr/>
        </p:nvPicPr>
        <p:blipFill>
          <a:blip r:embed="rId1"/>
          <a:stretch/>
        </p:blipFill>
        <p:spPr>
          <a:xfrm>
            <a:off x="0" y="4653000"/>
            <a:ext cx="1943280" cy="165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2" name="Picture 13" descr="колония вольвокса"/>
          <p:cNvPicPr/>
          <p:nvPr/>
        </p:nvPicPr>
        <p:blipFill>
          <a:blip r:embed="rId2"/>
          <a:stretch/>
        </p:blipFill>
        <p:spPr>
          <a:xfrm>
            <a:off x="2340000" y="4941720"/>
            <a:ext cx="1655640" cy="165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3" name="Picture 14" descr="02020107"/>
          <p:cNvPicPr/>
          <p:nvPr/>
        </p:nvPicPr>
        <p:blipFill>
          <a:blip r:embed="rId3"/>
          <a:stretch/>
        </p:blipFill>
        <p:spPr>
          <a:xfrm>
            <a:off x="4211640" y="4724280"/>
            <a:ext cx="1066680" cy="2133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4" name="Picture 15" descr="02020108"/>
          <p:cNvPicPr/>
          <p:nvPr/>
        </p:nvPicPr>
        <p:blipFill>
          <a:blip r:embed="rId4"/>
          <a:stretch/>
        </p:blipFill>
        <p:spPr>
          <a:xfrm>
            <a:off x="5508720" y="4941720"/>
            <a:ext cx="1728720" cy="1667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5" name="Picture 16" descr="te020201103"/>
          <p:cNvPicPr/>
          <p:nvPr/>
        </p:nvPicPr>
        <p:blipFill>
          <a:blip r:embed="rId5"/>
          <a:stretch/>
        </p:blipFill>
        <p:spPr>
          <a:xfrm>
            <a:off x="7451640" y="4724280"/>
            <a:ext cx="1692360" cy="1717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6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D939-AA78-40AC-90B9-5D761EA29A9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Класс Саркодовые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(Корненожки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184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арактерный признак корненожек – способность голого, не покрытого плотной оболочкой тела образовывать цитоплазматические выросты   - псевдоподии (ложноножки), благодаря которым они передвигаются. Ложноножки служат также органоидами захвата пищи. Переваривание пищи происходит в пищеварительных вакуоля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бытки воды и солей удаляются через сократительную вакуо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9" descr="02020102"/>
          <p:cNvPicPr/>
          <p:nvPr/>
        </p:nvPicPr>
        <p:blipFill>
          <a:blip r:embed="rId1"/>
          <a:stretch/>
        </p:blipFill>
        <p:spPr>
          <a:xfrm>
            <a:off x="611280" y="4292640"/>
            <a:ext cx="8208720" cy="1760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0" name="Rectangle 10"/>
          <p:cNvSpPr/>
          <p:nvPr/>
        </p:nvSpPr>
        <p:spPr>
          <a:xfrm>
            <a:off x="395280" y="60930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лева направо: амёба-протей, дизентерийная амёба, эвглифа, арцелла, панцирная амёба диффлюгия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AutoShape 12">
            <a:hlinkClick r:id="" action="ppaction://hlinkshowjump?jump=previousslide"/>
          </p:cNvPr>
          <p:cNvSpPr/>
          <p:nvPr/>
        </p:nvSpPr>
        <p:spPr>
          <a:xfrm>
            <a:off x="651672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10800"/>
                </a:moveTo>
                <a:lnTo>
                  <a:pt x="22386" y="3794"/>
                </a:lnTo>
                <a:lnTo>
                  <a:pt x="22386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AutoShape 13">
            <a:hlinkClick r:id="rId2" action="ppaction://hlinksldjump"/>
          </p:cNvPr>
          <p:cNvSpPr/>
          <p:nvPr/>
        </p:nvSpPr>
        <p:spPr>
          <a:xfrm>
            <a:off x="716436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15379" y="3837"/>
                </a:moveTo>
                <a:lnTo>
                  <a:pt x="17955" y="6448"/>
                </a:ln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lnTo>
                  <a:pt x="22342" y="10800"/>
                </a:lnTo>
                <a:lnTo>
                  <a:pt x="20688" y="10800"/>
                </a:lnTo>
                <a:lnTo>
                  <a:pt x="20688" y="17989"/>
                </a:lnTo>
                <a:lnTo>
                  <a:pt x="10070" y="17989"/>
                </a:lnTo>
                <a:lnTo>
                  <a:pt x="10070" y="10800"/>
                </a:lnTo>
                <a:lnTo>
                  <a:pt x="8416" y="10800"/>
                </a:lnTo>
                <a:close/>
              </a:path>
              <a:path fill="darkenLess" w="30758" h="21600">
                <a:moveTo>
                  <a:pt x="17955" y="6448"/>
                </a:move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close/>
              </a:path>
              <a:path fill="darkenLess" w="30758" h="21600">
                <a:moveTo>
                  <a:pt x="14457" y="14299"/>
                </a:moveTo>
                <a:lnTo>
                  <a:pt x="16302" y="14299"/>
                </a:lnTo>
                <a:lnTo>
                  <a:pt x="16302" y="17989"/>
                </a:lnTo>
                <a:lnTo>
                  <a:pt x="20688" y="17989"/>
                </a:lnTo>
                <a:lnTo>
                  <a:pt x="20688" y="10800"/>
                </a:lnTo>
                <a:lnTo>
                  <a:pt x="10070" y="10800"/>
                </a:lnTo>
                <a:lnTo>
                  <a:pt x="10070" y="17989"/>
                </a:lnTo>
                <a:lnTo>
                  <a:pt x="14457" y="17989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AutoShape 14">
            <a:hlinkClick r:id="" action="ppaction://hlinkshowjump?jump=nextslide"/>
          </p:cNvPr>
          <p:cNvSpPr/>
          <p:nvPr/>
        </p:nvSpPr>
        <p:spPr>
          <a:xfrm>
            <a:off x="781200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Номер слайда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2D86-7D0C-4F9C-B440-95D6F3F7C95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троение амебы обыкновенно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6" name="Picture 7" descr="амеб"/>
          <p:cNvPicPr/>
          <p:nvPr/>
        </p:nvPicPr>
        <p:blipFill>
          <a:blip r:embed="rId1"/>
          <a:stretch/>
        </p:blipFill>
        <p:spPr>
          <a:xfrm>
            <a:off x="468360" y="2060640"/>
            <a:ext cx="3241800" cy="403380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0" y="1844640"/>
            <a:ext cx="418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йдите на рисунк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ожнонож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кратительную вакуо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др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итоплазм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ищеварительную вакуо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10"/>
          <p:cNvSpPr/>
          <p:nvPr/>
        </p:nvSpPr>
        <p:spPr>
          <a:xfrm flipV="1">
            <a:off x="2124000" y="2276280"/>
            <a:ext cx="935280" cy="360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Line 11"/>
          <p:cNvSpPr/>
          <p:nvPr/>
        </p:nvSpPr>
        <p:spPr>
          <a:xfrm flipH="1" flipV="1">
            <a:off x="971640" y="3357720"/>
            <a:ext cx="1079280" cy="1425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12"/>
          <p:cNvSpPr/>
          <p:nvPr/>
        </p:nvSpPr>
        <p:spPr>
          <a:xfrm>
            <a:off x="1187280" y="4797360"/>
            <a:ext cx="144720" cy="647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Line 13"/>
          <p:cNvSpPr/>
          <p:nvPr/>
        </p:nvSpPr>
        <p:spPr>
          <a:xfrm flipH="1">
            <a:off x="1619280" y="5300640"/>
            <a:ext cx="720720" cy="144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Line 14"/>
          <p:cNvSpPr/>
          <p:nvPr/>
        </p:nvSpPr>
        <p:spPr>
          <a:xfrm flipV="1">
            <a:off x="2411280" y="2637000"/>
            <a:ext cx="936720" cy="576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WordArt 20"/>
          <p:cNvSpPr txBox="1"/>
          <p:nvPr/>
        </p:nvSpPr>
        <p:spPr>
          <a:xfrm>
            <a:off x="755640" y="3141720"/>
            <a:ext cx="71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" name="WordArt 21"/>
          <p:cNvSpPr txBox="1"/>
          <p:nvPr/>
        </p:nvSpPr>
        <p:spPr>
          <a:xfrm>
            <a:off x="1332000" y="5516640"/>
            <a:ext cx="21564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5" name="WordArt 22"/>
          <p:cNvSpPr txBox="1"/>
          <p:nvPr/>
        </p:nvSpPr>
        <p:spPr>
          <a:xfrm>
            <a:off x="3132000" y="2133720"/>
            <a:ext cx="1447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6" name="Line 23"/>
          <p:cNvSpPr/>
          <p:nvPr/>
        </p:nvSpPr>
        <p:spPr>
          <a:xfrm>
            <a:off x="2268360" y="4076640"/>
            <a:ext cx="863640" cy="73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WordArt 24"/>
          <p:cNvSpPr txBox="1"/>
          <p:nvPr/>
        </p:nvSpPr>
        <p:spPr>
          <a:xfrm>
            <a:off x="3419640" y="2492280"/>
            <a:ext cx="1443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8" name="WordArt 25"/>
          <p:cNvSpPr txBox="1"/>
          <p:nvPr/>
        </p:nvSpPr>
        <p:spPr>
          <a:xfrm>
            <a:off x="3276720" y="4005360"/>
            <a:ext cx="1429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9" name="AutoShape 26">
            <a:hlinkClick r:id="" action="ppaction://hlinkshowjump?jump=previousslide"/>
          </p:cNvPr>
          <p:cNvSpPr/>
          <p:nvPr/>
        </p:nvSpPr>
        <p:spPr>
          <a:xfrm>
            <a:off x="644364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10800"/>
                </a:moveTo>
                <a:lnTo>
                  <a:pt x="22386" y="3794"/>
                </a:lnTo>
                <a:lnTo>
                  <a:pt x="22386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AutoShape 27">
            <a:hlinkClick r:id="rId2" action="ppaction://hlinksldjump"/>
          </p:cNvPr>
          <p:cNvSpPr/>
          <p:nvPr/>
        </p:nvSpPr>
        <p:spPr>
          <a:xfrm>
            <a:off x="709128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15379" y="3837"/>
                </a:moveTo>
                <a:lnTo>
                  <a:pt x="17955" y="6448"/>
                </a:ln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lnTo>
                  <a:pt x="22342" y="10800"/>
                </a:lnTo>
                <a:lnTo>
                  <a:pt x="20688" y="10800"/>
                </a:lnTo>
                <a:lnTo>
                  <a:pt x="20688" y="17989"/>
                </a:lnTo>
                <a:lnTo>
                  <a:pt x="10070" y="17989"/>
                </a:lnTo>
                <a:lnTo>
                  <a:pt x="10070" y="10800"/>
                </a:lnTo>
                <a:lnTo>
                  <a:pt x="8416" y="10800"/>
                </a:lnTo>
                <a:close/>
              </a:path>
              <a:path fill="darkenLess" w="30758" h="21600">
                <a:moveTo>
                  <a:pt x="17955" y="6448"/>
                </a:move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close/>
              </a:path>
              <a:path fill="darkenLess" w="30758" h="21600">
                <a:moveTo>
                  <a:pt x="14457" y="14299"/>
                </a:moveTo>
                <a:lnTo>
                  <a:pt x="16302" y="14299"/>
                </a:lnTo>
                <a:lnTo>
                  <a:pt x="16302" y="17989"/>
                </a:lnTo>
                <a:lnTo>
                  <a:pt x="20688" y="17989"/>
                </a:lnTo>
                <a:lnTo>
                  <a:pt x="20688" y="10800"/>
                </a:lnTo>
                <a:lnTo>
                  <a:pt x="10070" y="10800"/>
                </a:lnTo>
                <a:lnTo>
                  <a:pt x="10070" y="17989"/>
                </a:lnTo>
                <a:lnTo>
                  <a:pt x="14457" y="17989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AutoShape 28">
            <a:hlinkClick r:id="" action="ppaction://hlinkshowjump?jump=nextslide"/>
          </p:cNvPr>
          <p:cNvSpPr/>
          <p:nvPr/>
        </p:nvSpPr>
        <p:spPr>
          <a:xfrm>
            <a:off x="773892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Номер слайда 2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E86B-9895-47E7-805B-FF3A4FA9056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601164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Класс Саркодовые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аковинные амеб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2421000"/>
            <a:ext cx="820764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ковинные амебы представляют собой группу, близкую амебам. Это одноядерные корненожки, которые передвигаются и захватывают пищу с помощью псевдоподий. Их тело заключено в раковину, которая состоит из хитиноподобного веще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17" descr="раков амебы"/>
          <p:cNvPicPr/>
          <p:nvPr/>
        </p:nvPicPr>
        <p:blipFill>
          <a:blip r:embed="rId1"/>
          <a:stretch/>
        </p:blipFill>
        <p:spPr>
          <a:xfrm>
            <a:off x="6477120" y="549360"/>
            <a:ext cx="2292120" cy="1511280"/>
          </a:xfrm>
          <a:prstGeom prst="rect">
            <a:avLst/>
          </a:prstGeom>
          <a:ln w="9360">
            <a:solidFill>
              <a:srgbClr val="2b5481"/>
            </a:solidFill>
            <a:miter/>
          </a:ln>
        </p:spPr>
      </p:pic>
      <p:sp>
        <p:nvSpPr>
          <p:cNvPr id="136" name="AutoShape 18">
            <a:hlinkClick r:id="" action="ppaction://hlinkshowjump?jump=previousslide"/>
          </p:cNvPr>
          <p:cNvSpPr/>
          <p:nvPr/>
        </p:nvSpPr>
        <p:spPr>
          <a:xfrm>
            <a:off x="644364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10800"/>
                </a:moveTo>
                <a:lnTo>
                  <a:pt x="22386" y="3794"/>
                </a:lnTo>
                <a:lnTo>
                  <a:pt x="22386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AutoShape 20">
            <a:hlinkClick r:id="rId2" action="ppaction://hlinksldjump"/>
          </p:cNvPr>
          <p:cNvSpPr/>
          <p:nvPr/>
        </p:nvSpPr>
        <p:spPr>
          <a:xfrm>
            <a:off x="709128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15379" y="3837"/>
                </a:moveTo>
                <a:lnTo>
                  <a:pt x="17955" y="6448"/>
                </a:ln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lnTo>
                  <a:pt x="22342" y="10800"/>
                </a:lnTo>
                <a:lnTo>
                  <a:pt x="20688" y="10800"/>
                </a:lnTo>
                <a:lnTo>
                  <a:pt x="20688" y="17989"/>
                </a:lnTo>
                <a:lnTo>
                  <a:pt x="10070" y="17989"/>
                </a:lnTo>
                <a:lnTo>
                  <a:pt x="10070" y="10800"/>
                </a:lnTo>
                <a:lnTo>
                  <a:pt x="8416" y="10800"/>
                </a:lnTo>
                <a:close/>
              </a:path>
              <a:path fill="darkenLess" w="30758" h="21600">
                <a:moveTo>
                  <a:pt x="17955" y="6448"/>
                </a:move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close/>
              </a:path>
              <a:path fill="darkenLess" w="30758" h="21600">
                <a:moveTo>
                  <a:pt x="14457" y="14299"/>
                </a:moveTo>
                <a:lnTo>
                  <a:pt x="16302" y="14299"/>
                </a:lnTo>
                <a:lnTo>
                  <a:pt x="16302" y="17989"/>
                </a:lnTo>
                <a:lnTo>
                  <a:pt x="20688" y="17989"/>
                </a:lnTo>
                <a:lnTo>
                  <a:pt x="20688" y="10800"/>
                </a:lnTo>
                <a:lnTo>
                  <a:pt x="10070" y="10800"/>
                </a:lnTo>
                <a:lnTo>
                  <a:pt x="10070" y="17989"/>
                </a:lnTo>
                <a:lnTo>
                  <a:pt x="14457" y="17989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AutoShape 21">
            <a:hlinkClick r:id="" action="ppaction://hlinkshowjump?jump=nextslide"/>
          </p:cNvPr>
          <p:cNvSpPr/>
          <p:nvPr/>
        </p:nvSpPr>
        <p:spPr>
          <a:xfrm>
            <a:off x="773892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CCC7-58CD-4B50-ADD9-DA11B26E1FF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6:34:36Z</dcterms:created>
  <dc:creator>Solnu</dc:creator>
  <dc:description/>
  <dc:language>en-US</dc:language>
  <cp:lastModifiedBy>МамСик</cp:lastModifiedBy>
  <dcterms:modified xsi:type="dcterms:W3CDTF">2011-05-04T18:30:00Z</dcterms:modified>
  <cp:revision>55</cp:revision>
  <dc:subject/>
  <dc:title>Царство животных</dc:title>
</cp:coreProperties>
</file>