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1622-996E-4A5C-B269-7667E431F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0341-23BF-4E9A-BF41-8FCBBB77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A301-6BD9-4E90-B7E7-F8C186AF3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5E2C-5DCB-44E0-846F-30C9A4196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17DF-F999-4313-9711-15A8359E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160B-2948-476C-92AF-5C7EDD95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6E13-EB70-45EA-AF51-77696141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2908-0A76-415F-9417-AA6AB596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99F7-C62E-43DA-997B-8551AB9F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C553-FCB2-499C-8C3E-7F696287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A620-51C7-405C-A3AA-13D7B61D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CCCE-A025-4C39-8E72-2C520E9A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F379-C7EE-446A-9968-22BC7377CAA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Использование образовательного комплекса по информати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rcRect l="16100" t="6363" r="6972" b="2948"/>
          <a:stretch/>
        </p:blipFill>
        <p:spPr>
          <a:xfrm>
            <a:off x="0" y="1268280"/>
            <a:ext cx="6084720" cy="4537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2"/>
          <a:srcRect l="17799" t="11772" r="30842" b="34365"/>
          <a:stretch/>
        </p:blipFill>
        <p:spPr>
          <a:xfrm>
            <a:off x="4030560" y="3429000"/>
            <a:ext cx="5113440" cy="3429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44" name="Picture 6" descr="C:\Users\Asus\Desktop\i1045rp.gif"/>
          <p:cNvPicPr/>
          <p:nvPr/>
        </p:nvPicPr>
        <p:blipFill>
          <a:blip r:embed="rId3"/>
          <a:stretch/>
        </p:blipFill>
        <p:spPr>
          <a:xfrm>
            <a:off x="7308720" y="1484280"/>
            <a:ext cx="144000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Способы работы с образовательным комплексо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rcRect l="18693" t="14951" r="35687" b="13455"/>
          <a:stretch/>
        </p:blipFill>
        <p:spPr>
          <a:xfrm>
            <a:off x="3995640" y="2452680"/>
            <a:ext cx="4992840" cy="44053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47" name="Схема 6" descr=""/>
          <p:cNvPicPr/>
          <p:nvPr/>
        </p:nvPicPr>
        <p:blipFill>
          <a:blip r:embed="rId2"/>
          <a:stretch/>
        </p:blipFill>
        <p:spPr>
          <a:xfrm>
            <a:off x="476280" y="1695600"/>
            <a:ext cx="2846520" cy="490680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7" descr=""/>
          <p:cNvPicPr/>
          <p:nvPr/>
        </p:nvPicPr>
        <p:blipFill>
          <a:blip r:embed="rId3"/>
          <a:stretch/>
        </p:blipFill>
        <p:spPr>
          <a:xfrm>
            <a:off x="4194000" y="1414440"/>
            <a:ext cx="4741920" cy="1030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2T08:05:51Z</dcterms:created>
  <dc:creator>Полякова Ирина</dc:creator>
  <dc:description/>
  <dc:language>en-US</dc:language>
  <cp:lastModifiedBy>Asus</cp:lastModifiedBy>
  <dcterms:modified xsi:type="dcterms:W3CDTF">2013-02-26T10:44:51Z</dcterms:modified>
  <cp:revision>285</cp:revision>
  <dc:subject/>
  <dc:title>Образовательное учреждение:  МОУ «СОШ №54»</dc:title>
</cp:coreProperties>
</file>