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5.gif" ContentType="image/gif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A45B-7B85-47B2-9479-41DE12F5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65BE-857D-4075-8404-39BCD1B6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DCA0-117F-4B20-9A2F-DE62139E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0812B-A08B-49E4-A84F-7685BE53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A8970-E68F-40C9-A394-C1965FD2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9586E-3E1B-420B-89FB-1D6CBE01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D77CC-574E-4AE8-A7CE-866C8700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60AFD-E4FB-4303-9642-04D26055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79E81-1537-40E6-8944-60B3270D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14F44-1444-4AD4-9E52-3CC417D2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EC148-6972-41F1-9AA8-AF791CB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73F9-1013-42CE-AFB1-9B576882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4BA1E-F8F4-47E5-8104-571F1C2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39F9-D106-43E7-A58E-C3D4216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08346-CAE3-4526-AB24-2BB0695B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5866A-15B3-441B-AAE6-C131E418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9F39-891C-421F-AAAE-42FB21D5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C7E26-8505-4FF7-975E-CF6D843B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D37EA-7B3E-43AB-A57D-D3420594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CE933-9557-48AE-A58C-3E36988E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2FEE6-A173-4FD5-8F11-5D01E515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40969-E3A0-4EDC-975F-AAF3A0C0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DF70-F783-4902-A60B-483E4900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4EFAA-E194-4E8D-AEE7-E183C010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DCAE8-DD49-4BB7-AF12-01E7D3B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2A676-AAA8-4904-81A4-36A9163D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0B37A-81F2-4156-9126-B177A9F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05405-29E1-4C98-926F-FDAD4ECF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C56B8-A752-43C7-A942-2F10A67D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45FD4-E0F6-4823-9834-78979BD0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017E-E1FB-47C1-B027-ABD77950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EEF7-56FA-4191-9A78-88081604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7764-DA3B-4FBA-8DAE-B130542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F930-426D-433C-90EB-275C33F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AAD8-49F1-4A95-A943-3D382FD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F4B4-7EE4-4FAC-8CDD-705C284E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5"/>
          <p:cNvSpPr/>
          <p:nvPr/>
        </p:nvSpPr>
        <p:spPr>
          <a:xfrm>
            <a:off x="380880" y="0"/>
            <a:ext cx="75960" cy="685764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228600" y="152280"/>
            <a:ext cx="982440" cy="836280"/>
            <a:chOff x="228600" y="152280"/>
            <a:chExt cx="982440" cy="836280"/>
          </a:xfrm>
        </p:grpSpPr>
        <p:sp>
          <p:nvSpPr>
            <p:cNvPr id="2" name="Freeform 12"/>
            <p:cNvSpPr/>
            <p:nvPr/>
          </p:nvSpPr>
          <p:spPr>
            <a:xfrm>
              <a:off x="282600" y="152280"/>
              <a:ext cx="150480" cy="1947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228600" y="152280"/>
              <a:ext cx="982440" cy="836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380880" y="304920"/>
              <a:ext cx="655200" cy="5281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838080" y="685800"/>
              <a:ext cx="114120" cy="17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826920" y="685800"/>
              <a:ext cx="47160" cy="1854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685800" y="55548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3520" y="457200"/>
              <a:ext cx="112320" cy="22680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685800" y="533520"/>
              <a:ext cx="325080" cy="5688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533520" y="457200"/>
              <a:ext cx="313920" cy="8388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685800" y="457200"/>
              <a:ext cx="42480" cy="14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423720" y="304920"/>
              <a:ext cx="74160" cy="5997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3"/>
            <p:cNvSpPr/>
            <p:nvPr/>
          </p:nvSpPr>
          <p:spPr>
            <a:xfrm>
              <a:off x="423720" y="457200"/>
              <a:ext cx="188640" cy="258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4"/>
            <p:cNvSpPr/>
            <p:nvPr/>
          </p:nvSpPr>
          <p:spPr>
            <a:xfrm>
              <a:off x="380880" y="457200"/>
              <a:ext cx="33120" cy="131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5"/>
            <p:cNvSpPr/>
            <p:nvPr/>
          </p:nvSpPr>
          <p:spPr>
            <a:xfrm>
              <a:off x="457200" y="685800"/>
              <a:ext cx="112320" cy="1677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6"/>
            <p:cNvSpPr/>
            <p:nvPr/>
          </p:nvSpPr>
          <p:spPr>
            <a:xfrm>
              <a:off x="380880" y="609480"/>
              <a:ext cx="47160" cy="1314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7"/>
            <p:cNvSpPr/>
            <p:nvPr/>
          </p:nvSpPr>
          <p:spPr>
            <a:xfrm>
              <a:off x="304920" y="326880"/>
              <a:ext cx="124920" cy="4014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8"/>
            <p:cNvSpPr/>
            <p:nvPr/>
          </p:nvSpPr>
          <p:spPr>
            <a:xfrm>
              <a:off x="304920" y="457200"/>
              <a:ext cx="72720" cy="36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9"/>
            <p:cNvSpPr/>
            <p:nvPr/>
          </p:nvSpPr>
          <p:spPr>
            <a:xfrm>
              <a:off x="457200" y="152280"/>
              <a:ext cx="393480" cy="15696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0"/>
            <p:cNvSpPr/>
            <p:nvPr/>
          </p:nvSpPr>
          <p:spPr>
            <a:xfrm>
              <a:off x="533520" y="152280"/>
              <a:ext cx="97920" cy="1220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1"/>
            <p:cNvSpPr/>
            <p:nvPr/>
          </p:nvSpPr>
          <p:spPr>
            <a:xfrm>
              <a:off x="425520" y="331920"/>
              <a:ext cx="707760" cy="60120"/>
            </a:xfrm>
            <a:custGeom>
              <a:avLst/>
              <a:gdLst>
                <a:gd name="textAreaLeft" fmla="*/ 0 w 707760"/>
                <a:gd name="textAreaRight" fmla="*/ 708120 w 707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2"/>
            <p:cNvSpPr/>
            <p:nvPr/>
          </p:nvSpPr>
          <p:spPr>
            <a:xfrm>
              <a:off x="762120" y="380880"/>
              <a:ext cx="110880" cy="56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3"/>
            <p:cNvSpPr/>
            <p:nvPr/>
          </p:nvSpPr>
          <p:spPr>
            <a:xfrm>
              <a:off x="860400" y="228600"/>
              <a:ext cx="175680" cy="128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4"/>
            <p:cNvSpPr/>
            <p:nvPr/>
          </p:nvSpPr>
          <p:spPr>
            <a:xfrm>
              <a:off x="588960" y="358920"/>
              <a:ext cx="172800" cy="979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8960" cy="5331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26" name="PlaceHolder 1"/>
          <p:cNvSpPr>
            <a:spLocks noGrp="1"/>
          </p:cNvSpPr>
          <p:nvPr>
            <p:ph type="ftr" idx="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BE8C37-A70A-4ED6-A4BA-26AE085BC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5"/>
          <p:cNvSpPr/>
          <p:nvPr/>
        </p:nvSpPr>
        <p:spPr>
          <a:xfrm>
            <a:off x="380880" y="0"/>
            <a:ext cx="75960" cy="685764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228600" y="152280"/>
            <a:ext cx="982440" cy="836280"/>
            <a:chOff x="228600" y="152280"/>
            <a:chExt cx="982440" cy="836280"/>
          </a:xfrm>
        </p:grpSpPr>
        <p:sp>
          <p:nvSpPr>
            <p:cNvPr id="69" name="Freeform 12"/>
            <p:cNvSpPr/>
            <p:nvPr/>
          </p:nvSpPr>
          <p:spPr>
            <a:xfrm>
              <a:off x="282600" y="152280"/>
              <a:ext cx="150480" cy="1947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228600" y="152280"/>
              <a:ext cx="982440" cy="836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80880" y="304920"/>
              <a:ext cx="655200" cy="5281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838080" y="685800"/>
              <a:ext cx="114120" cy="17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6"/>
            <p:cNvSpPr/>
            <p:nvPr/>
          </p:nvSpPr>
          <p:spPr>
            <a:xfrm>
              <a:off x="826920" y="685800"/>
              <a:ext cx="47160" cy="1854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685800" y="55548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8"/>
            <p:cNvSpPr/>
            <p:nvPr/>
          </p:nvSpPr>
          <p:spPr>
            <a:xfrm>
              <a:off x="533520" y="457200"/>
              <a:ext cx="112320" cy="22680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9"/>
            <p:cNvSpPr/>
            <p:nvPr/>
          </p:nvSpPr>
          <p:spPr>
            <a:xfrm>
              <a:off x="685800" y="533520"/>
              <a:ext cx="325080" cy="5688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533520" y="457200"/>
              <a:ext cx="313920" cy="8388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1"/>
            <p:cNvSpPr/>
            <p:nvPr/>
          </p:nvSpPr>
          <p:spPr>
            <a:xfrm>
              <a:off x="685800" y="457200"/>
              <a:ext cx="42480" cy="14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>
              <a:off x="423720" y="304920"/>
              <a:ext cx="74160" cy="5997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3"/>
            <p:cNvSpPr/>
            <p:nvPr/>
          </p:nvSpPr>
          <p:spPr>
            <a:xfrm>
              <a:off x="423720" y="457200"/>
              <a:ext cx="188640" cy="258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4"/>
            <p:cNvSpPr/>
            <p:nvPr/>
          </p:nvSpPr>
          <p:spPr>
            <a:xfrm>
              <a:off x="380880" y="457200"/>
              <a:ext cx="33120" cy="131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5"/>
            <p:cNvSpPr/>
            <p:nvPr/>
          </p:nvSpPr>
          <p:spPr>
            <a:xfrm>
              <a:off x="457200" y="685800"/>
              <a:ext cx="112320" cy="1677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6"/>
            <p:cNvSpPr/>
            <p:nvPr/>
          </p:nvSpPr>
          <p:spPr>
            <a:xfrm>
              <a:off x="380880" y="609480"/>
              <a:ext cx="47160" cy="1314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7"/>
            <p:cNvSpPr/>
            <p:nvPr/>
          </p:nvSpPr>
          <p:spPr>
            <a:xfrm>
              <a:off x="304920" y="326880"/>
              <a:ext cx="124920" cy="4014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304920" y="457200"/>
              <a:ext cx="72720" cy="36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9"/>
            <p:cNvSpPr/>
            <p:nvPr/>
          </p:nvSpPr>
          <p:spPr>
            <a:xfrm>
              <a:off x="457200" y="152280"/>
              <a:ext cx="393480" cy="15696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0"/>
            <p:cNvSpPr/>
            <p:nvPr/>
          </p:nvSpPr>
          <p:spPr>
            <a:xfrm>
              <a:off x="533520" y="152280"/>
              <a:ext cx="97920" cy="1220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425520" y="331920"/>
              <a:ext cx="707760" cy="60120"/>
            </a:xfrm>
            <a:custGeom>
              <a:avLst/>
              <a:gdLst>
                <a:gd name="textAreaLeft" fmla="*/ 0 w 707760"/>
                <a:gd name="textAreaRight" fmla="*/ 708120 w 707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762120" y="380880"/>
              <a:ext cx="110880" cy="56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860400" y="228600"/>
              <a:ext cx="175680" cy="128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>
              <a:off x="588960" y="358920"/>
              <a:ext cx="172800" cy="979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8960" cy="5331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F243BA-C9CE-4D1E-B927-891AA039B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5"/>
          <p:cNvSpPr/>
          <p:nvPr/>
        </p:nvSpPr>
        <p:spPr>
          <a:xfrm>
            <a:off x="380880" y="0"/>
            <a:ext cx="75960" cy="685764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228600" y="152280"/>
            <a:ext cx="982440" cy="836280"/>
            <a:chOff x="228600" y="152280"/>
            <a:chExt cx="982440" cy="836280"/>
          </a:xfrm>
        </p:grpSpPr>
        <p:sp>
          <p:nvSpPr>
            <p:cNvPr id="136" name="Freeform 12"/>
            <p:cNvSpPr/>
            <p:nvPr/>
          </p:nvSpPr>
          <p:spPr>
            <a:xfrm>
              <a:off x="282600" y="152280"/>
              <a:ext cx="150480" cy="1947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"/>
            <p:cNvSpPr/>
            <p:nvPr/>
          </p:nvSpPr>
          <p:spPr>
            <a:xfrm>
              <a:off x="228600" y="152280"/>
              <a:ext cx="982440" cy="836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"/>
            <p:cNvSpPr/>
            <p:nvPr/>
          </p:nvSpPr>
          <p:spPr>
            <a:xfrm>
              <a:off x="380880" y="304920"/>
              <a:ext cx="655200" cy="5281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"/>
            <p:cNvSpPr/>
            <p:nvPr/>
          </p:nvSpPr>
          <p:spPr>
            <a:xfrm>
              <a:off x="838080" y="685800"/>
              <a:ext cx="114120" cy="17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826920" y="685800"/>
              <a:ext cx="47160" cy="1854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7"/>
            <p:cNvSpPr/>
            <p:nvPr/>
          </p:nvSpPr>
          <p:spPr>
            <a:xfrm>
              <a:off x="685800" y="55548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533520" y="457200"/>
              <a:ext cx="112320" cy="22680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685800" y="533520"/>
              <a:ext cx="325080" cy="5688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533520" y="457200"/>
              <a:ext cx="313920" cy="8388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685800" y="457200"/>
              <a:ext cx="42480" cy="14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423720" y="304920"/>
              <a:ext cx="74160" cy="5997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423720" y="457200"/>
              <a:ext cx="188640" cy="258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380880" y="457200"/>
              <a:ext cx="33120" cy="131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457200" y="685800"/>
              <a:ext cx="112320" cy="1677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380880" y="609480"/>
              <a:ext cx="47160" cy="1314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304920" y="326880"/>
              <a:ext cx="124920" cy="4014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304920" y="457200"/>
              <a:ext cx="72720" cy="36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457200" y="152280"/>
              <a:ext cx="393480" cy="15696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33520" y="152280"/>
              <a:ext cx="97920" cy="1220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25520" y="331920"/>
              <a:ext cx="707760" cy="60120"/>
            </a:xfrm>
            <a:custGeom>
              <a:avLst/>
              <a:gdLst>
                <a:gd name="textAreaLeft" fmla="*/ 0 w 707760"/>
                <a:gd name="textAreaRight" fmla="*/ 708120 w 707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762120" y="380880"/>
              <a:ext cx="110880" cy="56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860400" y="228600"/>
              <a:ext cx="175680" cy="128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588960" y="358920"/>
              <a:ext cx="172800" cy="979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algn="ctr" dir="2700000" dist="107423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8960" cy="5331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D24E19-2342-4020-92DF-1301B9DBA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914400" y="710640"/>
            <a:ext cx="7467120" cy="496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Закончился 20-ый в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Куда стремится челове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Изучены и космос, и мор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Строенье звёзд и вся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Но математиков зов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Известный лозунг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«Прогрессио движение вперёд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66880" y="1219320"/>
            <a:ext cx="4723920" cy="27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Задачник 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№ 16.65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ANTN027"/>
          <p:cNvPicPr/>
          <p:nvPr/>
        </p:nvPicPr>
        <p:blipFill>
          <a:blip r:embed="rId1"/>
          <a:stretch/>
        </p:blipFill>
        <p:spPr>
          <a:xfrm>
            <a:off x="7124760" y="5029200"/>
            <a:ext cx="2018880" cy="168408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246400" cy="254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914400" y="485640"/>
            <a:ext cx="7619760" cy="563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87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та саженца 60 см, первые полгода она увеличивается ежемесячно в среднем на 4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587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87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рошенное с некоторой высоты тело в первую секунду падает на 5 м, а в каждую следующую на 9,8 м больше, чем в предыдущ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587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87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яды ядер атомов элементов, расположенных в таблице Менделеева друг за другом, отличаются на +1. Заряд ядра атома водорода (№1) равен +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Содержимое 4"/>
          <p:cNvGraphicFramePr/>
          <p:nvPr/>
        </p:nvGraphicFramePr>
        <p:xfrm>
          <a:off x="1066680" y="1600200"/>
          <a:ext cx="7238520" cy="35276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На 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На 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На 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нояб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На 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На 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180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На 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AutoNum type="arabicPeriod"/>
                        <a:tabLst>
                          <a:tab algn="l" pos="1803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361" strike="noStrike">
                <a:solidFill>
                  <a:schemeClr val="accent2">
                    <a:lumMod val="50000"/>
                  </a:schemeClr>
                </a:solidFill>
                <a:latin typeface="Bookman Old Style"/>
              </a:rPr>
              <a:t>Домашнее задание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выступления о жизнедеятельности К. Гаусса и Л. Ф. Магницкого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c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адача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частия в международ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ой игре «Кенгуру – математика для всех» в региональный оргкомит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подать заявку от школы.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день после указанного срока заявки на участие подали  5 школ, во второй -7, в третий - 9 … Через сколько дней в оргкомитет будет подано 60 заявок (считая, что полученная закономерность не будет нарушена)?  Сколько заявок поступит  в последний день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задачи по теме «Арифметическая прогрессия» с практическим содержание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3"/>
          <p:cNvSpPr/>
          <p:nvPr/>
        </p:nvSpPr>
        <p:spPr>
          <a:xfrm>
            <a:off x="2286000" y="2759760"/>
            <a:ext cx="4571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endParaRPr b="1" lang="ru-RU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и свою работу на уроке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годня я узнал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 бы хотел (а) еще раз услышать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бота над заданием помогла мне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ня удивило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 меня появилось желание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рок дал мне для жизни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Урок сегодня завершён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Но каждый должен знать: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Познание, упорство, труд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К прогрессу в жизни приведут!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5"/>
          <p:cNvSpPr txBox="1"/>
          <p:nvPr/>
        </p:nvSpPr>
        <p:spPr>
          <a:xfrm>
            <a:off x="1905120" y="1371600"/>
            <a:ext cx="5382720" cy="966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Bottom">
              <a:avLst>
                <a:gd name="adj" fmla="val 53125"/>
              </a:avLst>
            </a:prstTxWarp>
            <a:noAutofit/>
            <a:scene3d>
              <a:camera prst="legacyObliqueTopLeft"/>
              <a:lightRig dir="r" rig="legacyNormal3"/>
            </a:scene3d>
            <a:sp3d extrusionH="201600" prstMaterial="legacyMatte">
              <a:extrusionClr>
                <a:srgbClr val="0066cc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539640" y="5157720"/>
            <a:ext cx="907560" cy="5234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Times New Roman"/>
            </a:endParaRPr>
          </a:p>
        </p:txBody>
      </p:sp>
      <p:sp>
        <p:nvSpPr>
          <p:cNvPr id="204" name="WordArt 8"/>
          <p:cNvSpPr txBox="1"/>
          <p:nvPr/>
        </p:nvSpPr>
        <p:spPr>
          <a:xfrm>
            <a:off x="2743200" y="228600"/>
            <a:ext cx="3543120" cy="5234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1125000" y="2286000"/>
            <a:ext cx="6965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Bookman Old Style"/>
              </a:rPr>
              <a:t>«Арифметиче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9"/>
          <p:cNvSpPr/>
          <p:nvPr/>
        </p:nvSpPr>
        <p:spPr>
          <a:xfrm>
            <a:off x="2413080" y="2967480"/>
            <a:ext cx="4317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Bookman Old Style"/>
              </a:rPr>
              <a:t>прогрес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2219760" y="3886200"/>
            <a:ext cx="2639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Bookman Old Style"/>
              </a:rPr>
              <a:t>вокр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1"/>
          <p:cNvSpPr/>
          <p:nvPr/>
        </p:nvSpPr>
        <p:spPr>
          <a:xfrm>
            <a:off x="5301360" y="3886200"/>
            <a:ext cx="1842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Bookman Old Style"/>
              </a:rPr>
              <a:t>на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09480" y="1214280"/>
            <a:ext cx="8534160" cy="43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100000"/>
              </a:lnSpc>
              <a:buClr>
                <a:srgbClr val="cc3300"/>
              </a:buClr>
              <a:buFont typeface="Wingdings 2" charset="2"/>
              <a:buChar char=""/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Обобщить теоретические знания по теме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овершенствовать навыки нахождения п-го члена и суммы п-первых членов арифметической прогрессии с помощью формул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-324000">
              <a:lnSpc>
                <a:spcPct val="100000"/>
              </a:lnSpc>
              <a:buClr>
                <a:srgbClr val="cc3300"/>
              </a:buClr>
              <a:buFont typeface="Wingdings 2" charset="2"/>
              <a:buChar char=""/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Развивать познавательный интерес учащихся, учиться видеть связь между математикой и окружающей жизнью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развивать грамотную математическую речь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-324000">
              <a:lnSpc>
                <a:spcPct val="100000"/>
              </a:lnSpc>
              <a:buClr>
                <a:srgbClr val="cc3300"/>
              </a:buClr>
              <a:buFont typeface="Wingdings 2" charset="2"/>
              <a:buChar char=""/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оспитывать волю и настойчивость для достижения конечных результатов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-324000">
              <a:lnSpc>
                <a:spcPct val="100000"/>
              </a:lnSpc>
              <a:buClr>
                <a:srgbClr val="cc3300"/>
              </a:buClr>
              <a:buFont typeface="Wingdings 2" charset="2"/>
              <a:buChar char=""/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оспитывать уважительное отношение к одноклассника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619280" y="189000"/>
            <a:ext cx="5616360" cy="936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PerspectiveBottomRight">
                <a:rot lat="0" lon="21239990" rev="0"/>
              </a:camera>
              <a:lightRig dir="l" rig="legacyHarsh3"/>
            </a:scene3d>
            <a:sp3d extrusionH="430200" prstMaterial="legacyMatte">
              <a:extrusionClr>
                <a:srgbClr val="c0c0c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Рисунок17"/>
          <p:cNvPicPr/>
          <p:nvPr/>
        </p:nvPicPr>
        <p:blipFill>
          <a:blip r:embed="rId1"/>
          <a:stretch/>
        </p:blipFill>
        <p:spPr>
          <a:xfrm>
            <a:off x="6632640" y="1066680"/>
            <a:ext cx="2511000" cy="259200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Продолжите данную последовательность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; 5; 9; 13; 17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2. Последовательность (а</a:t>
            </a:r>
            <a:r>
              <a:rPr b="1" i="1" lang="en-US" sz="3200" spc="-1" strike="noStrike" baseline="-25000">
                <a:solidFill>
                  <a:srgbClr val="002060"/>
                </a:solidFill>
                <a:latin typeface="Bookman Old Style"/>
              </a:rPr>
              <a:t>n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) задана формулой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Bookman Old Style"/>
              </a:rPr>
              <a:t>а</a:t>
            </a:r>
            <a:r>
              <a:rPr b="1" i="1" lang="en-US" sz="3200" spc="-1" strike="noStrike" baseline="-25000">
                <a:solidFill>
                  <a:srgbClr val="c00000"/>
                </a:solidFill>
                <a:latin typeface="Bookman Old Style"/>
              </a:rPr>
              <a:t>n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=</a:t>
            </a:r>
            <a:r>
              <a:rPr b="1" lang="en-US" sz="32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6</a:t>
            </a:r>
            <a:r>
              <a:rPr b="1" i="1" lang="en-US" sz="3200" spc="-1" strike="noStrike">
                <a:solidFill>
                  <a:srgbClr val="c00000"/>
                </a:solidFill>
                <a:latin typeface="Bookman Old Style"/>
              </a:rPr>
              <a:t>n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Найдите: 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a</a:t>
            </a:r>
            <a:r>
              <a:rPr b="1" lang="ru-RU" sz="3200" spc="-1" strike="noStrike" baseline="-25000">
                <a:solidFill>
                  <a:srgbClr val="00206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, </a:t>
            </a:r>
            <a:r>
              <a:rPr b="1" lang="en-US" sz="3200" spc="-1" strike="noStrike">
                <a:solidFill>
                  <a:srgbClr val="002060"/>
                </a:solidFill>
                <a:latin typeface="Bookman Old Style"/>
              </a:rPr>
              <a:t>a</a:t>
            </a:r>
            <a:r>
              <a:rPr b="1" lang="en-US" sz="3200" spc="-1" strike="noStrike" baseline="-25000">
                <a:solidFill>
                  <a:srgbClr val="002060"/>
                </a:solidFill>
                <a:latin typeface="Bookman Old Style"/>
              </a:rPr>
              <a:t>3 </a:t>
            </a:r>
            <a:r>
              <a:rPr b="1" lang="en-US" sz="3200" spc="-1" strike="noStrike">
                <a:solidFill>
                  <a:srgbClr val="002060"/>
                </a:solidFill>
                <a:latin typeface="Bookman Old Style"/>
              </a:rPr>
              <a:t>; </a:t>
            </a: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а</a:t>
            </a:r>
            <a:r>
              <a:rPr b="1" lang="ru-RU" sz="3200" spc="-1" strike="noStrike" baseline="-25000">
                <a:solidFill>
                  <a:srgbClr val="002060"/>
                </a:solidFill>
                <a:latin typeface="Bookman Old Style"/>
              </a:rPr>
              <a:t>20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187280" y="333360"/>
            <a:ext cx="6768720" cy="12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man Old Style"/>
              </a:rPr>
              <a:t>Устная  работа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657600" y="2743200"/>
            <a:ext cx="46479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2"/>
                </a:solidFill>
                <a:latin typeface="Bookman Old Styl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657600" y="2666880"/>
            <a:ext cx="3600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21; 25; 29; 3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1" descr="D:\Лена\для работы\2013-2014\открытый урок\Новая папка\Безымянный.png"/>
          <p:cNvPicPr/>
          <p:nvPr/>
        </p:nvPicPr>
        <p:blipFill>
          <a:blip r:embed="rId1"/>
          <a:stretch/>
        </p:blipFill>
        <p:spPr>
          <a:xfrm>
            <a:off x="4521600" y="457200"/>
            <a:ext cx="4474800" cy="5714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5796000" y="170028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596360" y="2781360"/>
            <a:ext cx="1547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457200" y="685800"/>
            <a:ext cx="421128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исловая последовательность, каждый член которой, начиная со второго, равен предыдущему члену, сложенному с одним и тем же чи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57200" y="2057400"/>
            <a:ext cx="367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кажите разность последовательности: 5;5;5;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57200" y="2666880"/>
            <a:ext cx="3600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пособ задания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457200" y="3276720"/>
            <a:ext cx="4495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Разница между последующим и предыдущим членами прогр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533520" y="3886200"/>
            <a:ext cx="392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Элементы, из которых состоит последов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33520" y="4495680"/>
            <a:ext cx="40669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Натуральное число, обозначающее место члена в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457200" y="5334120"/>
            <a:ext cx="4211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 Функция, заданная на множестве натураль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457200" y="5942160"/>
            <a:ext cx="4952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Последовательность, содержащая ограниченное число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22"/>
          <p:cNvSpPr txBox="1"/>
          <p:nvPr/>
        </p:nvSpPr>
        <p:spPr>
          <a:xfrm>
            <a:off x="1752480" y="152280"/>
            <a:ext cx="4392360" cy="531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man Old Style"/>
              </a:rPr>
              <a:t>КРОССВОРД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3" descr="ученик идет"/>
          <p:cNvPicPr/>
          <p:nvPr/>
        </p:nvPicPr>
        <p:blipFill>
          <a:blip r:embed="rId2"/>
          <a:stretch/>
        </p:blipFill>
        <p:spPr>
          <a:xfrm flipH="1">
            <a:off x="7668000" y="4770360"/>
            <a:ext cx="122508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384360" cy="1964880"/>
          </a:xfrm>
          <a:prstGeom prst="rect">
            <a:avLst/>
          </a:prstGeom>
          <a:ln w="9525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В какой фигуре записана арифметическая прогресси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2879280" cy="173808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364000" y="3429000"/>
            <a:ext cx="3455640" cy="1550520"/>
          </a:xfrm>
          <a:prstGeom prst="rect">
            <a:avLst/>
          </a:prstGeom>
          <a:ln w="9525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4"/>
          <a:stretch/>
        </p:blipFill>
        <p:spPr>
          <a:xfrm>
            <a:off x="4859280" y="1700280"/>
            <a:ext cx="3600000" cy="159336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5"/>
          <a:stretch/>
        </p:blipFill>
        <p:spPr>
          <a:xfrm>
            <a:off x="3276720" y="4863960"/>
            <a:ext cx="3312720" cy="1993680"/>
          </a:xfrm>
          <a:prstGeom prst="rect">
            <a:avLst/>
          </a:prstGeom>
          <a:ln w="9525">
            <a:noFill/>
          </a:ln>
        </p:spPr>
      </p:pic>
      <p:sp>
        <p:nvSpPr>
          <p:cNvPr id="235" name="WordArt 8"/>
          <p:cNvSpPr txBox="1"/>
          <p:nvPr/>
        </p:nvSpPr>
        <p:spPr>
          <a:xfrm rot="20457600">
            <a:off x="250560" y="3573360"/>
            <a:ext cx="2158560" cy="864720"/>
          </a:xfrm>
          <a:prstGeom prst="rect">
            <a:avLst/>
          </a:prstGeom>
        </p:spPr>
        <p:txBody>
          <a:bodyPr wrap="none" lIns="90000" rIns="90000" tIns="45000" bIns="450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36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  <p:sp>
        <p:nvSpPr>
          <p:cNvPr id="236" name="WordArt 9"/>
          <p:cNvSpPr txBox="1"/>
          <p:nvPr/>
        </p:nvSpPr>
        <p:spPr>
          <a:xfrm rot="20457600">
            <a:off x="5148000" y="3357720"/>
            <a:ext cx="2158560" cy="864720"/>
          </a:xfrm>
          <a:prstGeom prst="rect">
            <a:avLst/>
          </a:prstGeom>
        </p:spPr>
        <p:txBody>
          <a:bodyPr wrap="none" lIns="90000" rIns="90000" tIns="45000" bIns="450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36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  <p:sp>
        <p:nvSpPr>
          <p:cNvPr id="237" name="WordArt 10"/>
          <p:cNvSpPr txBox="1"/>
          <p:nvPr/>
        </p:nvSpPr>
        <p:spPr>
          <a:xfrm rot="20457600">
            <a:off x="899640" y="1844640"/>
            <a:ext cx="2158560" cy="864720"/>
          </a:xfrm>
          <a:prstGeom prst="rect">
            <a:avLst/>
          </a:prstGeom>
        </p:spPr>
        <p:txBody>
          <a:bodyPr wrap="none" lIns="90000" rIns="90000" tIns="45000" bIns="450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36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  <p:sp>
        <p:nvSpPr>
          <p:cNvPr id="238" name="WordArt 11"/>
          <p:cNvSpPr txBox="1"/>
          <p:nvPr/>
        </p:nvSpPr>
        <p:spPr>
          <a:xfrm rot="20457600">
            <a:off x="4716000" y="1557360"/>
            <a:ext cx="2158560" cy="864720"/>
          </a:xfrm>
          <a:prstGeom prst="rect">
            <a:avLst/>
          </a:prstGeom>
        </p:spPr>
        <p:txBody>
          <a:bodyPr wrap="none" lIns="90000" rIns="90000" tIns="45000" bIns="450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36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  <p:sp>
        <p:nvSpPr>
          <p:cNvPr id="239" name="WordArt 12"/>
          <p:cNvSpPr txBox="1"/>
          <p:nvPr/>
        </p:nvSpPr>
        <p:spPr>
          <a:xfrm rot="20457600">
            <a:off x="3779640" y="5157720"/>
            <a:ext cx="2158560" cy="864720"/>
          </a:xfrm>
          <a:prstGeom prst="rect">
            <a:avLst/>
          </a:prstGeom>
        </p:spPr>
        <p:txBody>
          <a:bodyPr wrap="none" lIns="90000" rIns="90000" tIns="45000" bIns="450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36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14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32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5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68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8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3333cc"/>
                </a:solidFill>
                <a:latin typeface="Monotype Corsiva"/>
              </a:rPr>
              <a:t>Задача 1: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2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свободном падении тело проходит в первую секунду 5 м, а в каждую следующую на 10 м больше. Найдите глубину шахты, если свободно падающее тело достигло ее дна через 5 с после начала падения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2120" y="2795400"/>
            <a:ext cx="2895120" cy="113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295280" y="3200400"/>
            <a:ext cx="273492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вет: 125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539640" y="189000"/>
            <a:ext cx="8280000" cy="864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TopLeft"/>
              <a:lightRig dir="r" rig="legacyNormal3"/>
            </a:scene3d>
            <a:sp3d extrusionH="201600" prstMaterial="legacyMatte">
              <a:extrusionClr>
                <a:srgbClr val="0066cc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man Old Style"/>
              </a:rPr>
              <a:t>Прогрессии в жизни и быту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213"/>
                                    </p:cond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5197680" cy="5142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7218720" y="1676520"/>
            <a:ext cx="1924920" cy="1904760"/>
          </a:xfrm>
          <a:prstGeom prst="rect">
            <a:avLst/>
          </a:prstGeom>
          <a:ln w="9525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8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Задача 3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хранении бревен строевого леса их укладывают как показано на рисунке. Сколько брёвен находится в одной кладке, если в ее основании положено 12 бревен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24526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7"/>
          <p:cNvSpPr txBox="1"/>
          <p:nvPr/>
        </p:nvSpPr>
        <p:spPr>
          <a:xfrm>
            <a:off x="468360" y="260280"/>
            <a:ext cx="8280000" cy="864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TopLeft"/>
              <a:lightRig dir="r" rig="legacyNormal3"/>
            </a:scene3d>
            <a:sp3d extrusionH="201600" prstMaterial="legacyMatte">
              <a:extrusionClr>
                <a:srgbClr val="0066cc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man Old Style"/>
              </a:rPr>
              <a:t>Прогрессии в жизни и быту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8"/>
          <p:cNvGraphicFramePr/>
          <p:nvPr/>
        </p:nvGraphicFramePr>
        <p:xfrm>
          <a:off x="1143000" y="2286000"/>
          <a:ext cx="6095520" cy="406368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2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86000"/>
                    <a:ext cx="60955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9" descr="ANTN027"/>
          <p:cNvPicPr/>
          <p:nvPr/>
        </p:nvPicPr>
        <p:blipFill>
          <a:blip r:embed="rId4"/>
          <a:stretch/>
        </p:blipFill>
        <p:spPr>
          <a:xfrm>
            <a:off x="7734240" y="5682240"/>
            <a:ext cx="1409400" cy="1175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2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fbdf53"/>
      </a:accent1>
      <a:accent2>
        <a:srgbClr val="ff9966"/>
      </a:accent2>
      <a:accent3>
        <a:srgbClr val="ffffff"/>
      </a:accent3>
      <a:accent4>
        <a:srgbClr val="000000"/>
      </a:accent4>
      <a:accent5>
        <a:srgbClr val="fdecb3"/>
      </a:accent5>
      <a:accent6>
        <a:srgbClr val="e78a5c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2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fbdf53"/>
      </a:accent1>
      <a:accent2>
        <a:srgbClr val="ff9966"/>
      </a:accent2>
      <a:accent3>
        <a:srgbClr val="ffffff"/>
      </a:accent3>
      <a:accent4>
        <a:srgbClr val="000000"/>
      </a:accent4>
      <a:accent5>
        <a:srgbClr val="fdecb3"/>
      </a:accent5>
      <a:accent6>
        <a:srgbClr val="e78a5c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2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fbdf53"/>
      </a:accent1>
      <a:accent2>
        <a:srgbClr val="ff9966"/>
      </a:accent2>
      <a:accent3>
        <a:srgbClr val="ffffff"/>
      </a:accent3>
      <a:accent4>
        <a:srgbClr val="000000"/>
      </a:accent4>
      <a:accent5>
        <a:srgbClr val="fdecb3"/>
      </a:accent5>
      <a:accent6>
        <a:srgbClr val="e78a5c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erve</Template>
  <TotalTime>150</TotalTime>
  <Application>LibreOffice/7.4.7.2$Linux_X86_64 LibreOffice_project/40$Build-2</Application>
  <AppVersion>15.0000</AppVersion>
  <Words>577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Стрелкова Н.</dc:creator>
  <dc:description/>
  <dc:language>en-US</dc:language>
  <cp:lastModifiedBy>Алексей</cp:lastModifiedBy>
  <cp:lastPrinted>1601-01-01T00:00:00Z</cp:lastPrinted>
  <dcterms:modified xsi:type="dcterms:W3CDTF">2014-02-27T14:59:56Z</dcterms:modified>
  <cp:revision>18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  <property fmtid="{D5CDD505-2E9C-101B-9397-08002B2CF9AE}" pid="4" name="Version">
    <vt:r8>1</vt:r8>
  </property>
</Properties>
</file>