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CB68-8C76-4DC1-AF65-81E563A1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869E-2E59-4BD8-A87F-68B4AA84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D66B-089F-4D3A-AA1F-C658F53E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67AA-529C-474A-9841-D0BCC51D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B112-C5D7-42F8-A5CE-F99726F1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C2FA-F18C-4216-A6B2-1C090BE9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284C-D953-40C9-8B42-C5690282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D0DD-A0C0-4316-A2FF-617B3E4A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8122-1E67-4517-9170-B7E715B0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44CA-C1D5-4FF9-A2B0-35C01D33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BBCF-2FF1-4F2B-BBC5-A6224C5D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E8C1-BFEF-41D8-AD55-9D339731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44E2-32D3-42FE-8CFB-F4972FF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2603-EBCE-406C-8E4B-30553D30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6821-7D75-47ED-A22E-A3C2D92B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EA8-0669-4763-8DBA-854C7619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F13A-6D6D-4F09-9B8B-0BFE1654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5B36-2297-46E6-AE98-D9B0E0C6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0037-B7D9-4222-B95D-EAC0C13A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A914-B764-40B4-B648-74034D12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F894-AD72-415B-8301-8D38D927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D108-7CEC-4B5A-9CC5-19AB8162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3194-F298-4E1A-9F45-836B82AC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C3CD-327D-4981-ABEE-8F01F6C7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7932-6C65-4BA4-AAA6-1E5E35355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78E3-6F59-4DBB-AF82-E8D8A966B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" Target="slide22.xml"/><Relationship Id="rId14" Type="http://schemas.openxmlformats.org/officeDocument/2006/relationships/image" Target="../media/image1.png"/><Relationship Id="rId15" Type="http://schemas.openxmlformats.org/officeDocument/2006/relationships/slide" Target="slide25.xml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727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У«Средняя общеобразовательная школа № 20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.Щекино</a:t>
            </a:r>
            <a:br>
              <a:rPr sz="1600"/>
            </a:br>
            <a:br>
              <a:rPr sz="16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едметный проект по математике</a:t>
            </a: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«Парадоксы в математик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7664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 проек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ли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цы 6 Б клас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тамонова Инес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тамонова Викт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rcRect l="19030" t="22916" r="18110" b="11535"/>
          <a:stretch/>
        </p:blipFill>
        <p:spPr>
          <a:xfrm>
            <a:off x="900000" y="3141720"/>
            <a:ext cx="3894120" cy="3046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 не удивля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р. = 40000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ьмем верное равенство:2 р.=200к. Возведем его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ям в квадрат. мы получим: 4 р.=40000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чем ошиб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3943440"/>
            <a:ext cx="793116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Возведение в квадрат денег не имеет смы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вадрат возводятся числа, а не величин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арадокс с ли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64087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режем прямоугольник по пунктирной линии и сдвин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ижнюю часть влево вниз, как это показано на рис.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читав число вертикальных линий, вы обнаружите, ч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еперь их стало девять. Какая линия исчезла и куда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виньте левую часть в прежнее положение, и исчезнувш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ния появится снова. Но какая линия стала на свое место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куда она взялась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2190600" cy="12574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107640" y="3357720"/>
            <a:ext cx="6264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семь из десяти вертикальных линий разрезаются пунктир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нией на два отрезка, и полученные шестнадцать отрез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перераспределяются», образуя (вместе с двумя незатронут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тикальными линиями) девять линий, каждая из котор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уточку длиннее первоначаль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ак как приращение длины каждой линии весьма невелико, о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сразу обнаруживается. В действительности же суммар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личина этих приращений в точности равна длине каждой и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оначальных ли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6659640" y="3500280"/>
            <a:ext cx="2181240" cy="12574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5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500"/>
                            </p:stCondLst>
                            <p:childTnLst>
                              <p:par>
                                <p:cTn id="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гра в каму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ьмем пять кучек камешков по четыре камешка в к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местим один камешек из второй кучки в первую, два каме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третьей во вторую, три из четвертой в третью и, наконец, 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тыре камешка из пятой в четверт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такой передвижки оказывается, что кучек стало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тыре. Невозможно ответить на вопрос, какая кучка исчезла, т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камешки были перераспределены так, что в каждой из четыре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чек прибавилось по камеш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916360" y="3500280"/>
            <a:ext cx="3095640" cy="7239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5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атематические комедии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ариант с квадра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932000" y="1698480"/>
            <a:ext cx="3670200" cy="36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фигур (рис.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или 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рис.2) и 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рис.3) с площадями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65 кв.ед. так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щади составлены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аковых час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64=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755640" y="1557360"/>
            <a:ext cx="3830760" cy="39290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52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Числа Фибонач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6048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казывается, что длины сторон четырех част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авляющ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гуры, являются членами ряда Фибоначчи, т.е.  ряда чисе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чинающегося с двух единиц: 1, 1, каждое из которых, начи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третьего, есть сумма двух предшествующих. Наш ряд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д 1, 1, 2, 3, 5, 8, 13, 21, 34,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положение частей, на которые был разрезан квадрат, в вид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ямоугольника иллюстрирует одно из свойств ря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боначчи, а именно следующее: при возведении в квадра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юбого члена этого  ряда получается произведение дву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едних членов ряда плюс  или минус едини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нашем примере сторона квадрата равна 8, а  площадь ра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. Восьмерка в ряду Фибоначчи расположена между 5 и 1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ак как числа 5 и 13 становятся длинами сторон прямоугольни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о площадь его должна быть равной 65, что дает  прир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лощади в одну един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лагодаря этому свойству ряда можно построить квадра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ороной которого является любое число Фибоначчи, больш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 а затем разрезать его на ч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723000" y="2095560"/>
            <a:ext cx="1832040" cy="22176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5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0"/>
                            </p:stCondLst>
                            <p:childTnLst>
                              <p:par>
                                <p:cTn id="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500"/>
                            </p:stCondLst>
                            <p:childTnLst>
                              <p:par>
                                <p:cTn id="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6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70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50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8000"/>
                            </p:stCondLst>
                            <p:childTnLst>
                              <p:par>
                                <p:cTn id="6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5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9000"/>
                            </p:stCondLst>
                            <p:childTnLst>
                              <p:par>
                                <p:cTn id="6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9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ариант с прямоуголь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11280" y="2565360"/>
            <a:ext cx="4932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ет много способов, котор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ямоугольник можно разрезать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большое число частей, а зат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ить их в виде друг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ямоугольника большей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ьшей площад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924000" y="3141720"/>
            <a:ext cx="521964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257640" cy="33703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5" dur="5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6000"/>
                            </p:stCondLst>
                            <p:childTnLst>
                              <p:par>
                                <p:cTn id="6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65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7000"/>
                            </p:stCondLst>
                            <p:childTnLst>
                              <p:par>
                                <p:cTn id="6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50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8000"/>
                            </p:stCondLst>
                            <p:childTnLst>
                              <p:par>
                                <p:cTn id="6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85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зрезание квадрата на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режем квадрат на четыре части одинаковой формы и размера (рис. 1),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тем составим их по-новому так, как показано на рис. 2. При этом получ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, размеры которого кажутся не изменившимися и в то же время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верстием в серед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обным же образом можно разрезать прямоугольник с любым отнош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ин сторон. Любопытно, что точка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в которой, пересекаются две взаим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пендикулярные линии разреза, может при этом находиться в любом 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и  прямоуголь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каждом случае при перераспределении частей появляется отверст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чем размер его зависит от величины угла, образованного лини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реза, со сторонами прямоуголь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763640" y="4508640"/>
            <a:ext cx="1800360" cy="17906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076720" y="4508640"/>
            <a:ext cx="1779840" cy="1800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  <p:transition spd="med">
    <p:wedge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500"/>
                            </p:stCondLst>
                            <p:childTnLst>
                              <p:par>
                                <p:cTn id="7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4000"/>
                            </p:stCondLst>
                            <p:childTnLst>
                              <p:par>
                                <p:cTn id="7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500"/>
                            </p:stCondLst>
                            <p:childTnLst>
                              <p:par>
                                <p:cTn id="7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0"/>
                            </p:stCondLst>
                            <p:childTnLst>
                              <p:par>
                                <p:cTn id="7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6000"/>
                            </p:stCondLst>
                            <p:childTnLst>
                              <p:par>
                                <p:cTn id="7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5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500"/>
                            </p:stCondLst>
                            <p:childTnLst>
                              <p:par>
                                <p:cTn id="7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5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птические иллюз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960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 ли прямые АВ и СД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81120" y="2351160"/>
            <a:ext cx="7397640" cy="293688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1042920" y="3357720"/>
            <a:ext cx="273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16000" y="400536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3236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32360" y="3141720"/>
            <a:ext cx="273528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932360" y="3860640"/>
            <a:ext cx="273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768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5" dur="768" fill="hold"/>
                                        <p:tgtEl>
                                          <p:spTgt spid="5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7" dur="768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9" dur="768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998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498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998"/>
                            </p:stCondLst>
                            <p:childTnLst>
                              <p:par>
                                <p:cTn id="7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498"/>
                            </p:stCondLst>
                            <p:childTnLst>
                              <p:par>
                                <p:cTn id="7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5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498"/>
                            </p:stCondLst>
                            <p:childTnLst>
                              <p:par>
                                <p:cTn id="7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араллельны ли заштрихованные ли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971640" y="2284560"/>
            <a:ext cx="4397400" cy="34509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77" name=""/>
          <p:cNvSpPr/>
          <p:nvPr/>
        </p:nvSpPr>
        <p:spPr>
          <a:xfrm>
            <a:off x="6443640" y="4653000"/>
            <a:ext cx="16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, линии паралл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116000" y="4941720"/>
            <a:ext cx="86364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116000" y="4149720"/>
            <a:ext cx="158436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16000" y="3357720"/>
            <a:ext cx="2303640" cy="23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16000" y="2565360"/>
            <a:ext cx="3095640" cy="316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35280" y="2492280"/>
            <a:ext cx="3097080" cy="324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56000" y="2492280"/>
            <a:ext cx="2376360" cy="2449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48000" y="2492280"/>
            <a:ext cx="158436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40360" y="2492280"/>
            <a:ext cx="792000" cy="865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2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5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8000"/>
                            </p:stCondLst>
                            <p:childTnLst>
                              <p:par>
                                <p:cTn id="8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бман з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258920" y="3357360"/>
            <a:ext cx="165744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5892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47640" y="4653000"/>
            <a:ext cx="432000" cy="4316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87640" y="4076640"/>
            <a:ext cx="432000" cy="4334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724360" y="4149720"/>
            <a:ext cx="216000" cy="216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24360" y="4437000"/>
            <a:ext cx="7308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580000" y="4292640"/>
            <a:ext cx="7308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580000" y="4149720"/>
            <a:ext cx="71640" cy="712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867280" y="4437000"/>
            <a:ext cx="7164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12000" y="4149720"/>
            <a:ext cx="7128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2000" y="4292640"/>
            <a:ext cx="7128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24360" y="4005360"/>
            <a:ext cx="7308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867280" y="4005360"/>
            <a:ext cx="7164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93080" y="4076640"/>
            <a:ext cx="215640" cy="216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308720" y="429264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380360" y="386064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948360" y="364500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77080" y="436572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659640" y="4005360"/>
            <a:ext cx="360360" cy="3585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4360" y="1484280"/>
            <a:ext cx="748800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кружок больше на каждом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ис.1                                рис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5280" y="32464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жки ра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3280" y="2997360"/>
            <a:ext cx="30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 кружки рав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я кажутся нерав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>
            <a:hlinkClick r:id="rId1" action="ppaction://hlinksldjump"/>
          </p:cNvPr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противоречия в исторических и современных зада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азать или опровергнуть все противоречия с помощью 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математические обм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хилл и черепах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смотрим  рассуждение, придуманное греческим философом Зеноном Элейским еще в 5 веке до нашей эры: быстроногий Ахилл хочет догнать черепаху, которая находится в 10 метрах впереди него и движется со скоростью в 100 раз меньшей, чем Ахилл, но когда Ахилл пробежит эти 10 метров, черепаха уползет немного вперед, переместившись в какую-то точку В, а когда Ахилл добежит до точки В, черепаха опять окажется впереди в точке С, и так продолжится до бесконечности – Ахилл никогда не догонит черепах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800600" y="2058840"/>
            <a:ext cx="3803760" cy="22957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  <p:transition spd="med">
    <p:wedge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Математические рассуждения в задаче Зенон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смотримся к рассуждению внимательно: пусть скорость черепахи ра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/с, скорость Ахилла 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/с, тогда 10 метров Ахилл пробежит за врем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вное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ек, за это же время черепаха проползет путь, равный 0,1ме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преодолеть этот путь, Ахиллу понадобится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унд, а черепа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это время уползет еще на 0,001 метра… итак расстояние, котор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олзет черепаха за п этапов этого соревнования, рав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1+0,001+…+0,1 </a:t>
            </a:r>
            <a:r>
              <a:rPr b="0" lang="ru-RU" sz="1600" spc="-1" strike="noStrike" baseline="40000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0,01</a:t>
            </a:r>
            <a:r>
              <a:rPr b="0" lang="ru-RU" sz="1600" spc="-1" strike="noStrike" baseline="50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0,1(1 – 0,01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п+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/(1 – 0,01) метра , и даже если 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им бесконечно много таких шагов, то черепаха за все эти шаги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олзет больше, чем 10/99 метра, а времени на это будет затрачено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, чем 10/9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екунд, тогда-то Ахилл и догонит черепаху. Труд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го рассуждения заключается в следующем: кажется что никакая су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конечного числа слагаемых, даже если эти слагаемые очень маленьк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ожет быть равна конечному числу. Именно поэтому и кажется, ч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гоня Ахилла за черепахой будет продолжаться бесконечно долго, а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ньше 0,1 секунды. А рассуждение Зенона как раз должно было подчеркну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иворечие между непрерывностью, бесконечной делимостью времен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, что каждый конкретный промежуток времени име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ельность отличную от ну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rId1" action="ppaction://hlinksldjump"/>
          </p:cNvPr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9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6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6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6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6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6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6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6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иемы математического сч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ножение любого пятизначного числа на 99999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любое пятизначное число. Я его быстро умножу на 99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 будет число 64728. Ответ: 6472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99999=647273527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ное число (64728)уменьшено на 1 (64727), и к результату приписываются дополнения каждой цифры (этого результата) до 9. Прием вытекает из того, что умножение числа на 99999 равносильно умножению числа на 100000 (то есть приписываются к нему пять нулей) и последующему вычитанию из результата самого числ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иемы математического сч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ведите в куб любое двузначное число. Смотрите, не ошибайтесь! Я в уме извлеку из результата кубический кор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это числ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85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6668640" y="26953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5794200" y="1990800"/>
            <a:ext cx="2129040" cy="22320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6012000" y="47221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: 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768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8" dur="768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0" dur="768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2" dur="768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998"/>
                            </p:stCondLst>
                            <p:childTnLst>
                              <p:par>
                                <p:cTn id="10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0" dur="5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извлечь кубический корен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помним кубы 9 первых натуральных чисел: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1,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8,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27,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64,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125,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216,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343,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512,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729. Замечаем, что куб каждого из крайних двух из этих девяти чисел (1 и 9) и средних трех (4,5,6) оканчивается той же цифрой, какой записывается само число, а куб каждого из остальных четырех чисел – дополнением этой цифры до 10. Число 328509 оканчивается цифрой 9, значит, и его кубический корень оканчивается девяткой. Кроме того,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2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28,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34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28. Значит первая цифра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атематика глазами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эта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их «математических» стихотворений (то есть связанных с математикой) немного, а тем более таких в которых встречается что то веселое и занимательное. Приведем несколько стихотворений, взятых из книги В. Лицм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288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дут две паралл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куда и куд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ыть может, что у ц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быть им никог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рядом плыть до гроб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уда судьба вед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шили друга о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твердо шли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вот года проход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 долгих лет и з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76720" y="3213000"/>
            <a:ext cx="58672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а странника все брод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 вечно быть дво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изки и неразлуч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стали уста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ыть рядом неотлуч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ать, да не дост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дут ли в бесконе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будет ли да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оть погрузившись в ве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ум слиться им в од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227280" y="2924280"/>
            <a:ext cx="1800360" cy="172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6732720" y="3500280"/>
            <a:ext cx="1800000" cy="20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0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0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6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6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2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6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 рассмотрели различные математические парадоксы и как сказал Ломоносов М.В.: «Все, что без этого было темно, сомнительно и неверно, математика сделала ясным, верным и очевид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 думаем, что после всего рассмотренного никто не скажет, что математика – это сухая, неинтересная наука и ,чтобы все это сочинить и доказать, любой математик должен быть в душе поэ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к М.Б. Организация и содержание внеклассных занятий по математике пособие для учителей/ М.Б.Балк. – М.: Учпедгиз, 19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днер М. Математические досуги. –М.:Оникс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видно – невероятно.//Математический клуб «Кенгуру», Вокруг квадратного трехчлена, СПб. –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шов А.П. Вопросы внеклассной работы по математике в школе. – М.: Учпедгиз, 196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 и задач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я создан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тазия и 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парадо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докс с ли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в кам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ие комедии( вариант с квадратом, числа Фибонач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с прямоугольником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ие иллю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ман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Зенона Эле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47900"/>
                </a:solidFill>
                <a:uFillTx/>
                <a:latin typeface="Arial"/>
                <a:hlinkClick r:id="rId13" action="ppaction://hlinksldjump"/>
              </a:rPr>
              <a:t>Приемы математического с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47900"/>
                </a:solidFill>
                <a:uFillTx/>
                <a:latin typeface="Arial"/>
                <a:hlinkClick r:id="rId15" action="ppaction://hlinksldjump"/>
              </a:rPr>
              <a:t>Математика глазами поэ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дея создания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жды на уроке математике одноклассник в контрольной раб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устил глупую ошибку :  2 х 2 =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засмеялись, но учитель сказал: « Да, действительно 2 х 2 = 4, 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йчас я на доске путем математических рассуждений докажу, что 4=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это произошло, опровергнуть рассуждения учителя с пер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а нам не удалось. Но задание вызвало особый интерес, которы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ел нас к созданию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уководителем проек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ла учитель мате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фонина Л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Фантазия и 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онардо да Винчи говорил: «Никакое человеческое исследование не может быть названо истиной, если оно не проходит через математические доказательства». В своей работе мы попытаемся доказать, что математика - это не сухая наука. В сущности же это  наука, требующая наиболее фантазии. Напрасно думают, что фантазия нужна только поэту. Это глупый предрассудок! Даже в математике она нужна, потому что любое математическое открытие невозможно было бы без фантазии. А один из великих ученых говорил совершенно верно, что нельзя быть математиком, не будучи в то же время поэтом в душе. А так же в своей работе мы хотели бы показать отношение известных поэтов к математи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онятие парадо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адокс в широком смысл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ерждение, резко  расходящееся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щепринятыми, устоявшимися мнен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ицание того, что представл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безусловно правильным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 греческое слово, от котор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зведено наше слово "парадокс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квально означало "необычное, стран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ероятное, замечательное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адокс в более узком и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ременном значении — это д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ивоположных утверждения, для кажд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которых имеются представляющ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бедительными аргумен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238800" y="2484360"/>
            <a:ext cx="2357640" cy="1542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физ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физм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ывается такое суждение, в котором неправильные (ложные) предпосылки выдаются за истинные, в результате чего мы приходим к нелепым умозаключ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атематическом софизме заведомо допускается замаскированная ошибка, которая в процессе вывода приводит к абсурдному результату. Разобрать софизм это значит найти ошиб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работа в России, посвященная математическим софизмам, вышла в 1884 году; автором ее был Василий Иванович Обреи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берем один математический соф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14080" y="334440"/>
            <a:ext cx="7978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2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имеем два числа: а=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. Обозначим их полусумму  чере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(а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2; а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2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– 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– a=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множим последние два равенства почленно; тогда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–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множим обе части равенства на – 1. Получ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ибавим к обеим частям п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получ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следовательно, 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отсю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но а=4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; значит, 4=5, то есть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5, ч.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ение: ошибка сделана в момент извлечения квадратного корня; равенство степеней не всегда говорит о равенстве их осн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се числа р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ьчик написал на доске верное равенст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5+10-41=42+12-5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  затем вычел из обеих частей по 4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5+10-45=42+12-5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заметил, что в левой части равенства все числа делятся на 5,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й - на 6.  Тогда он вынес в левой части 5 за скобки, 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й - 6 и получил 5(7+2-9)=6(7+2-9). Сократив обе части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й множитель, Петя получил, что 5=6. Где он ошиб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енству  ac=bc при с=0 удовлетворяют любые числа a и b. Ошибка Пети  состоит в том, что он сократил на число 7+2-9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50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500"/>
                            </p:stCondLst>
                            <p:childTnLst>
                              <p:par>
                                <p:cTn id="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5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7:58:04Z</dcterms:created>
  <dc:creator>Лорис</dc:creator>
  <dc:description/>
  <dc:language>en-US</dc:language>
  <cp:lastModifiedBy>User</cp:lastModifiedBy>
  <dcterms:modified xsi:type="dcterms:W3CDTF">1999-12-31T21:50:42Z</dcterms:modified>
  <cp:revision>35</cp:revision>
  <dc:subject/>
  <dc:title>Парадоксы в математике</dc:title>
</cp:coreProperties>
</file>