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2F19-9E92-4365-9ED6-5AC4EA01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CA12-6C53-4501-9A72-079EC32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B1B8-1D71-472E-8B04-FD5A87C9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720D-9A09-4B7C-9449-E5017FC4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838B-0AFA-4BC8-B926-BAD235F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25E4-AEAA-4B6E-8C6F-A4581BB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1A6C-58C6-4F8E-8B37-1B3FBDEF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E847-52FA-4C62-B695-82D1950A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F59B-3188-409A-AC56-2F0D0CF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C78-27E4-4440-9DCF-EA9813F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2AD5-D18C-45D7-956C-810AF46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E1B2-B060-46B5-A7C2-C08841F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1BC-F254-48AC-A233-4500AA5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C330-C223-4A4C-99C5-A385C6A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4171-578E-44F9-8807-7F48372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757F-0E50-45E0-82CC-439F626E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9BFB-9F96-40E9-9DB5-A219624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AA15-CCFA-4C44-9A84-768EBAD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9C3C-4847-49B5-ADA0-47E8DB9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728B-8EFC-491C-881E-D5DD7EBA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1044-A476-4E8B-9556-CC71A0E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C167-11BD-4D36-8A95-575567E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AD99-79F7-4A29-A0D1-6CC6759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62CC-737D-4744-81A4-0B875B4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CC81-0721-42AF-8E53-C41941325C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5D6E-1D24-44FC-9394-40443463E2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646200" y="3860640"/>
            <a:ext cx="84978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дпрограммы в языке Паска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539640" y="404640"/>
            <a:ext cx="8282160" cy="70380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1. Найдите сумму площадей 4 окружностей , если известны их радиу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9640" y="1197000"/>
            <a:ext cx="8353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UM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R1,R2,R3,R4,S1,S2,S3,S4,S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ите радиусы 4-х окружносте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(R1,R2,R3,R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S1:=3.14*sqr(R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S2:=3.14*sqr(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S3:=3.14*sqr(R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:=S1+S2+S3+S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ма площадей четырех окружностей рав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395280" y="765000"/>
            <a:ext cx="8569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UM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 R1,R2,R3,R4,S1,S2,S3,S4,S: re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                                                                       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радиусы 4-х окружност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ln(R1,R2,R3,R4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:=S1+S2+S3+S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мма площадей четырех окружностей рав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9640" y="404640"/>
            <a:ext cx="8172720" cy="368280"/>
          </a:xfrm>
          <a:prstGeom prst="rect">
            <a:avLst/>
          </a:prstGeom>
          <a:solidFill>
            <a:srgbClr val="f26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решение с помощью процедуры и ответи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971640" y="3933720"/>
            <a:ext cx="5832360" cy="1511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908000" y="2205000"/>
            <a:ext cx="5400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68360" y="1484280"/>
            <a:ext cx="5328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5"/>
          <p:cNvSpPr txBox="1"/>
          <p:nvPr/>
        </p:nvSpPr>
        <p:spPr>
          <a:xfrm>
            <a:off x="900000" y="549360"/>
            <a:ext cx="7426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ункц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1484280"/>
            <a:ext cx="8893080" cy="2684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260a2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формальных парамет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       результ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тельная ча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ло функци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332000" y="5300640"/>
            <a:ext cx="5472000" cy="91692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ле функции должен быть оператор   присваивания, в левой части которого стоит имя функции, а в правой – ее значени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2484360" y="429264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ж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684360" y="40464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2. Рассчитать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ив и использовав необходимую фу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3419640" y="692280"/>
                <a:ext cx="5184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Text Box 9"/>
          <p:cNvSpPr/>
          <p:nvPr/>
        </p:nvSpPr>
        <p:spPr>
          <a:xfrm>
            <a:off x="324000" y="1538280"/>
            <a:ext cx="4535280" cy="537516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Znache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x1,x2,x3,x: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function   drob ( a:integer);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drob:= (sqr(a)+a)|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:=</a:t>
            </a:r>
            <a:r>
              <a:rPr b="1" lang="en-US" sz="1800" spc="-1" strike="noStrike">
                <a:solidFill>
                  <a:srgbClr val="ec0616"/>
                </a:solidFill>
                <a:latin typeface="Arial"/>
              </a:rPr>
              <a:t>drob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:=</a:t>
            </a:r>
            <a:r>
              <a:rPr b="1" lang="en-US" sz="1800" spc="-1" strike="noStrike">
                <a:solidFill>
                  <a:srgbClr val="ec0616"/>
                </a:solidFill>
                <a:latin typeface="Arial"/>
              </a:rPr>
              <a:t>drob(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3:=</a:t>
            </a:r>
            <a:r>
              <a:rPr b="1" lang="en-US" sz="1800" spc="-1" strike="noStrike">
                <a:solidFill>
                  <a:srgbClr val="ec0616"/>
                </a:solidFill>
                <a:latin typeface="Arial"/>
              </a:rPr>
              <a:t>drob(2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=X1+X2+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’,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755640" y="692280"/>
            <a:ext cx="7632720" cy="242532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на д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. Найдите периметр треугольника, заданного координатами своих ве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пределить функцию или процедуру для расчета длины отрезка по координат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826920" y="549360"/>
            <a:ext cx="7921800" cy="39888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Даны 4 целых числа. Найдите наибольше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250920" y="1341360"/>
            <a:ext cx="82818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rogram chis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var    a,b,c,d,f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ите 4 целых чис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(a,b,c,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if a&gt;b then f:=a else f:=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if c&gt;f then f:=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if d&gt;f then f:=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ее число из четырех чисе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, f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3"/>
          <p:cNvSpPr/>
          <p:nvPr/>
        </p:nvSpPr>
        <p:spPr>
          <a:xfrm>
            <a:off x="3708360" y="3573360"/>
            <a:ext cx="576360" cy="1440000"/>
          </a:xfrm>
          <a:custGeom>
            <a:avLst/>
            <a:gdLst>
              <a:gd name="textAreaLeft" fmla="*/ 0 w 576360"/>
              <a:gd name="textAreaRight" fmla="*/ 208080 w 576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179280" y="2781360"/>
            <a:ext cx="576360" cy="2663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260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5"/>
          <p:cNvSpPr txBox="1"/>
          <p:nvPr/>
        </p:nvSpPr>
        <p:spPr>
          <a:xfrm>
            <a:off x="6659640" y="5950080"/>
            <a:ext cx="203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2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187280" y="476280"/>
            <a:ext cx="6193080" cy="64260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На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16000" y="1700280"/>
            <a:ext cx="6264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ются похожие или повторяющиеся фраг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 структуру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 внешний вид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ьшает вероятность ошибок и облегчает отлад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411280" y="3933720"/>
            <a:ext cx="4321440" cy="581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подпрограм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87280" y="4797360"/>
            <a:ext cx="6193080" cy="1323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611280" y="404640"/>
            <a:ext cx="813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260a2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исание процедуры:</a:t>
            </a:r>
            <a:endParaRPr b="0" lang="en-US" sz="1800" spc="1" strike="noStrike">
              <a:ln w="0">
                <a:noFill/>
              </a:ln>
              <a:solidFill>
                <a:srgbClr val="f260a2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16000" y="1484280"/>
            <a:ext cx="6121440" cy="2037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260a2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формальных парамет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тельная ча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процед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1116000" y="3789360"/>
            <a:ext cx="6408720" cy="2369880"/>
            <a:chOff x="1116000" y="3789360"/>
            <a:chExt cx="6408720" cy="2369880"/>
          </a:xfrm>
        </p:grpSpPr>
        <p:sp>
          <p:nvSpPr>
            <p:cNvPr id="119" name="Line 7"/>
            <p:cNvSpPr/>
            <p:nvPr/>
          </p:nvSpPr>
          <p:spPr>
            <a:xfrm>
              <a:off x="4500360" y="4437000"/>
              <a:ext cx="2087640" cy="10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H="1">
              <a:off x="2124000" y="4437000"/>
              <a:ext cx="194472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3205080" y="3789360"/>
              <a:ext cx="2016000" cy="642600"/>
            </a:xfrm>
            <a:prstGeom prst="rect">
              <a:avLst/>
            </a:prstGeom>
            <a:solidFill>
              <a:srgbClr val="bbe3c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АЛЬНЫЕ ПАРАМЕТ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1116000" y="5516640"/>
              <a:ext cx="2016000" cy="642600"/>
            </a:xfrm>
            <a:prstGeom prst="rect">
              <a:avLst/>
            </a:prstGeom>
            <a:solidFill>
              <a:srgbClr val="bbe3c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МЕТРЫ-ПЕРЕМ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5508360" y="5445000"/>
              <a:ext cx="2016360" cy="642600"/>
            </a:xfrm>
            <a:prstGeom prst="rect">
              <a:avLst/>
            </a:prstGeom>
            <a:solidFill>
              <a:srgbClr val="bbe3c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МЕТРЫ-ЗНА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2"/>
          <p:cNvSpPr/>
          <p:nvPr/>
        </p:nvSpPr>
        <p:spPr>
          <a:xfrm>
            <a:off x="900000" y="6237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ходные данные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65164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1"/>
          <p:cNvSpPr/>
          <p:nvPr/>
        </p:nvSpPr>
        <p:spPr>
          <a:xfrm>
            <a:off x="3851280" y="692280"/>
            <a:ext cx="201600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1547640" y="692280"/>
            <a:ext cx="194472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629080" y="333360"/>
            <a:ext cx="2016000" cy="368280"/>
          </a:xfrm>
          <a:prstGeom prst="rect">
            <a:avLst/>
          </a:prstGeom>
          <a:solidFill>
            <a:srgbClr val="bbe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39640" y="1773360"/>
            <a:ext cx="2016360" cy="368280"/>
          </a:xfrm>
          <a:prstGeom prst="rect">
            <a:avLst/>
          </a:prstGeom>
          <a:solidFill>
            <a:srgbClr val="bbe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932360" y="1844640"/>
            <a:ext cx="2016000" cy="368280"/>
          </a:xfrm>
          <a:prstGeom prst="rect">
            <a:avLst/>
          </a:prstGeom>
          <a:solidFill>
            <a:srgbClr val="bbe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68360" y="2492280"/>
            <a:ext cx="2158920" cy="148392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УЮТСЯ В ОСНОВНОЙ ПРОГРАМ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ДАЮТСЯ ПРОЦЕДУРЕ ПРИ ЕЕ ВЫЗ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859280" y="2492280"/>
            <a:ext cx="2737080" cy="127080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УЮТСЯ В ПОДПРОГРАМ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МЕНЯЮТСЯ СООТВЕТСТВУЮЩИМИ ФАКТ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1187280" y="5516640"/>
            <a:ext cx="5832720" cy="642600"/>
          </a:xfrm>
          <a:prstGeom prst="rect">
            <a:avLst/>
          </a:prstGeom>
          <a:solidFill>
            <a:srgbClr val="f26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 типы формальных и фактических параметров должны в точности совп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25"/>
          <p:cNvSpPr txBox="1"/>
          <p:nvPr/>
        </p:nvSpPr>
        <p:spPr>
          <a:xfrm>
            <a:off x="3203640" y="4653000"/>
            <a:ext cx="131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ж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11"/>
          <p:cNvSpPr txBox="1"/>
          <p:nvPr/>
        </p:nvSpPr>
        <p:spPr>
          <a:xfrm>
            <a:off x="1763640" y="76500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11280" y="1844640"/>
            <a:ext cx="7921440" cy="39888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Даны 4 целых числа. Найдите наибольше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24000" y="104760"/>
            <a:ext cx="8281800" cy="682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rogram chis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var    a,b,c,d,f</a:t>
            </a:r>
            <a:r>
              <a:rPr b="1" lang="ru-RU" sz="2000" spc="-1" strike="noStrike">
                <a:solidFill>
                  <a:srgbClr val="f260a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260a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60a2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procedure two 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ar x,y: integer;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cce6"/>
                </a:solidFill>
                <a:latin typeface="Arial"/>
              </a:rPr>
              <a:t>k:integer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if x&gt;y then k:=x else k: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260a2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ите 4 целых чис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(a,b,c,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wo(a,b,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wo(c,f,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wo(d,f,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ее число из четырех чисе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, f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195640" y="4221000"/>
            <a:ext cx="504720" cy="1295640"/>
          </a:xfrm>
          <a:custGeom>
            <a:avLst/>
            <a:gdLst>
              <a:gd name="textAreaLeft" fmla="*/ 0 w 504720"/>
              <a:gd name="textAreaRight" fmla="*/ 182160 w 5047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059280" y="4437000"/>
            <a:ext cx="4249440" cy="36828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КОМАНДА ВЫЗОВА 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611280" y="404640"/>
            <a:ext cx="763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187280" y="2133720"/>
            <a:ext cx="6048720" cy="105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1. Даны два числа. Сумма цифр какого числа меньше? ( 2 спосо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258920" y="3500280"/>
            <a:ext cx="5977080" cy="642600"/>
          </a:xfrm>
          <a:prstGeom prst="rect">
            <a:avLst/>
          </a:prstGeom>
          <a:solidFill>
            <a:srgbClr val="e4f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60a2"/>
                </a:solidFill>
                <a:latin typeface="Arial"/>
              </a:rPr>
              <a:t>Задача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 Даны длины трех сторон треугольника. Вычислите периметр треугольника.( 2 способ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79280" y="321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e4fc5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ункц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e4fc5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1280" y="1700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8:05:51Z</dcterms:created>
  <dc:creator>XP GAME 2008</dc:creator>
  <dc:description/>
  <dc:language>en-US</dc:language>
  <cp:lastModifiedBy>Полухина</cp:lastModifiedBy>
  <dcterms:modified xsi:type="dcterms:W3CDTF">2015-01-11T13:53:33Z</dcterms:modified>
  <cp:revision>15</cp:revision>
  <dc:subject/>
  <dc:title>Слайд 1</dc:title>
</cp:coreProperties>
</file>