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B6F-E79E-4005-A786-6A9368A4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063-5589-4F8D-8C18-53B4D9ED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A3E-31D5-47E6-B6E1-6B363BA1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7F0-7292-4780-9CA5-4F191228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6FD-B9D6-4B6D-AD25-F3105A63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BFD-1824-47E3-8CBE-22877EF2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9C5-8F0F-493F-BDB4-A1AF7ABB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BE5-1474-427A-A83B-FFA18F19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685-EB79-4F2F-9774-F8E4A441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C9B-EB16-4D79-BE70-5690196B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022-8708-47EA-9510-2A8D3CE3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2A6-2714-4E47-9B86-B377011E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EED4-5666-40B2-8D10-9D1D8E66F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резентации к  уроку по ИЗО в 7 классе по тем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Поэзия повседневной жизни в  искусстве разных народов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ЗО Шамсутдинов Т.Р. МБОУ Гимназия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нА ПАШНЕ "/>
          <p:cNvPicPr/>
          <p:nvPr/>
        </p:nvPicPr>
        <p:blipFill>
          <a:blip r:embed="rId2"/>
          <a:stretch/>
        </p:blipFill>
        <p:spPr>
          <a:xfrm>
            <a:off x="1428840" y="1857240"/>
            <a:ext cx="5243400" cy="401184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«Неравный бра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пукере"/>
          <p:cNvPicPr/>
          <p:nvPr/>
        </p:nvPicPr>
        <p:blipFill>
          <a:blip r:embed="rId2"/>
          <a:stretch/>
        </p:blipFill>
        <p:spPr>
          <a:xfrm>
            <a:off x="585720" y="1413000"/>
            <a:ext cx="3929040" cy="5111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гическая история любви самого худож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отов Павел Андреевич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815-185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39640" y="1196640"/>
            <a:ext cx="5111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«Сватовство майора» 184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Сватовство майора"/>
          <p:cNvPicPr/>
          <p:nvPr/>
        </p:nvPicPr>
        <p:blipFill>
          <a:blip r:embed="rId2"/>
          <a:stretch/>
        </p:blipFill>
        <p:spPr>
          <a:xfrm>
            <a:off x="1619280" y="1773360"/>
            <a:ext cx="6202440" cy="480204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Утро чиновника, получившего первый крес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критик В.В. Стасов писал о персонаже карт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н свиреп и безжалостен, он утопит кого и что захочет, и ни одна складочка на его лице не дрогнет. Злость, чванство. вконец опошлившаяся жизнь – все это присутствует в этом лице. в этой позе и фигуре закоренелого чиновника в халате и босиком, в папильотках и с орденом на груд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свежий кавалер"/>
          <p:cNvPicPr/>
          <p:nvPr/>
        </p:nvPicPr>
        <p:blipFill>
          <a:blip r:embed="rId2"/>
          <a:stretch/>
        </p:blipFill>
        <p:spPr>
          <a:xfrm>
            <a:off x="485640" y="1600200"/>
            <a:ext cx="3981600" cy="4525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еров Василий Григорьевич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 1833-188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00360" y="1600200"/>
            <a:ext cx="25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писец, основоположник жанровой карт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тройка"/>
          <p:cNvPicPr/>
          <p:nvPr/>
        </p:nvPicPr>
        <p:blipFill>
          <a:blip r:embed="rId2"/>
          <a:stretch/>
        </p:blipFill>
        <p:spPr>
          <a:xfrm>
            <a:off x="611280" y="1700280"/>
            <a:ext cx="5545080" cy="4059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77" name="Rectangle 8"/>
          <p:cNvSpPr/>
          <p:nvPr/>
        </p:nvSpPr>
        <p:spPr>
          <a:xfrm>
            <a:off x="1476360" y="5877000"/>
            <a:ext cx="2016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Трой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тины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перов"/>
          <p:cNvPicPr/>
          <p:nvPr/>
        </p:nvPicPr>
        <p:blipFill>
          <a:blip r:embed="rId2"/>
          <a:stretch/>
        </p:blipFill>
        <p:spPr>
          <a:xfrm>
            <a:off x="250920" y="1125360"/>
            <a:ext cx="4321080" cy="2827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0" name="Picture 8" descr="перов2"/>
          <p:cNvPicPr/>
          <p:nvPr/>
        </p:nvPicPr>
        <p:blipFill>
          <a:blip r:embed="rId3"/>
          <a:stretch/>
        </p:blipFill>
        <p:spPr>
          <a:xfrm>
            <a:off x="4788000" y="3357720"/>
            <a:ext cx="4105080" cy="3159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1" name="Rectangle 9"/>
          <p:cNvSpPr/>
          <p:nvPr/>
        </p:nvSpPr>
        <p:spPr>
          <a:xfrm>
            <a:off x="468360" y="4221000"/>
            <a:ext cx="40672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Охотники на привале»187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4788000" y="2637000"/>
            <a:ext cx="4105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Сельский крестный ход на Пасху» 186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чувствие и состр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92360" y="6012000"/>
            <a:ext cx="575928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Проводы покой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перов3"/>
          <p:cNvPicPr/>
          <p:nvPr/>
        </p:nvPicPr>
        <p:blipFill>
          <a:blip r:embed="rId2"/>
          <a:stretch/>
        </p:blipFill>
        <p:spPr>
          <a:xfrm>
            <a:off x="2268360" y="1413000"/>
            <a:ext cx="5328000" cy="4456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Поэзия повседневной жизни в  искусстве разных народов»</a:t>
            </a: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ели: ознакомить учащихся с возникновением и развитием бытового жанра в изобразительном  искусстве разных народов на примере наиболее известных произведений,  развивать наблюдательность поэтического видения реаль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оэзия повседнев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тическая картин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ой жанр( фр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r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жанр изобразительного искусства, определяемый кругом тем и сюжетов из повседневной жизн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ой жанр достиг расцвета в европейских национальных школах в 16-17 в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Брейгель Старший, фламандец П.Рубенс, голансдские живописцы( Г.Тербор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. Вермее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усская живоп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5640" y="2060640"/>
            <a:ext cx="7201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Венеци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Фед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П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Реп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Кустоди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Пла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Шеля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Алексей Гаврилович Венецианов</a:t>
            </a:r>
            <a:br>
              <a:rPr sz="3200"/>
            </a:b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( 1780-18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вЕНЕЦИАНОВ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живописец, один из основоположников бытового жанра в русской живо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купеческой семьи Тверской губернии. Родился в Моск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лся почётным членом Академии худож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«На пашне. Весна.»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А.Венеци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нА ПАШНЕ "/>
          <p:cNvPicPr/>
          <p:nvPr/>
        </p:nvPicPr>
        <p:blipFill>
          <a:blip r:embed="rId2"/>
          <a:stretch/>
        </p:blipFill>
        <p:spPr>
          <a:xfrm>
            <a:off x="1612800" y="1600200"/>
            <a:ext cx="5916600" cy="45259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браз русской красав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0" descr="rДевушка В"/>
          <p:cNvPicPr/>
          <p:nvPr/>
        </p:nvPicPr>
        <p:blipFill>
          <a:blip r:embed="rId2"/>
          <a:stretch/>
        </p:blipFill>
        <p:spPr>
          <a:xfrm>
            <a:off x="2590920" y="1639800"/>
            <a:ext cx="3962160" cy="444492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2843280" y="6165720"/>
            <a:ext cx="489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«Жни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ти в произведениях худож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ЗАХАРКА"/>
          <p:cNvPicPr/>
          <p:nvPr/>
        </p:nvPicPr>
        <p:blipFill>
          <a:blip r:embed="rId2"/>
          <a:stretch/>
        </p:blipFill>
        <p:spPr>
          <a:xfrm>
            <a:off x="826920" y="1341360"/>
            <a:ext cx="3097440" cy="4525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9" name="Picture 8" descr="вОТ -ТЕ И БАТЬКИН ОБЕД"/>
          <p:cNvPicPr/>
          <p:nvPr/>
        </p:nvPicPr>
        <p:blipFill>
          <a:blip r:embed="rId3"/>
          <a:stretch/>
        </p:blipFill>
        <p:spPr>
          <a:xfrm>
            <a:off x="4788000" y="1341360"/>
            <a:ext cx="3967200" cy="4525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0" name="Rectangle 9"/>
          <p:cNvSpPr/>
          <p:nvPr/>
        </p:nvSpPr>
        <p:spPr>
          <a:xfrm>
            <a:off x="250920" y="5950080"/>
            <a:ext cx="446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Захар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4678200" y="5950080"/>
            <a:ext cx="4465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т - те и батькин обе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укирев Василий Владимирович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1832-189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27" descr="Пукирев"/>
          <p:cNvPicPr/>
          <p:nvPr/>
        </p:nvPicPr>
        <p:blipFill>
          <a:blip r:embed="rId2"/>
          <a:stretch/>
        </p:blipFill>
        <p:spPr>
          <a:xfrm>
            <a:off x="684360" y="1484280"/>
            <a:ext cx="3838320" cy="4681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9280" y="1773360"/>
            <a:ext cx="4038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лся в крестьянской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Профессор живописи народных сце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6:06:54Z</dcterms:created>
  <dc:creator>Felix</dc:creator>
  <dc:description/>
  <dc:language>en-US</dc:language>
  <cp:lastModifiedBy>XTreme.ws</cp:lastModifiedBy>
  <dcterms:modified xsi:type="dcterms:W3CDTF">2015-01-11T20:44:18Z</dcterms:modified>
  <cp:revision>6</cp:revision>
  <dc:subject/>
  <dc:title>Поэзия повседневности</dc:title>
</cp:coreProperties>
</file>