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57C-CE14-447B-AC5E-ED763400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595-55F3-4C04-A643-3498DDF8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94B-F907-4215-88E5-07868A9A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05C-C3AF-4EC3-80AA-65675783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A9FE-00A2-4547-A5CD-6ABC2909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307F-AABC-4A54-9ED9-A45EAD4C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4385-8474-4925-A54D-7CD5FDDE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B59F-7CA9-4417-95CE-156FAEE7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1CBE-94F6-40DD-BC7D-57164EAA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ECF9-D339-4907-BEFA-0A9B9F13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89DB-97EC-4C3C-B61E-8988E439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518-C6CF-42B1-9126-887C3A29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4762-3C17-483E-9371-93F83229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75A2-D846-424A-B887-28E2ABC2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D21B-EA36-4764-A469-EC9FC58C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F28C-AA3E-42FE-9171-53082D79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0B0D-035F-401A-A9D4-9710B09E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89B-9323-4B3B-BDC7-FD3EA165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026-13BD-4084-80FC-BA419719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30E-F166-46A0-B00D-7FA56185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109-23A5-4A33-A1C3-603563BE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15E-BC3A-4873-BEC3-9140F7A4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DA9-6488-4F6E-91F5-BF02A46A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6C5-9820-4F1E-B647-61D2044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26B1-354E-4425-90BF-90F9E5E9F5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375D-46E7-4B6C-BD70-515071FDBD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382560"/>
            <a:ext cx="75960" cy="149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ведева Мария Иванов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304920" y="-152280"/>
            <a:ext cx="81532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е и его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итатели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picturecontent-pid-3e3f-et-2c1606f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122056279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1-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B_7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12" descr="8597457343e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oto_field_1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227434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c54aae46213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IMG_7831_podsolnuh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ba5cf69ac5d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watermelon1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1253041870_xr_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800px-Detailaufnahme_Weizenfeld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7:25:37Z</dcterms:created>
  <dc:creator>мария</dc:creator>
  <dc:description/>
  <dc:language>en-US</dc:language>
  <cp:lastModifiedBy>Пользователь</cp:lastModifiedBy>
  <dcterms:modified xsi:type="dcterms:W3CDTF">2015-01-11T17:18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