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6DAD-5EF0-4686-B671-F75EC4195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1B28-AD8F-4820-AF34-536FF088DF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117-3358-47B2-B329-B6625FB6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BD6-FCC6-401F-A71B-8D46E1AA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15A-BD5A-435D-AD8A-16D30A27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ECF-0DEF-44C4-BCF5-22BBB9E8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AC99-8ECB-441F-A2BD-CF4AD795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431B-F74C-498B-9672-C74DBD68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17DA-562B-4FB3-B516-E11083A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CF22-2A71-4579-8183-D78B0D43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978-DF6D-4D21-AFBF-C5A38C2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17A3-0B7F-46EC-AC5C-09F22EB9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6001-5C42-47C0-976B-3BBB972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843-441B-4FE1-BB82-338E9A8F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239B-3331-4132-9F43-98D1369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01E8-7CE3-4B2B-8618-AB87CDC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678-1D6F-4B34-BA61-01F3F40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2BC-E4B7-4268-9BD5-B2D61BEA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5DA7-552A-415C-A5F4-8C03E91F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DA6-0745-435E-A6BB-E917AB29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C86-5AE2-45F2-A878-4870B8E5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2FF-E4BC-4840-AB77-01F155EA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56A-2756-4A84-867A-1B94C1E5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255-446E-4FF2-A783-E582E04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D89-DEA7-45C0-8A2F-E4874E87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FBA-EE3C-4E71-BBB5-FDE4796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b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5F4-5A09-4905-B0FD-F1B7908F720A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b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B81E-DE6D-45D3-B6A8-275C5309F044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tres.ru/kacudzo-nish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ЗСТ\фото для презентации\слайд 2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93560" y="165240"/>
            <a:ext cx="815688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5" descr=""/>
          <p:cNvPicPr/>
          <p:nvPr/>
        </p:nvPicPr>
        <p:blipFill>
          <a:blip r:embed="rId3"/>
          <a:stretch/>
        </p:blipFill>
        <p:spPr>
          <a:xfrm>
            <a:off x="6076800" y="5297400"/>
            <a:ext cx="3073680" cy="1378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3857760" y="271476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«Единственная красота, которую я знаю, - это здоровье.»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Генрих Гейн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2" descr=""/>
          <p:cNvPicPr/>
          <p:nvPr/>
        </p:nvPicPr>
        <p:blipFill>
          <a:blip r:embed="rId2"/>
          <a:stretch/>
        </p:blipFill>
        <p:spPr>
          <a:xfrm>
            <a:off x="450720" y="1468440"/>
            <a:ext cx="83282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хема 2" descr=""/>
          <p:cNvPicPr/>
          <p:nvPr/>
        </p:nvPicPr>
        <p:blipFill>
          <a:blip r:embed="rId1"/>
          <a:stretch/>
        </p:blipFill>
        <p:spPr>
          <a:xfrm>
            <a:off x="-30240" y="-6480"/>
            <a:ext cx="9180720" cy="687096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69800" y="3852720"/>
            <a:ext cx="8541000" cy="169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000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08000" y="907560"/>
            <a:ext cx="89186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ой оздоровительной системы Ниши являются шесть правил, включающих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 рекомендаци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четыре упражн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которые лучше выполнять в обнаженном виде, поскольку это активизирует кожное дыхание и выведение токсичных веществ из органи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ердая пос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ердая подуш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  Упражнение "Золотая рыбка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  Упражнение для капилляр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   Упражнение "Смыкание стоп и ладоней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   Упражнение "Для спины и живота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221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52280"/>
            <a:ext cx="8508960" cy="901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24000" y="1341360"/>
            <a:ext cx="88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величить объём двигательной активности детей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ить высокий охват обучающихся школы регулярными занятиями физической культурой и спортом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формировать у обучающихся устойчивый интерес и осознанную потребность  в сохранении и укреплении здоровья, а также практическом использовании умений и навыков, полученных во внеурочной деятельност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ить рост физической и гигиенической культуры обучающихся, а также рост мотивации к физкультурно-оздоровительной деятельности и к ведению здорового образа жизн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ктивизировать помощь родителей, общественности, организаций и учреждений социума в работе школы по сохранению и укреплению здоровья де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714240" y="64296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Благодаря использованию здоровьесберегающих технологий во внеурочной деятельности учащихся удаётс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72560" y="1773360"/>
            <a:ext cx="689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ьзуемая литература: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лектронная книга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Система здоровья Ниши: Методика. Упражнения. Медитация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Кацудзо Ниш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лектронная книга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Избранные упражнения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мажная книга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Кацудзо Ниши. Лучшие методики оздоровления сердца и сосудов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ото: личный архив учител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57:45Z</dcterms:created>
  <dc:creator>User</dc:creator>
  <dc:description/>
  <dc:language>en-US</dc:language>
  <cp:lastModifiedBy>User</cp:lastModifiedBy>
  <dcterms:modified xsi:type="dcterms:W3CDTF">2015-01-11T18:15:19Z</dcterms:modified>
  <cp:revision>51</cp:revision>
  <dc:subject/>
  <dc:title>Гимнастика ниши</dc:title>
</cp:coreProperties>
</file>