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1936-CB3F-49DE-9E1E-38F6C0049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ED84-EA50-449E-87C4-CDBBFF8C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4620-8483-4F2E-938E-A0665C676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96D9-404A-4E36-BD93-825D7BACE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9F4F9-7682-4CAB-A88E-2FE830F7F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71DA-652D-40CC-BBB1-0B8C0ACA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FF4D5-2AFD-4C5D-8937-528748E9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B9E7-394B-4BBA-83B0-101EA3B0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6C81-6A73-4C6F-9E73-0489B8FC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6C02-F853-4875-88B1-81D99898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241A-C8E1-455B-93E9-745CBBE9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F628-C4B4-40BA-8A29-B8C8529E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3743-0989-454B-B661-5DD1DE54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09F2A-307E-4839-9EF4-9C9C7EF6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C163-C3D7-4860-93BC-70D3FC0D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1B62-AEF3-4B3D-981A-F79714173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B12E-DEAC-462A-90A2-1CDC21452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95E4-BB68-401E-8E64-B1150776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3E02-9004-4177-84B4-FB74E0D6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86AB-ECE1-41CD-B89C-FFD77130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9C48-E39F-4CF3-A6C0-F1D293AD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9799-6CBA-448F-9BB2-5F901BFF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02C8-AB6E-4233-B061-7AD1FEA4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33C0-17FA-4171-A593-60723042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3C56-47A8-4E5C-B032-AAA4D6E578C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1746-5BF8-42D6-AED9-4E6A5A6913E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4c3aa"/>
                </a:solidFill>
                <a:latin typeface="Arial"/>
              </a:rPr>
              <a:t>Проектная работа по физике на тему</a:t>
            </a:r>
            <a:br>
              <a:rPr sz="3600"/>
            </a:br>
            <a:r>
              <a:rPr b="0" lang="en-US" sz="3600" spc="-1" strike="noStrike">
                <a:solidFill>
                  <a:srgbClr val="c4c3aa"/>
                </a:solidFill>
                <a:latin typeface="Arial"/>
              </a:rPr>
              <a:t>«Преобразование электрической энергии в механическую. Сила Ампера»</a:t>
            </a:r>
            <a:br>
              <a:rPr sz="3600"/>
            </a:br>
            <a:r>
              <a:rPr b="0" lang="en-US" sz="4700" spc="-1" strike="noStrike">
                <a:solidFill>
                  <a:srgbClr val="c4c3aa"/>
                </a:solidFill>
                <a:latin typeface="Arial"/>
              </a:rPr>
              <a:t> </a:t>
            </a:r>
            <a:endParaRPr b="0" lang="en-US" sz="47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3200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Ученика 8 класса А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МБОУ – лицея №4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Малофеева Иль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684000" y="3718080"/>
            <a:ext cx="8002440" cy="24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Изготовить такую конструкцию самому мне показалось очень сложно, поэтому пришлось поступить иначе. Вместо того, чтобы чередовать полярность тока с плюса на минус и обратно, необходимо заставить ток ритмично возникать и пропадать. Для этого можно зачистить изоляцию подвижного проводника (рис. 7)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Сначала ротор будет опираться на шарнир со стороны оголённого металла, и в эти моменты через проводник потечёт ток. При повороте на 9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между проводником ротора и шарниром будет находиться слой изоляции, препятствующий протеканию тока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3527640" cy="134136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4788000" y="1341360"/>
            <a:ext cx="2952720" cy="16257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Батарейки  пальчиковые, напряжением 1,5 вольт каждая, для удобства помещенные  в специальный держатель. Магнит потребовался достаточно мощный – с магнитной индукцией порядка 1 тесла. Его можно положить на батарейку. Желательно, чтобы проводник был с эмалевой изоляцией (обычно она окружает проводник в виде тонкого прозрачного слоя)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Диаметр проводника должен быть около 0,8 – 1 мм. Это, с одной стороны, позволит нужным образом счистить изоляцию, а с другой – придаст конструкции жёсткость. Подвижный проводник я немного доработал: вместо одного полувитка намотал несколько витков в виде кольца (рис. 8)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Конструкцию я смонтировал на  устойчивом основании. При этом стойки можно воткнуть прямо в дощечку, заранее просверлив в ней отверстия. По-моему, эти усилия не пропали даром, цель достигнута: устройство демонстрирует проявление силы Ампера, действующей на проводник в магнитном поле. Иными словами, я построил простейшую модель преобразователя электрической энергии в механическую работу, то есть электродвигатель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2050920" y="189000"/>
            <a:ext cx="4989600" cy="37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Выводы по проекту 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В работе исследован принцип действия электрического двигател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Построена простейшая действующая модель, наглядно иллюстрирующая принцип действия электродвигател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Разработанная модель может быть при необходимости использована на уроках физики в качестве наглядного пособия по теме «Электричество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Цель и задачи проекта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371600" y="2133360"/>
            <a:ext cx="64008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fcb4f"/>
                </a:solidFill>
                <a:latin typeface="Verdana"/>
              </a:rPr>
              <a:t>Целью моего проекта было понять, как же устроен электродвигатель, и что происходит внутри него во время работы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Verdana"/>
              </a:rPr>
              <a:t>Для этого необходимо было </a:t>
            </a:r>
            <a:r>
              <a:rPr b="0" i="1" lang="en-US" sz="2000" spc="-1" strike="noStrike">
                <a:solidFill>
                  <a:srgbClr val="00ff00"/>
                </a:solidFill>
                <a:latin typeface="Verdana"/>
              </a:rPr>
              <a:t>решить следующие задачи</a:t>
            </a:r>
            <a:r>
              <a:rPr b="0" lang="en-US" sz="2000" spc="-1" strike="noStrike">
                <a:solidFill>
                  <a:srgbClr val="00ff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Verdana"/>
              </a:rPr>
              <a:t>1.Разобраться, что за физическое явление лежит в основе работы  электродвигател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Verdana"/>
              </a:rPr>
              <a:t>2. Собрать простую действующую модель электродвигателя, наглядно иллюстрирующую   принцип его работы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4648320" y="764640"/>
            <a:ext cx="403848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ращение любого электродвигателя основано на одном и том же физическом явлении – силе Ампера. Она действует на проводник с током, помещенный во внешнее магнитное поле. Значение этой силы определяется по формуле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Verdana"/>
              </a:rPr>
              <a:t>A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B I L sin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де 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В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– магнитная индукция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I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– сила тока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- длина проводника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α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– угол между направлением магнитной индукции и направлением ток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сли проводник ориентировать перпендикулярно линиям магнитной индукци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1" i="1" lang="en-US" sz="1600" spc="-1" strike="noStrike" baseline="-25000">
                <a:solidFill>
                  <a:srgbClr val="ffffff"/>
                </a:solidFill>
                <a:latin typeface="Verdana"/>
              </a:rPr>
              <a:t>A</a:t>
            </a:r>
            <a:r>
              <a:rPr b="1" i="1" lang="ru-RU" sz="16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1" i="1" lang="en-US" sz="1600" spc="-1" strike="noStrike">
                <a:solidFill>
                  <a:srgbClr val="ffffff"/>
                </a:solidFill>
                <a:latin typeface="Verdana"/>
              </a:rPr>
              <a:t>B I 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307980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Что такое электродвигатель 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50560" y="3500280"/>
            <a:ext cx="843588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По сути это множество подвижных проводников с током, помещенных в магнитное поле. В зависимости от того, каким образом создаются ток и магнитное поле, различают электродвигатели постоянного и переменного тока. Они потребляют электричество и за счет этого вращают ротор, на одном валу с которым вращается подвижная часть неэлектрического механизма. Часть электрической энергии при этом теряется: в виде тепла в окружающую среду уходит 2-10 % мощности любого электродвигателя.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558972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Направление силы Ампера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определяется по правилу левой руки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Если линии магнитного поля направлены в ладонь, а четыре пальца указывают направление тока, то большой палец показывает направление силы Ампер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403380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Простейший двигатель постоянного тока своими руками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Я согнул проводник, как это показано на рис. 3, и поместил его в поле магнита так, чтобы проводник (назовём его ротором) мог свободно вращаться в шарнирах, имея с ними электрический контакт. Шарниры я  сделал из другого провода, согнув его круглогубцами в кольцо. Изоляцию с шарнира пришлось снять. Этот же провод будет выполнять функцию стоек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547560" y="2138400"/>
            <a:ext cx="3746520" cy="30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324000" y="3573000"/>
            <a:ext cx="83628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ак только я подключил батарейку к такой цепи, по ней потек ток и возникла сила Ампера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A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(рис. 4)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д действием этой силы проводник повернулся на четверть оборота из нижнего положения в среднее (рис. 5) и даже прошел его, но та же сила Ампера вернула его обратно в среднее положение, и вращение прекратилос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1403280" y="620640"/>
            <a:ext cx="2808360" cy="233532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5003640" y="620640"/>
            <a:ext cx="2880000" cy="23115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Как заставить двигатель вращаться постоянно?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Мне же нужно было обеспечить продолжительное вращение, а значит, надо заставить силу изменить своё направление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Согласно правилу левой руки,  можно сделать это двумя способами: поменять направление магнитной индукции или поменять направление тока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Первый способ осуществить трудно. Он подразумевает переворачивание магнита на 180 градусов, для чего к нему надо приложить механическую энергию извне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Второй способ  - ритмично менять концы правого и левого проводников, поочерёдно касаясь ими противоположных полюсов батарейки. Это легче, чем переворачивать магнит, но тоже неудобно. К тому же необходима очень высокая скорость переключения, справиться с которой человеку не под силу. Важно и то, что менять направление тока надо не только быстро, но ещё и синхронно с вращением проводника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451008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А что, если заставить саму вращающуюся часть менять полюса? В промышленных электродвигателях для этой цели применяют особые шарниры. Такой усовершенствованный шарнир (рис. 6) получил название «щёточно-коллекторный узел». Он состоит из двух неподвижных контактов в виде скруглённых пластин коллектора. На контакты щёток проходит постоянный ток из внешней сети. Щётки плотно прижаты к подвижному коллектору и обеспечивают электрический контакт. Подвижные контакты жёстко соединены с вращающейся рамкой и дважды за полный оборот меняют в ней направление тока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309096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5T09:53:26Z</dcterms:created>
  <dc:creator>Admin</dc:creator>
  <dc:description/>
  <dc:language>en-US</dc:language>
  <cp:lastModifiedBy>school</cp:lastModifiedBy>
  <dcterms:modified xsi:type="dcterms:W3CDTF">2013-01-27T15:53:10Z</dcterms:modified>
  <cp:revision>13</cp:revision>
  <dc:subject/>
  <dc:title>Слайд 1</dc:title>
</cp:coreProperties>
</file>