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3C86-AC36-4B8E-9560-CF287D8D7B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2009-1FDF-4001-B439-DD4BEDC984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8FE-9936-4EEE-8530-AD478E5D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36E-3589-43D5-BAF9-EC5FF8F8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AC2-C398-4268-8BB8-FE27558F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268-9094-4E90-8BC3-0FE27F5A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6BD8-C5F8-4F8A-95D8-04236049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7169-7105-4083-BF46-673FE051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4759-19C9-4A49-94F8-44CBC9C9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67DE-9A0F-4995-9A8D-07127A18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B4DD-317A-4E5B-940E-9F795710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5246-B3EA-4C11-93A4-132E58C8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CA92-7B9D-43B1-B86A-0B5B21A5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C9C-9533-4CF0-9FB3-E8AE6A66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7745-9C28-4ABE-BA20-4AFE913A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AF8F-790C-42D4-AF85-46861085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D694-71D0-46C7-A572-C40ADC4C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6E07-6318-4299-A045-874B7B75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9B53-4AB4-4B81-B8D9-68C389AE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07C24-E533-4509-BBCA-23239298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90FA0-F048-4918-9C4E-972DB0F4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C8AB-63BA-48CB-9FEF-B9500952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52DFD-6792-4F2F-B219-D772A1EB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D42B-E369-4C37-B4FE-1CBC50A4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126-BDD1-452C-9475-F6E57B8E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1DE35-6C25-4F9A-971C-7E6712D8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2CA8-C3DE-49BC-B7E3-09794869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C4E9-40D0-46E9-AB8D-DBF2351A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6E63E-E7B3-45B3-91C8-541EB5F8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58561-291F-4B2E-9B7E-B3638AE6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8389C-0B57-4FD7-9A05-60D6B570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0443-AFAC-4FC8-87E3-1F1EC844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219CF-6886-47C7-ABDF-187F1AE9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87B64-2921-4052-A048-4EDE655C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BB930-A2B5-4C58-9646-6E181410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A7D-6978-4F10-BBB6-D88997E0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9C905-5DD5-4BB6-9C1E-ED0722DC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BAC53-8ACD-48FD-9CF7-269D9F11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FAB3B-400D-4A68-A481-4B926BB5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E6D81-C49A-419A-A504-F23E5E48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1DD2F-13DF-472C-81D4-3F70762E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75542-09AE-46C2-BA29-592FB5FD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DF75F-071A-40BB-8228-CE57586F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4E8A4-4F79-4E7E-8705-755A67E4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300BA-A4FC-44B0-ABC5-16915662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548-9253-40D7-A122-35F61324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931-0078-46E2-8080-D41031C6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F4B-9CA7-4431-9D53-377538E3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F9D-0484-4B7F-B4A4-48042699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FA9-4E81-47E0-BF49-508884E7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D7FF-C585-4F87-AC77-69D52A1E353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F3AB-0CEA-4E68-97BE-15F09350BC6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66EC-C70A-4379-B738-0AF173DF621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977A-0205-42A4-A5B2-85571643CD0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3" descr="frontkid.gif"/>
          <p:cNvPicPr/>
          <p:nvPr/>
        </p:nvPicPr>
        <p:blipFill>
          <a:blip r:embed="rId1"/>
          <a:stretch/>
        </p:blipFill>
        <p:spPr>
          <a:xfrm>
            <a:off x="1332000" y="2852640"/>
            <a:ext cx="2774880" cy="273708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2" descr=""/>
          <p:cNvPicPr/>
          <p:nvPr/>
        </p:nvPicPr>
        <p:blipFill>
          <a:blip r:embed="rId2"/>
          <a:stretch/>
        </p:blipFill>
        <p:spPr>
          <a:xfrm>
            <a:off x="463680" y="249120"/>
            <a:ext cx="8302320" cy="32925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284360" y="3228480"/>
            <a:ext cx="4174920" cy="2576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9da92"/>
                </a:solidFill>
                <a:latin typeface="Constantia"/>
              </a:rPr>
              <a:t>Группа компенсирующей направленности для детей с функциональными нарушениями зрения шестого года жизни «Капитошк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777960" y="338040"/>
          <a:ext cx="7983360" cy="6253200"/>
        </p:xfrm>
        <a:graphic>
          <a:graphicData uri="http://schemas.openxmlformats.org/drawingml/2006/table">
            <a:tbl>
              <a:tblPr/>
              <a:tblGrid>
                <a:gridCol w="2033640"/>
                <a:gridCol w="3684600"/>
                <a:gridCol w="226512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бенок и окружающ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Чтобы глаза хорошо видел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Как красиво вокруг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Зачем человеку глаз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 течение все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тение художественной литера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итие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гры на активизацию и обогащение словаря: «Назови ласков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ставление рассказа: «Какие витамины нужны для зрения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Что вредно дл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р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 Зильберг, отрывок из стихотворения Н.С. Ор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елевизо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ебятишкам про глаз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 оч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ереги свои глаз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Хмурое утро» (почему мы видим мир цветны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.Барто «Оч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ки про 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 течение все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804960" y="3573360"/>
          <a:ext cx="7921440" cy="3024360"/>
        </p:xfrm>
        <a:graphic>
          <a:graphicData uri="http://schemas.openxmlformats.org/drawingml/2006/table">
            <a:tbl>
              <a:tblPr/>
              <a:tblGrid>
                <a:gridCol w="7921440"/>
              </a:tblGrid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55640" y="476280"/>
          <a:ext cx="7858080" cy="6215040"/>
        </p:xfrm>
        <a:graphic>
          <a:graphicData uri="http://schemas.openxmlformats.org/drawingml/2006/table">
            <a:tbl>
              <a:tblPr/>
              <a:tblGrid>
                <a:gridCol w="2497320"/>
                <a:gridCol w="2501640"/>
                <a:gridCol w="2859120"/>
              </a:tblGrid>
              <a:tr h="1081080"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ритмические упражнения «Чтобы лучше видеть ми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ритмические упражнения «Веселые и грустные, добрые и злые – наши глаз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4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воспи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для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бери свой цвет» (с мячиками из сухого бассей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Жмурки» (ориентировка в пространств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для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ветофор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2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ив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: изготовление коллажа по теме проекта, коллектив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пка: «Полезный витамин – морков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032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 на тему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доровые глаз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 по проведению гимнастики для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ор материала по теме «Ты себе не навреди, свои глазки берег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ижки-малы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зготовление книжек-малышек родителей и дете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Таблица 3" descr="100_4265.JPG"/>
          <p:cNvPicPr/>
          <p:nvPr/>
        </p:nvPicPr>
        <p:blipFill>
          <a:blip r:embed="rId1"/>
          <a:stretch/>
        </p:blipFill>
        <p:spPr>
          <a:xfrm>
            <a:off x="611280" y="1989000"/>
            <a:ext cx="3960720" cy="2764080"/>
          </a:xfrm>
          <a:prstGeom prst="rect">
            <a:avLst/>
          </a:prstGeom>
          <a:ln w="0">
            <a:noFill/>
          </a:ln>
        </p:spPr>
      </p:pic>
      <p:pic>
        <p:nvPicPr>
          <p:cNvPr id="228" name="Таблица 3" descr="100_4266.JPG"/>
          <p:cNvPicPr/>
          <p:nvPr/>
        </p:nvPicPr>
        <p:blipFill>
          <a:blip r:embed="rId2"/>
          <a:stretch/>
        </p:blipFill>
        <p:spPr>
          <a:xfrm>
            <a:off x="4716360" y="1989000"/>
            <a:ext cx="3888000" cy="2806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оллажи «Что вредно и полезно для глаз»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Таблица 3" descr="100_4237.JPG"/>
          <p:cNvPicPr/>
          <p:nvPr/>
        </p:nvPicPr>
        <p:blipFill>
          <a:blip r:embed="rId1"/>
          <a:stretch/>
        </p:blipFill>
        <p:spPr>
          <a:xfrm rot="20526000">
            <a:off x="610920" y="2204640"/>
            <a:ext cx="3673440" cy="3168720"/>
          </a:xfrm>
          <a:prstGeom prst="rect">
            <a:avLst/>
          </a:prstGeom>
          <a:ln w="0">
            <a:noFill/>
          </a:ln>
        </p:spPr>
      </p:pic>
      <p:pic>
        <p:nvPicPr>
          <p:cNvPr id="231" name="Таблица 3" descr="100_4268.JPG"/>
          <p:cNvPicPr/>
          <p:nvPr/>
        </p:nvPicPr>
        <p:blipFill>
          <a:blip r:embed="rId2"/>
          <a:stretch/>
        </p:blipFill>
        <p:spPr>
          <a:xfrm rot="1176000">
            <a:off x="4643280" y="2204640"/>
            <a:ext cx="4105440" cy="3168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ир глазами детей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Таблица 3" descr="100_4263.JPG"/>
          <p:cNvPicPr/>
          <p:nvPr/>
        </p:nvPicPr>
        <p:blipFill>
          <a:blip r:embed="rId1"/>
          <a:stretch/>
        </p:blipFill>
        <p:spPr>
          <a:xfrm>
            <a:off x="2987640" y="907920"/>
            <a:ext cx="3240000" cy="2376720"/>
          </a:xfrm>
          <a:prstGeom prst="rect">
            <a:avLst/>
          </a:prstGeom>
          <a:ln w="0">
            <a:noFill/>
          </a:ln>
        </p:spPr>
      </p:pic>
      <p:pic>
        <p:nvPicPr>
          <p:cNvPr id="234" name="Таблица 3" descr="100_4261.JPG"/>
          <p:cNvPicPr/>
          <p:nvPr/>
        </p:nvPicPr>
        <p:blipFill>
          <a:blip r:embed="rId2"/>
          <a:stretch/>
        </p:blipFill>
        <p:spPr>
          <a:xfrm>
            <a:off x="1403280" y="3429000"/>
            <a:ext cx="2936880" cy="31478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4" descr="100_4262.JPG"/>
          <p:cNvPicPr/>
          <p:nvPr/>
        </p:nvPicPr>
        <p:blipFill>
          <a:blip r:embed="rId3"/>
          <a:stretch/>
        </p:blipFill>
        <p:spPr>
          <a:xfrm>
            <a:off x="4716360" y="3429000"/>
            <a:ext cx="3013200" cy="3111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Благодарим за вним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Таблица 7" descr="100_4498.JPG"/>
          <p:cNvPicPr/>
          <p:nvPr/>
        </p:nvPicPr>
        <p:blipFill>
          <a:blip r:embed="rId1"/>
          <a:stretch/>
        </p:blipFill>
        <p:spPr>
          <a:xfrm>
            <a:off x="2411280" y="1700280"/>
            <a:ext cx="466596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Актуальность данного проекта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1374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у детей сознательного отношения к проблемам своего зрения – важное направление профилактической работы образовательного учреждения. Оно реализуется посредством приучения детей с раннего возраста к гигиеническому уходу за глазами, очками и бережное отношение к своему здоровью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корости и полноте восприятия глаз превосходит все органы чувств человека. С помощью зрения обеспечивается обозрение окружающих предметов, процессов и явлений действитель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Прямоугольник 3"/>
          <p:cNvSpPr/>
          <p:nvPr/>
        </p:nvSpPr>
        <p:spPr>
          <a:xfrm>
            <a:off x="900000" y="378936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Цель проекта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"/>
          <p:cNvSpPr/>
          <p:nvPr/>
        </p:nvSpPr>
        <p:spPr>
          <a:xfrm>
            <a:off x="684360" y="450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редставление детей о  том, какую роль играют глаза в жизн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   </a:t>
            </a:r>
            <a:r>
              <a:rPr b="0" lang="ru-RU" sz="4600" spc="-1" strike="noStrike">
                <a:solidFill>
                  <a:srgbClr val="ff0000"/>
                </a:solidFill>
                <a:latin typeface="Calibri"/>
              </a:rPr>
              <a:t>Задачи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343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ознавательную сферу ребенка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е о том, что они могут узнать об окружающем мире с помощью глаз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ить знания детей о том, что полезно и вредно для глаз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ять в обследовании основных признаков и свойств с использованием зрения и других анализаторов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гигиенические навыки и привычки, которые нужны для жизни и труда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приемами оказания первой помощи при травме глаз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 детей бережное отношение к своему здоровью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68360" y="112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ип проекта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мешанный (исследовательно-творческий и информационно-практический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оки реализац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долгосрочный (годовой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частники проекта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ти среднего дошкольного возраста, родители воспитанников, воспитатели групп, педагоги дополнительного образования (муз. руководитель, тифлопедагог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редполагаемый результа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9640" y="1341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-2210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сширятся детские представления о предметном мир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формируются необходимые гигиенические навыки об уходе за глазами и очк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здание в группе совместно с детьми и родителями выставки дидактических игр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Содержимое 5" descr="100_4486.JPG"/>
          <p:cNvPicPr/>
          <p:nvPr/>
        </p:nvPicPr>
        <p:blipFill>
          <a:blip r:embed="rId1"/>
          <a:stretch/>
        </p:blipFill>
        <p:spPr>
          <a:xfrm>
            <a:off x="2987640" y="1125360"/>
            <a:ext cx="3097080" cy="2808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Дидактическая игра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«Зоркий глаз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684360" y="4221000"/>
            <a:ext cx="799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Тренировка  зрительных  анализаторов, развитие целостного восприятия, вним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шумованные  картинки  представляют собой контуры наложенных друг на друга предметов, геометрических фигур или предмет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ения можно «опознавать», пересчитывать, обводить пальцем или фломастером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микрокординации пальцев р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55640" y="1196640"/>
            <a:ext cx="77724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дготовитель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вести до участников проекта важность данной проблем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добрать и изучить методическую литературу по данной тем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работать консультации для родител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ование экологического сознания,экологической культур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зработка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ставить план реализации проект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добрать иллюстративный материал по данной тем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работать и изучить дидактические игры  и обучающие пособ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хема реализации проекта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11280" y="1197000"/>
          <a:ext cx="8001000" cy="5357880"/>
        </p:xfrm>
        <a:graphic>
          <a:graphicData uri="http://schemas.openxmlformats.org/drawingml/2006/table">
            <a:tbl>
              <a:tblPr/>
              <a:tblGrid>
                <a:gridCol w="2016000"/>
                <a:gridCol w="4105440"/>
                <a:gridCol w="1879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дел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ормы и метод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роки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гров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идактически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 Найди что опиш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Четвертый лишн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 Помощни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 Береги природ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  Как зовут тебя деревце?»Лото «основы безопасности в природе» «Экологический светофор»; Природа и человек; «Зоологическое лот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 Лесная полян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 Ребятам о зверятах в лес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лечения: «В гостях у лесовичка»; Игра –викторина « Природа наш друг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Путешествие   по страницам книги и тайны живой природы  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южетно-ролевые игр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 Эколог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Геолог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 течение все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928800" y="1428840"/>
          <a:ext cx="7858080" cy="5143320"/>
        </p:xfrm>
        <a:graphic>
          <a:graphicData uri="http://schemas.openxmlformats.org/drawingml/2006/table">
            <a:tbl>
              <a:tblPr/>
              <a:tblGrid>
                <a:gridCol w="7858080"/>
              </a:tblGrid>
              <a:tr h="51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900000" y="620640"/>
          <a:ext cx="7786800" cy="6400800"/>
        </p:xfrm>
        <a:graphic>
          <a:graphicData uri="http://schemas.openxmlformats.org/drawingml/2006/table">
            <a:tbl>
              <a:tblPr/>
              <a:tblGrid>
                <a:gridCol w="2000520"/>
                <a:gridCol w="3635280"/>
                <a:gridCol w="2151000"/>
              </a:tblGrid>
              <a:tr h="69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дел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знава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ормы и методы 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седы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Волшебница вода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Дом под крышей голубой »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седа с рассматриванием журналов « Здоровье и экология»; «Юный натуралист»; « Что такое компос и для чего он нужен?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седа с рассматриванием камней, созданных с самой природой; «Растения фитотерапевты»; «Красная книга-Югры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ксперимент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 Вода нужна все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 Что в пакете?»;Оп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 Почва »(необходимость удобрения для роста растен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роки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 течении все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5:38:00Z</dcterms:created>
  <dc:creator>Пользователь</dc:creator>
  <dc:description/>
  <dc:language>en-US</dc:language>
  <cp:lastModifiedBy>Рашид</cp:lastModifiedBy>
  <dcterms:modified xsi:type="dcterms:W3CDTF">2015-01-11T11:10:38Z</dcterms:modified>
  <cp:revision>27</cp:revision>
  <dc:subject/>
  <dc:title>Схема осуществления проекта. “Поэтический родник” </dc:title>
</cp:coreProperties>
</file>