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9D2-A3A8-4D1C-8058-E40FDF28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73F-2E4E-4D53-9BBA-6F66CAA1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6C4-C7EC-40E3-A641-765854A9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770-C031-4E66-8FFF-EB0AE9E8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4189-AF6D-4471-B0E8-02AFCBF4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93C6-AFEA-4492-A8F7-4A967E6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F71-0600-48E2-9E2C-1A3AF4EA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D23D-0C06-4314-8D24-689BAA87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FF3D-DDC9-4D71-B05F-F572834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709D-6617-4A9A-9629-F7807E16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8C00-E2C4-4B9A-8D6E-10A7E6B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56F-F8A8-41A0-ADA1-5E7A6A6A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E683-4D4B-4EA7-8B98-253B4CB2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1023-21C3-4D81-BF9D-98FC918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EB16-A0BB-4330-A434-0098F80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1094-BAF4-4779-A064-FA645002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A9B1-198E-44B8-92D0-D800CC8B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E2E-F4E8-4B61-8104-CCBFA1F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9C8-07B0-4EFA-A63B-5943E6BD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8CF-CF91-4380-A929-95E1C2F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F19-94F5-4330-A87E-179EDF7E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E8C-89C7-4B3C-A689-B0836FC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EFF-DB8F-4399-BF97-D725CEA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B08-A0AF-447C-BE57-3F2AA2A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B753-391D-4436-9BC0-5E4A40EF6BC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1044-6F01-45B7-885B-38B254A697A1}" type="slidenum"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53;&#1086;&#1074;&#1099;&#1081;_&#1075;&#1086;&#1076;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images.yandex.ru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ладимир Иванович Да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1280" y="3141720"/>
            <a:ext cx="675648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Старик – годови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читать произведение. По желанию нарисовать старика – годови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обрать пословицы о временах года из сборника В.И.Да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4772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работу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5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755640" y="1773360"/>
            <a:ext cx="6337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ьзованные ресурсы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http://ru.wikipedia.org/wiki/%D0%9D%D0%BE%D0%B2%D1%8B%D0%B9_%D0%B3%D0%BE%D0%B4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http://images.yandex.ru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9a403a"/>
          </a:solidFill>
          <a:ln w="38160">
            <a:solidFill>
              <a:srgbClr val="f7f1e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6059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2148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ирование целостного представления о годичном круге на примере сказки – загадки В. Даля «Старик – годовик»;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Знакомство с творчеством В.Даля;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Развитие умения анализировать текс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авила работы в групп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нять задание и подумать о решении самостоятель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слушать мнение кажд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йти общее реш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брать выступающе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E:\Рисунок1.jpg"/>
          <p:cNvPicPr/>
          <p:nvPr/>
        </p:nvPicPr>
        <p:blipFill>
          <a:blip r:embed="rId5"/>
          <a:stretch/>
        </p:blipFill>
        <p:spPr>
          <a:xfrm>
            <a:off x="5580000" y="4437000"/>
            <a:ext cx="2108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19, 20, 1, 18, 10, 12 – 4, 16, 5, 16, 3, 10, 12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Старик – годови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Autumn Leaves"/>
          <p:cNvPicPr/>
          <p:nvPr/>
        </p:nvPicPr>
        <p:blipFill>
          <a:blip r:embed="rId2"/>
          <a:stretch/>
        </p:blipFill>
        <p:spPr>
          <a:xfrm>
            <a:off x="2124000" y="4724280"/>
            <a:ext cx="1511280" cy="1873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Природа летом фото, видео, картинки"/>
          <p:cNvPicPr/>
          <p:nvPr/>
        </p:nvPicPr>
        <p:blipFill>
          <a:blip r:embed="rId3"/>
          <a:stretch/>
        </p:blipFill>
        <p:spPr>
          <a:xfrm>
            <a:off x="324000" y="4724280"/>
            <a:ext cx="1655640" cy="1914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Зимние пейзажи. Фото"/>
          <p:cNvPicPr/>
          <p:nvPr/>
        </p:nvPicPr>
        <p:blipFill>
          <a:blip r:embed="rId4"/>
          <a:stretch/>
        </p:blipFill>
        <p:spPr>
          <a:xfrm>
            <a:off x="3851280" y="4653000"/>
            <a:ext cx="1582560" cy="187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Природа весной, цветы картинки, фото, видео"/>
          <p:cNvPicPr/>
          <p:nvPr/>
        </p:nvPicPr>
        <p:blipFill>
          <a:blip r:embed="rId5"/>
          <a:stretch/>
        </p:blipFill>
        <p:spPr>
          <a:xfrm>
            <a:off x="5580000" y="4653000"/>
            <a:ext cx="165744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ладимир Иванович Да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2" descr="C:\Users\1\Pictures\220PX-~1.JPG"/>
          <p:cNvPicPr/>
          <p:nvPr/>
        </p:nvPicPr>
        <p:blipFill>
          <a:blip r:embed="rId1"/>
          <a:stretch/>
        </p:blipFill>
        <p:spPr>
          <a:xfrm>
            <a:off x="2560680" y="2208240"/>
            <a:ext cx="279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-360" y="475920"/>
            <a:ext cx="7451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ладимир Иванович  Даль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(10 [22] ноября 1801 — 22 сентября [4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ктября] 1872) — русский учёный и писатель. Прославился как автор «Толкового словаря живого великорусского языка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Член-корреспондент Петербургской академии наук по физико-математическому отделению (избран 21 декабря 1838 года за естественно-научные труды), почётный член Академии по Отделению естественных наук (1863 год). При слиянии Петербургской академии с Российской Владимира Даля перевели в Отделение русского языка и словесности. Владимир Даль писал Я. К. Гроту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дин из двенадцати членов-учредителей Русского географического общества, которое присудило ему Константиновскую медаль за «Толковый словарь живого великорусского языка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Знал, по меньшей мере, 12 языков, понимал тюркские языки, считается одним из первых тюркологов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Этнограф, собиратель фольклора. Собранные песни отдал Киреевскому, сказки — Афанасьеву. Богатое, лучшее в то время собрание лубочных картин Даля поступило в Имп. публ. библиотеку и вошло впоследствии в издания Ровинског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мер Даль в Москве 22 сентября [4 октября] 1872. Похоронен на Ваганьковском кладбищ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0"/>
            <a:ext cx="651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ладимир Даль родился в местечке Луганский завод (ныне Луганск) Екатеринославского наместничества 10 (22) ноября 1801 года в семье лекаря горного ведомства[ Ивана Матвеевича Даля и Марии Христофоровны Даль (урождённая Фрейтаг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Его отец, датчанин Johan Christian von Dahl (1764 — 21 октября 1821), принял российское подданство вместе с русским именем Иван Матвеевич Даль в 1799 году. Он знал немецкий, английский, французский, русский, идиш, латынь, греческий и древнееврейский язык, был богословом и медиком. Известность его как лингвиста достигла императрицы Екатерины II, которая вызвала его в Петербург на должность придворного библиотекаря. Иоан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ария Даль свободно владела пятью языками. Бабушка по материнской линии Владимира Ивановича — Мария Ивановна Фрейтаг — происходила из рода французских гугенотов де Мальи, занималась русской литературой. Известны её переводы на русский язык С. Геснера и А. В. Иффланда. Дед Христофор Фрайтаг — коллежский асессор, чиновник ломбарда. Был недоволен филологическим образованием будущего зятя и фактически вынудил его получить медицинское образование, поскольку считал профессию врача одной из немногих «доходных и практических профессий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2" descr="C:\Users\1\Pictures\i.jpg"/>
          <p:cNvPicPr/>
          <p:nvPr/>
        </p:nvPicPr>
        <p:blipFill>
          <a:blip r:embed="rId6"/>
          <a:stretch/>
        </p:blipFill>
        <p:spPr>
          <a:xfrm>
            <a:off x="6372360" y="836640"/>
            <a:ext cx="1224000" cy="1509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1\Pictures\250px-20070603_005.jpg"/>
          <p:cNvPicPr/>
          <p:nvPr/>
        </p:nvPicPr>
        <p:blipFill>
          <a:blip r:embed="rId7"/>
          <a:stretch/>
        </p:blipFill>
        <p:spPr>
          <a:xfrm>
            <a:off x="5867280" y="5661000"/>
            <a:ext cx="148140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-360" y="0"/>
            <a:ext cx="6429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зна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славили его как литератора «Русские сказки из предания народного изустного на грамоту гражданскую переложенные, к быту житейскому приноровленные и поговорками ходячими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азукрашенны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Казаком Владимиром Луганским. Пяток первый» (1832 год). Ректор Дерптского университета решил пригласить своего бывшего студента, доктора медицины Даля на кафедру русской словесности. При этом книга была принята в качестве диссертации на соискание учёной степени доктора филологии, но она была отклонена в качестве диссертации как неблагонадёжная самим министром просвещ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ираж данной книги был изъят из продажи. Один из немногих оставшихся экземпляров Даль решил подарить А. С. Пушкину. Жуковский давно обещал их познакомить, но Даль, не дожидаясь его, взял «Сказки…» и пошёл сам — без всяких рекомендаций — представляться Александру Пушкину. Так началось их знакомств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1833—1839 вышли в свет «Были и небылицы Казака Луганского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ктивно сотрудничал в журнале «Сельское чтение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2" descr="C:\Users\1\Pictures\543.jpg"/>
          <p:cNvPicPr/>
          <p:nvPr/>
        </p:nvPicPr>
        <p:blipFill>
          <a:blip r:embed="rId6"/>
          <a:stretch/>
        </p:blipFill>
        <p:spPr>
          <a:xfrm>
            <a:off x="6431040" y="620640"/>
            <a:ext cx="1165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0"/>
            <a:ext cx="601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Толковый словарь живого великорусского язык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f1311"/>
                </a:solidFill>
                <a:latin typeface="Arial"/>
              </a:rPr>
              <a:t>Обложка I тома второго издания (1880)«Толковый словарь» — главное детище Даля, труд по которому его знает всякий, кто интересуется русским языком. Когда толковый словарь живого великорусского языка был собран и обработан до буквы «П», Даль решил уйти в отставку и посвятить себя работе над словарём. В 1859 году он поселяется в Москве на Пресне в доме, построенном историографом князем Щербатовым, написавшим «Историю Российского государства». В этом доме прошёл заключительный этап работы над словарём, до сих пор непревзойдённым по своему объёму. Две цитаты, определяющие задачи, которые поставил перед собой Владимир Даль: «Живой народный язык, сберёгший в жизненной свежести дух, который придаёт языку стройность, силу, ясность, целость и красоту, должен послужить источником и сокровищницей для развития образованной русской речи»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f1311"/>
                </a:solidFill>
                <a:latin typeface="Arial"/>
              </a:rPr>
              <a:t>Великая цель, исполнению которой было отдано 53 года, достигнута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f1311"/>
                </a:solidFill>
                <a:latin typeface="Arial"/>
              </a:rPr>
              <a:t>В 1861 году за первые выпуски «Словаря» получил константиновскую медаль от Императорского географического общества, в 1868 году выбран в почётные члены Императорской академии наук, а по выходу в свет всего словаря удостоен ломоносовской премии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2" descr="C:\Users\1\Pictures\2345.jpg"/>
          <p:cNvPicPr/>
          <p:nvPr/>
        </p:nvPicPr>
        <p:blipFill>
          <a:blip r:embed="rId1"/>
          <a:stretch/>
        </p:blipFill>
        <p:spPr>
          <a:xfrm>
            <a:off x="6012000" y="189000"/>
            <a:ext cx="1439640" cy="1657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1\Pictures\220px-Dal_Dictionary_title.jpg"/>
          <p:cNvPicPr/>
          <p:nvPr/>
        </p:nvPicPr>
        <p:blipFill>
          <a:blip r:embed="rId2"/>
          <a:stretch/>
        </p:blipFill>
        <p:spPr>
          <a:xfrm>
            <a:off x="6227640" y="4508640"/>
            <a:ext cx="1440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07:46:43Z</dcterms:created>
  <dc:creator>Саша</dc:creator>
  <dc:description/>
  <dc:language>en-US</dc:language>
  <cp:lastModifiedBy>1</cp:lastModifiedBy>
  <dcterms:modified xsi:type="dcterms:W3CDTF">2014-10-08T13:15:15Z</dcterms:modified>
  <cp:revision>18</cp:revision>
  <dc:subject/>
  <dc:title>В.И.Даль</dc:title>
</cp:coreProperties>
</file>