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6CD-4C9A-4479-8EBA-F8DF2C9D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A8D-DC75-4361-8382-B0C5FB22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CD9-3949-4ECC-90C2-6B8F1986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9E5-C35C-4F02-98BD-4B19FCB8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1C4-8C06-4BD0-BC87-314FE659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C89-45FA-4BAA-99EF-B1B93EFB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98E-EF05-49CE-AFDA-D6209354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69B-66A3-4507-8B8C-468CB7E9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BEC-95EE-4860-BCAF-772F6D80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6BC-39F2-46EE-85BE-F4F5C506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963-F993-4750-B134-215067D7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22C-2048-4AC2-B146-F5BA982D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9C5A-54D3-4ADF-9DEE-A2C7D52E41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Флаг"/>
          <p:cNvPicPr/>
          <p:nvPr/>
        </p:nvPicPr>
        <p:blipFill>
          <a:blip r:embed="rId2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mae"/>
          <p:cNvPicPr/>
          <p:nvPr/>
        </p:nvPicPr>
        <p:blipFill>
          <a:blip r:embed="rId3"/>
          <a:stretch/>
        </p:blipFill>
        <p:spPr>
          <a:xfrm>
            <a:off x="0" y="5992920"/>
            <a:ext cx="1371600" cy="8650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mae"/>
          <p:cNvPicPr/>
          <p:nvPr/>
        </p:nvPicPr>
        <p:blipFill>
          <a:blip r:embed="rId4"/>
          <a:stretch/>
        </p:blipFill>
        <p:spPr>
          <a:xfrm>
            <a:off x="1371600" y="5992920"/>
            <a:ext cx="1371600" cy="8650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mae"/>
          <p:cNvPicPr/>
          <p:nvPr/>
        </p:nvPicPr>
        <p:blipFill>
          <a:blip r:embed="rId5"/>
          <a:stretch/>
        </p:blipFill>
        <p:spPr>
          <a:xfrm>
            <a:off x="2743200" y="5992920"/>
            <a:ext cx="1371600" cy="865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mae"/>
          <p:cNvPicPr/>
          <p:nvPr/>
        </p:nvPicPr>
        <p:blipFill>
          <a:blip r:embed="rId6"/>
          <a:stretch/>
        </p:blipFill>
        <p:spPr>
          <a:xfrm>
            <a:off x="4114800" y="5992920"/>
            <a:ext cx="1371600" cy="8650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mae"/>
          <p:cNvPicPr/>
          <p:nvPr/>
        </p:nvPicPr>
        <p:blipFill>
          <a:blip r:embed="rId7"/>
          <a:stretch/>
        </p:blipFill>
        <p:spPr>
          <a:xfrm>
            <a:off x="5486400" y="5992920"/>
            <a:ext cx="1371600" cy="8650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mae"/>
          <p:cNvPicPr/>
          <p:nvPr/>
        </p:nvPicPr>
        <p:blipFill>
          <a:blip r:embed="rId8"/>
          <a:stretch/>
        </p:blipFill>
        <p:spPr>
          <a:xfrm>
            <a:off x="6858000" y="5992920"/>
            <a:ext cx="1371600" cy="8650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mae"/>
          <p:cNvPicPr/>
          <p:nvPr/>
        </p:nvPicPr>
        <p:blipFill>
          <a:blip r:embed="rId9"/>
          <a:srcRect l="0" t="0" r="33333" b="0"/>
          <a:stretch/>
        </p:blipFill>
        <p:spPr>
          <a:xfrm>
            <a:off x="8229600" y="5992920"/>
            <a:ext cx="91440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_2005628_0mn14s43mls314"/>
          <p:cNvPicPr/>
          <p:nvPr/>
        </p:nvPicPr>
        <p:blipFill>
          <a:blip r:embed="rId1"/>
          <a:stretch/>
        </p:blipFill>
        <p:spPr>
          <a:xfrm>
            <a:off x="714240" y="357120"/>
            <a:ext cx="3016440" cy="45244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50" name="Text Box 3"/>
          <p:cNvSpPr/>
          <p:nvPr/>
        </p:nvSpPr>
        <p:spPr>
          <a:xfrm>
            <a:off x="3863880" y="357120"/>
            <a:ext cx="528012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Arial"/>
              </a:rPr>
              <a:t>Франция посл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Arial"/>
              </a:rPr>
              <a:t>Второй миро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Arial"/>
              </a:rPr>
              <a:t>Войн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оектная раб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о Новейшей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929200" y="4143240"/>
            <a:ext cx="32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полнила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ц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 класс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хипова Мария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итель: Русинова Л.А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04920" y="228600"/>
            <a:ext cx="8534160" cy="4572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утренняя и внешняя политика Шарля де Гол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и27_05"/>
          <p:cNvPicPr/>
          <p:nvPr/>
        </p:nvPicPr>
        <p:blipFill>
          <a:blip r:embed="rId1"/>
          <a:stretch/>
        </p:blipFill>
        <p:spPr>
          <a:xfrm>
            <a:off x="581040" y="990720"/>
            <a:ext cx="3610080" cy="40384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89" name="Rectangle 4"/>
          <p:cNvSpPr/>
          <p:nvPr/>
        </p:nvSpPr>
        <p:spPr>
          <a:xfrm>
            <a:off x="4952880" y="914400"/>
            <a:ext cx="4000680" cy="4876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сле ухода в отставку де Гол-ля президентом был избран ме-нее властный Жорж Помпиду. После его смерти в 1974 г. пре-зидентом стал лидер независи-мых республиканцев Валери Жискар д</a:t>
            </a:r>
            <a:r>
              <a:rPr b="1" lang="be-BY" sz="1800" spc="-1" strike="noStrike">
                <a:solidFill>
                  <a:srgbClr val="a50021"/>
                </a:solidFill>
                <a:latin typeface="Arial"/>
              </a:rPr>
              <a:t>’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Эсте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 середины 70-х гг. Франция вступила в полосу экономичес-ких и политических трудностей, которые были связаны с миро-вым экономическим кризисом. Правительство начало прово-дить политику «жёсткой эконо-мии». Это встретило сопротив-ление со стороны населения и привело к падению популярнос-ти независимых республикан-цев и их проигрышу на прези-дентских и парламентских вы-борах в 1981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18640" y="5334120"/>
            <a:ext cx="1455120" cy="337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В.Ж. д</a:t>
            </a:r>
            <a:r>
              <a:rPr b="1" lang="be-BY" sz="1600" spc="-1" strike="noStrike">
                <a:solidFill>
                  <a:srgbClr val="a50021"/>
                </a:solidFill>
                <a:latin typeface="Arial"/>
              </a:rPr>
              <a:t>’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Эсте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04920" y="228600"/>
            <a:ext cx="8534160" cy="4572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1125360"/>
            <a:ext cx="9144000" cy="481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тельство Шарля де Голля восстановило демократи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итуция 1946 г. провозгласила  Францию парламентской республи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ход в отставку  де Голля, провозгласил «Четвертую республику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8 год – де Голль избран президентом, колониям предоставили независим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озглашена «Пятая республика».Конституция 1947 года провозгласи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алию демократической парламентской республикой. Италия станови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леном НАТО, на ее территории размещены американские базы. 60-е год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рный экономический рост, но сохраняется разрыв  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вера и Юга. 70-х годах усиливается политическая нестабильность, угро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роризма, расцвет коррупции, влияние маф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609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857160"/>
            <a:ext cx="8534520" cy="48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ение страны после Второй ми-ровой вой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ад колониальной импе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яя и внешняя политика Шар-ля де Гол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азать основные изменения ( социальные, политические) происходившие во Франции после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04920" y="228600"/>
            <a:ext cx="8534160" cy="4572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ение страны после Второй мировой вой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114800" y="914400"/>
            <a:ext cx="4724280" cy="4800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сле окончания Второй мировой вой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ы Франция утратила положение вели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ой державы. На фоне экономическ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упадка страна попала в зависимость о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финансовой политики США. После вой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ы распалась и французская колони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льная систем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Летом 1944 г. во Франции было образ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ано Временное правительство, кот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ое возглавил Шарль де Голль. Оно на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чало подготовку к выборам Учредитель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ого собрания. В стране был восстанов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лен демократический строй. К суду бы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ли привлечены люди, сотрудничав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 гитлеровцами. В экономике стра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были национализированы ряд отрас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омышлен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и27_01"/>
          <p:cNvPicPr/>
          <p:nvPr/>
        </p:nvPicPr>
        <p:blipFill>
          <a:blip r:embed="rId1"/>
          <a:stretch/>
        </p:blipFill>
        <p:spPr>
          <a:xfrm>
            <a:off x="228600" y="990720"/>
            <a:ext cx="3576600" cy="40384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57" name="Text Box 5"/>
          <p:cNvSpPr/>
          <p:nvPr/>
        </p:nvSpPr>
        <p:spPr>
          <a:xfrm>
            <a:off x="1338840" y="5257800"/>
            <a:ext cx="1846440" cy="337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Шарль де Гол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04920" y="228600"/>
            <a:ext cx="8534160" cy="4572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ение страны после Второй мировой вой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15-3"/>
          <p:cNvPicPr/>
          <p:nvPr/>
        </p:nvPicPr>
        <p:blipFill>
          <a:blip r:embed="rId1"/>
          <a:stretch/>
        </p:blipFill>
        <p:spPr>
          <a:xfrm>
            <a:off x="228600" y="1371600"/>
            <a:ext cx="4343400" cy="28828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60" name="Rectangle 4"/>
          <p:cNvSpPr/>
          <p:nvPr/>
        </p:nvSpPr>
        <p:spPr>
          <a:xfrm>
            <a:off x="4800600" y="838080"/>
            <a:ext cx="4038480" cy="5029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 послевоенной Франции расста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овку политических сил опреде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ляли Французская Коммунисти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ческая партия (ФКП), Социалисти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ческая партия (СФИО), Католичес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я партия и Народно-республи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нское движение (МРП). В октяб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е 1945 г. состоялись выборы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Учредительное собрание, побе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 которых одержали левые си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лы, которые активно участвова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ли в Движении Сопротивл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 главе сформировавшего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авительства стал Шарль 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Голль. В 1946 г. была принята  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ая Конституция, которая знаме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ала собой установление во Фран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ции Четвёртой республ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56880" y="4572000"/>
            <a:ext cx="2710440" cy="58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Французы приветствую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Шарля де Гол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04920" y="228600"/>
            <a:ext cx="8534160" cy="4572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ад колониальной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Рисунок29"/>
          <p:cNvPicPr/>
          <p:nvPr/>
        </p:nvPicPr>
        <p:blipFill>
          <a:blip r:embed="rId1"/>
          <a:stretch/>
        </p:blipFill>
        <p:spPr>
          <a:xfrm>
            <a:off x="228600" y="990720"/>
            <a:ext cx="2620800" cy="38862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64" name="Picture 4" descr="Рисунок28"/>
          <p:cNvPicPr/>
          <p:nvPr/>
        </p:nvPicPr>
        <p:blipFill>
          <a:blip r:embed="rId2"/>
          <a:stretch/>
        </p:blipFill>
        <p:spPr>
          <a:xfrm>
            <a:off x="3276720" y="838080"/>
            <a:ext cx="3200400" cy="215424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65" name="Rectangle 5"/>
          <p:cNvSpPr/>
          <p:nvPr/>
        </p:nvSpPr>
        <p:spPr>
          <a:xfrm>
            <a:off x="3048120" y="3200400"/>
            <a:ext cx="5867280" cy="2666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огласно конституции французская колониаль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я империя преобразовалась во Француз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оюз, в который включались и государств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ставшие уже на путь независимости. Среди н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были Вьетнам, Камбоджа, Лаос. Но коммунисти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ческое правительство Вьетнама отказалос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знать это решение, что привело к войне Фран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ции против Демократической Республики Вьет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м (1946-1954 гг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99320" y="4800600"/>
            <a:ext cx="2119320" cy="337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Война в Индокита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515280" y="1523880"/>
            <a:ext cx="2437920" cy="58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Французские солда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в Индокита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04920" y="228600"/>
            <a:ext cx="8534160" cy="4572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ад колониальной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Рисунок4"/>
          <p:cNvPicPr/>
          <p:nvPr/>
        </p:nvPicPr>
        <p:blipFill>
          <a:blip r:embed="rId1"/>
          <a:stretch/>
        </p:blipFill>
        <p:spPr>
          <a:xfrm>
            <a:off x="380880" y="838080"/>
            <a:ext cx="1576440" cy="221004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70" name="Picture 4" descr="Рисунок33"/>
          <p:cNvPicPr/>
          <p:nvPr/>
        </p:nvPicPr>
        <p:blipFill>
          <a:blip r:embed="rId2"/>
          <a:stretch/>
        </p:blipFill>
        <p:spPr>
          <a:xfrm>
            <a:off x="7267680" y="838080"/>
            <a:ext cx="1589040" cy="221004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71" name="Rectangle 5"/>
          <p:cNvSpPr/>
          <p:nvPr/>
        </p:nvSpPr>
        <p:spPr>
          <a:xfrm>
            <a:off x="228600" y="3200400"/>
            <a:ext cx="8686800" cy="2666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сенью 1954 г. началась вторая колониальная война, уже в Алжире. 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1956 г. Франция вынуждена была признать независимость Марокко и Ту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иса. Сторонники сохранения французской колониальной империи 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хотели утратить ещё и Алжир. Чтобы не допустить этого, они подняли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1958 г. мятеж против правительства. Страна оказалась в состоянии глуб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ого политического и морального кризиса. 1 июня 1958 г. Национально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обрание предоставило Шарлю де Голлю чрезвычайные полномочия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ручило разработать новую конституцию. Так с возвращением к вла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де Голля в стране пала Четвёртая республ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951200" y="914400"/>
            <a:ext cx="3644640" cy="337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Договор о независимости Алжи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866680" y="2514600"/>
            <a:ext cx="4382280" cy="337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Провозглашение  независимости Алжи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26"/>
          <p:cNvSpPr/>
          <p:nvPr/>
        </p:nvSpPr>
        <p:spPr>
          <a:xfrm>
            <a:off x="304920" y="228600"/>
            <a:ext cx="8534160" cy="4572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утренняя и внешняя политика Шарля де Гол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027" descr="Рисунок3"/>
          <p:cNvPicPr/>
          <p:nvPr/>
        </p:nvPicPr>
        <p:blipFill>
          <a:blip r:embed="rId1"/>
          <a:stretch/>
        </p:blipFill>
        <p:spPr>
          <a:xfrm>
            <a:off x="1371600" y="914400"/>
            <a:ext cx="2743200" cy="177336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76" name="Rectangle 1028"/>
          <p:cNvSpPr/>
          <p:nvPr/>
        </p:nvSpPr>
        <p:spPr>
          <a:xfrm>
            <a:off x="228600" y="2895480"/>
            <a:ext cx="8686800" cy="2971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сновные силы страны, видели в Шарле де Голле сильную лич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 1958 г. де Голль стал премьером и провел через референдум Конститу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цию, превращавшую Францию в президентскую республику.  Последую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щий период вошёл в историю Франции под названием Пятой республ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 1960г. Шарль де Голль предоставил независимость всем колония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роме Алжира, который стал независимым в 1962 г. Правые  дважды пы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ались организовать на него покушения, но потерпели неудачу.  В 1966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Франция вышла из военной организации НАТО. На фоне  умень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зависимости Франции от США улучшались её отношения с ССС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4844520" y="1523880"/>
            <a:ext cx="1978920" cy="337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Генерал де Гол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04920" y="228600"/>
            <a:ext cx="8534160" cy="4572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утренняя и внешняя политика Шарля де Гол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и27_04"/>
          <p:cNvPicPr/>
          <p:nvPr/>
        </p:nvPicPr>
        <p:blipFill>
          <a:blip r:embed="rId1"/>
          <a:stretch/>
        </p:blipFill>
        <p:spPr>
          <a:xfrm>
            <a:off x="5638680" y="1066680"/>
            <a:ext cx="3143520" cy="353376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80" name="Rectangle 6"/>
          <p:cNvSpPr/>
          <p:nvPr/>
        </p:nvSpPr>
        <p:spPr>
          <a:xfrm>
            <a:off x="228600" y="838080"/>
            <a:ext cx="5181480" cy="3886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Франция сделала заметные успехи и в об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ласти экономики. С ростом частного сект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а в экономике увеличивались и капитал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ложения в производство. Правитель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ддерживало развитие новейших отрас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лей хозяйства и реконструкцию стары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сё это привело к сдвигам в структуре на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еления страны: уменьшился удель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ес населения, занятого в сельском хозяй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тве, и увеличилась часть населения, заня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ого в непроизводственной сфере. 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оизводстве выросла прослойка рабоч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ысокой квалифик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834520" y="4952880"/>
            <a:ext cx="2791440" cy="58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Сорбонский университ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Париж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73240" y="4876920"/>
            <a:ext cx="5101560" cy="916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о постепенно в стране начало нараст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едовольство авторитарным стилем рук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дства, характерным для Ш. де Гол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600" y="3962160"/>
            <a:ext cx="8686800" cy="190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Жестокость полиции увеличила ряды движения. Во Франции началась всеобщая забастовка, проходившая под социалистическими лозунг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туденты заняли Сорбонну, театр Одеон и внедрили систему самоуп-равления, видя в ней основу будущего справедливого обще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Генерал  де Голль потерял контроль над страной. Появились челове-ческие жертв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16-3"/>
          <p:cNvPicPr/>
          <p:nvPr/>
        </p:nvPicPr>
        <p:blipFill>
          <a:blip r:embed="rId1"/>
          <a:stretch/>
        </p:blipFill>
        <p:spPr>
          <a:xfrm>
            <a:off x="4572000" y="838080"/>
            <a:ext cx="4305240" cy="284184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85" name="Rectangle 9"/>
          <p:cNvSpPr/>
          <p:nvPr/>
        </p:nvSpPr>
        <p:spPr>
          <a:xfrm>
            <a:off x="304920" y="228600"/>
            <a:ext cx="8534160" cy="4572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утренняя и внешняя политика Шарля де Гол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186920" y="1981080"/>
            <a:ext cx="2707560" cy="58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Демонстрация в Париж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Май 1968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итник П.В.</dc:creator>
  <dc:description>Урок №32.</dc:description>
  <dc:language>en-US</dc:language>
  <cp:lastModifiedBy>Людмила</cp:lastModifiedBy>
  <dcterms:modified xsi:type="dcterms:W3CDTF">2015-01-11T09:18:41Z</dcterms:modified>
  <cp:revision>52</cp:revision>
  <dc:subject>Франция после Второй мировой войны.</dc:subject>
  <dc:title>Франция после Второй мировой войны</dc:title>
</cp:coreProperties>
</file>