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5DA-DD06-4BDC-89D1-EB525162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544-0333-44F9-86BF-D54CDF5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950-C3CE-4E4C-8A65-C2759AD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7A6-F235-4DD6-A375-A7DA526A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667-D970-4750-B5CD-3C1015CB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853-747A-49E8-9991-187296E8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579-C6FE-40E8-8872-E9139578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35D-594F-439A-99FE-EB529FC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562-B857-4E25-A7E9-C4AAF4E3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285-43C5-4AFA-8C30-E6B5976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53A-0B37-48AD-A02D-47EA224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DB3-DE4A-41DD-BD3A-0B35638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7B4B-5669-48C5-A798-FC7C75439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2739"/>
                </a:solidFill>
                <a:latin typeface="Calibri"/>
              </a:rPr>
              <a:t>Разновидности интерактивны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хема 3" descr=""/>
          <p:cNvPicPr/>
          <p:nvPr/>
        </p:nvPicPr>
        <p:blipFill>
          <a:blip r:embed="rId1"/>
          <a:stretch/>
        </p:blipFill>
        <p:spPr>
          <a:xfrm>
            <a:off x="176040" y="1359000"/>
            <a:ext cx="87966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Asus</cp:lastModifiedBy>
  <dcterms:modified xsi:type="dcterms:W3CDTF">2013-02-26T03:50:03Z</dcterms:modified>
  <cp:revision>19</cp:revision>
  <dc:subject/>
  <dc:title>Раздел  2. Электронные учебные материалы и их использование в дистанционном обучении</dc:title>
</cp:coreProperties>
</file>