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78C-1FF0-4625-BAD2-E781B4A3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E35-0BD3-40B9-9402-E1B489C6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E68-B39E-4848-806C-DE47B1CA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EB54-BD98-40C0-98C7-AE07A7ED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8DEA-CAB1-40A5-B1E8-B63B4163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C065-F0E3-4C60-9900-D7F6153E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9CFE-3230-4BAC-A157-E64E2BA8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74E0-BF54-477A-A295-B5807DC3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30A2-C7EB-40A0-B604-5FE34EA0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EA34-AEE4-488E-B57F-BE7415CB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BE00-BCA0-46F8-B142-282A4CE1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5A8F-3E16-42BF-B4A2-3129BFCC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35E8-EA89-44AA-9884-859C0434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B62E-E8F9-4B6E-BC87-66FAB1E4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35FC-4EEA-4E7A-B6EE-B5BD1A21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85EF-2352-45A9-A901-889FE177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4CA3-B196-49F1-99A4-B03D88C8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9E7-9756-4A47-B76B-3BED48A3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5F4-6803-4CF7-A1BB-D4B74FA7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0EA-2054-48ED-ACAC-26513B4C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477-4B85-4707-AAE0-216A5ECC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8CD-5749-4CE8-B289-C3C0FFA4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70A-F526-4D28-AF51-465F992E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FEF-5A02-4CED-ABE1-92B9886F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45FA-1BEB-4253-AA49-31F45C739C1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DA9D-27E8-44B9-BAC7-BFC213D77B1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57000"/>
            <a:ext cx="6400800" cy="222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екомендации для родителей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ртикуляционная гимнаст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альчиковая гимнаст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 выполнении упражнений необходимо соблюдать определенную последовательность – от простых упражнений к более сложны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 начальном этапе упражнения выполняются в медленном темпе, перед зеркал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личество повторов каждого упражнения от 2-10-15 раз. Главное, чтобы упражнение выполнялись правиль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мплекс гимнастики должен выполняться несколько раз в де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7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имнастик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артикуляционного аппара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) Разминаем челюсти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пускание челюст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движение челюсти вправо – влево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движение челюсти вперед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) Разминаем губы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ытягивание и растягивание губ на «у-и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дтягивание верхней губы («пф»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очетание: подтягивание верхней губы, оттягивание нижней и растягивание губ на «мвз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атягивание губ на зубы при открытом рт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) Разминаем язык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ысовывание язык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движение языка вперед и вниз за зубам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движение языка вверх вниз на губах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руговое движение языка под губам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дутье на кончик язык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ромазывание широким языком верхней стенки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ртикуляционная гимнастика на этапе автоматизаци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вука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«Заборчик»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Способ выполнения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рот открыт, нижние и верхние резцы обнажены, губы растянуты в улыбк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«Кошка сердится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Способ выполнения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рот приоткрыт, губы растянуты в улыбку, кончик языка упирается в нижние зубы, а стенка языка выгибается вперед и округляетс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«Почистим зубы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Способ выполнения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рот открыт, кончик языка двигается по нижним зубам, сначала слева - направо, затем по передним резцам, сверху – вниз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4. «Насос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Способ выполнения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улыбнуться, слегка приоткрыть рот, кончик языка упереть в нижние зубы, подуть. Воздушная струя идет по середине языка, сильная и холодна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ртикуляционная гимнастика на этапе автоматизаци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вука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ш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696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«Лопаточка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omic Sans MS"/>
              </a:rPr>
              <a:t>Способ выполнения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рот открыт, широкий расслабленный язык лежит на нижней губе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«Чашечка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omic Sans MS"/>
              </a:rPr>
              <a:t>Способ выполнения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рот широко открыт, передний и боковой края широкого языка подняты, но не качаются зубов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«Фокус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omic Sans MS"/>
              </a:rPr>
              <a:t>Способ выполнения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учить направлять воздушную струю по середине языка, рот приоткрыть, язык «чашечкой» высунуть вперед и приподнять, плавно выдохнуть на ватку, лежащую на кончике носа.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4. «Лошадка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omic Sans MS"/>
              </a:rPr>
              <a:t>Способ выполнения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улыбнуться, открыть рот, пощелкать кончиком языка, как цокают лошадки. Рот при этом открыт, кончик языка не вытянут и не заострен. Следить, чтобы он не подворачивался внутрь, а нижняя челюсть оставалась неподвижной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ртикуляционная гимнастика на этапе автоматизаци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вука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ш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продолжение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5. «Лягушка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Способ выполнения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улыбнуться, с напряжением обнажив сомкнутые зубы. Удерживать данное положение на счет до 5. Прикус должен быть естественным, нижняя челюсть не должна выдвигаться вперед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6. «Хобото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Способ выполнения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губы и зубы сомкнуты, с напряжением вытянуть губы вперед трубочкой. Удерживать их в таком положении на счет до 5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7. «Маляр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Способ выполнения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улыбнуться, открыть рот. Широкий кончиком языка погладить нёбо от зубов к горлу. Нижняя челюсть не должна двигаться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8. «Вкусное варенье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Способ выполнения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улыбнуться, открыть рот. Языком в форме чашечки облизывать верхнюю губу сверху – вниз. Нижняя губы не должна обтягивать зубы.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альчиковая гимнасти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. «Сороконожки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Две сороконожки 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Бежали по дорожке (всеми пальчиками одновременно перебираем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Друг друга повстречали (встречаются две ладошки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ак друг друга обнимали, и так, и так (прорабатываем каждый пальчик отдельно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Что едва мы их разняли (соединение рук в замок и резкое разъединение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. «Моя семья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Этот пальчик – дедуш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Этот пальчик – бабуш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Этот пальчик –папоч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Этот пальчик – мамоч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Этот пальчик – 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от и вся моя семь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разгибаем и загибаем пальцы поочередно, возможно модификация инструкции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1:31:05Z</dcterms:created>
  <dc:creator>Мария</dc:creator>
  <dc:description/>
  <dc:language>en-US</dc:language>
  <cp:lastModifiedBy>Мария</cp:lastModifiedBy>
  <dcterms:modified xsi:type="dcterms:W3CDTF">2008-09-22T16:31:17Z</dcterms:modified>
  <cp:revision>3</cp:revision>
  <dc:subject/>
  <dc:title>Рекомендации для родителей </dc:title>
</cp:coreProperties>
</file>