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04B4-ECBC-4A19-9372-65CEC5CE3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530F-ED63-42CB-BDFB-0334D575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E5E7-1B27-4186-87CA-8D6591F5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D0F5-C14B-4DA2-B519-8C8ED83F4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78F1-1E50-4842-A3B3-756218FC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09F4-3D16-4802-892A-73A724A5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C0C1-DB91-4D85-95C4-A0208FF7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4B2F-F402-4FFC-9B56-BB42C248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10E7-7C74-477D-B073-77E2BA0D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1248-6A92-4D47-BFB3-AC9A2A5B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1161-9959-47FB-A46D-ADC47F84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2E1D-B10E-4E05-9899-A752A58C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5E5A-7E0F-4212-8CD5-77C45D39EE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жидаемые результаты использования интерактивных  средств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1028"/>
          <p:cNvSpPr/>
          <p:nvPr/>
        </p:nvSpPr>
        <p:spPr>
          <a:xfrm>
            <a:off x="159552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Схема 5" descr=""/>
          <p:cNvPicPr/>
          <p:nvPr/>
        </p:nvPicPr>
        <p:blipFill>
          <a:blip r:embed="rId1"/>
          <a:stretch/>
        </p:blipFill>
        <p:spPr>
          <a:xfrm>
            <a:off x="639720" y="828720"/>
            <a:ext cx="8510760" cy="615168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11"/>
          <p:cNvSpPr/>
          <p:nvPr/>
        </p:nvSpPr>
        <p:spPr>
          <a:xfrm>
            <a:off x="7451640" y="3789360"/>
            <a:ext cx="571680" cy="571680"/>
          </a:xfrm>
          <a:prstGeom prst="smileyFace">
            <a:avLst>
              <a:gd name="adj" fmla="val 9282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11"/>
          <p:cNvSpPr/>
          <p:nvPr/>
        </p:nvSpPr>
        <p:spPr>
          <a:xfrm>
            <a:off x="7380360" y="2781360"/>
            <a:ext cx="571320" cy="571320"/>
          </a:xfrm>
          <a:prstGeom prst="smileyFace">
            <a:avLst>
              <a:gd name="adj" fmla="val 9282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11"/>
          <p:cNvSpPr/>
          <p:nvPr/>
        </p:nvSpPr>
        <p:spPr>
          <a:xfrm>
            <a:off x="7740720" y="4724280"/>
            <a:ext cx="571320" cy="571680"/>
          </a:xfrm>
          <a:prstGeom prst="smileyFace">
            <a:avLst>
              <a:gd name="adj" fmla="val 9282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ергей</dc:creator>
  <dc:description/>
  <dc:language>en-US</dc:language>
  <cp:lastModifiedBy>Asus</cp:lastModifiedBy>
  <dcterms:modified xsi:type="dcterms:W3CDTF">2013-02-25T16:09:58Z</dcterms:modified>
  <cp:revision>21</cp:revision>
  <dc:subject/>
  <dc:title>Раздел  2. Электронные учебные материалы и их использование в дистанционном обучении</dc:title>
</cp:coreProperties>
</file>