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4DD-3C57-45FD-B015-B8EC8625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8B2-FF47-4D55-8F21-48E8B23F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AD9-9C95-4275-80A6-C88965CE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7A1-FB1F-41C9-96B7-721D518D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7603-3A58-431B-A904-948E2D75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D7A4-D255-4D3D-8B4A-DC10C233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CBD0-3450-454E-9969-5AF8D374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8FA3-8C11-4F27-8710-4BC2C9CA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2651-B8F4-4D81-9C69-96A857E2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3244-8EBB-4187-9EF3-150640FC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0AD1-B6B0-4907-9A1C-1BBCE3E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D43-7ACA-42BE-B4AB-2C15C467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AE7A-D4A2-4D89-9ABB-EDC0022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1241-DA1F-42FC-8711-02585084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F973-68B2-44AF-A5C9-23EE368C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DBC-B4EC-4932-9A44-E3F95FE8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B4A3-4E91-4EC4-901A-B681F7F3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14C65-1A52-4100-8A81-7164B24E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10DAC-6F4C-4F2E-B1E3-DA57500C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7744A-3FB0-42D4-8701-D0D28B3D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E3CDF-8CAA-47E9-9A75-221FE37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75B4D-BA73-4E38-B93A-0F305D6F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788-A8CC-45C2-B549-11F3629D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E287A-1A12-41FC-BBD1-1EBE8C1A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525FB-FCFC-4E81-B8E3-E26D1B9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D62E8-8744-4F19-AC8C-658EC333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59288-316C-40FA-83F3-F7DDBCA5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7A846-E85B-4C6C-8DB1-0289EDBD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2394B-650B-4777-A7E2-38011101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D9E9E-0AA8-4927-BF7C-90DCD365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7D7E4-45E3-47A6-8A22-BB7C09B5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06B6-18D5-48CE-8E83-C335758E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208E6-0C82-4F03-9889-B2E269F2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9AA-7678-492F-A400-9FFC914C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B2DE-D13B-47B9-8CC9-458C89B5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EC401-6B6C-4F69-A52F-C3CEA331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58DCE-1E1A-412A-943C-A4DCF89D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6E4A-BAE9-46C4-A2B2-3FE7558B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7B73-4794-45CA-987B-C389894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FB0F-9811-488F-941A-7578A7D5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5791-D4EC-4F39-89E1-2E85E2E7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5BAF2-99E0-4D05-A949-682421ED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2C02-47C8-4D6E-8839-0EF66907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34A20-2D86-4CB2-A6E3-6256C189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D80-9680-4CB4-825C-5473AB8F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61640-0665-40F2-8107-33788503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920C0-66E1-41D0-B6BE-91D1457E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D6B81-7B9C-403D-A738-BFB495A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EC5B4-8EB2-43F1-8932-187E6250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4C7DA-E302-4ECF-A62C-D1DAB2C1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FD502-E1CB-491B-B784-AF00582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211EF-6885-45C7-BD10-E8D4D0EE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9CC47-6369-40B2-A792-C05702E7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99F7B-183D-4FD3-A588-7ED68BE4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7D3C8-601C-4BA0-96D9-80482C7C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B14-E36C-40FE-BF59-9B4D628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8990F-203C-4D9F-B24C-121E89D8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A692D-DC4B-4870-A9A4-8DEDDEEA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5A8C2-7D72-462C-8D7C-5DC022A7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8D96D-C6A1-44F4-8CF0-4A6089BA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1A032-8618-40A7-A61E-C10EA0FE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AF458-A95D-4611-B490-5BC1D2D7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8CF5F-EEAA-4127-94FE-B8C6CEF2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E4C03-ECA4-4F16-B442-A6824B4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DA60C-A0A8-45AA-A9C0-EF73EC49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56B56-7053-44AA-B3EC-1B3BD06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120-E67F-441A-8865-2720551F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B93D7-F8CF-449A-889B-24813D0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D7CCB-DBAA-4118-B58C-5E49C77E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CBFC1-2F69-4475-BC78-82BC2F59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A7D25-0972-48AF-8A30-AF45A560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6FD9A-7AEB-4713-B3DA-7914F6B7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7E088-C5AE-4807-841D-51519E77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A8E19-16B6-4126-A0DB-EB07515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62231-95DA-436A-BCD0-0650A45D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0F473-0EA3-4706-B40E-D6FBB34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29C56-40C5-4DB9-B19F-A27CA5F0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338-4A25-4B0C-9EBB-DF8BFD80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564F5-D56D-4253-90E6-FD95DD7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4F1E9-3468-4657-8541-B7FE1ABF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7DC23-CB2C-4055-AC9A-0193A965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E7D0E-1050-401B-96EE-44216CC0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92FBA-3418-4A4E-9143-34F71555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0EA-DC91-4DDA-8D2A-ED3C242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189A-BDA1-4EEF-B393-269ED90CAE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F034-26E7-4D18-A69D-200E6C6E53A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BBF7-2E61-4E7B-8924-BFF5FE353D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2EDC-E669-43D8-A61F-451DB6DA06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B938-28E0-40A4-8FC6-3172AC55B2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01E2-A668-47A6-807F-2968C37669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021-CEEC-47AC-AD17-DCD55FA678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500120"/>
            <a:ext cx="61722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РЫБНАЯ ПРОМЫШЛЕННОСТЬ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143320" y="5003640"/>
            <a:ext cx="3314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Александрова Ольг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МБОУ «Зеленецкая СОШ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68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РЫБОЛОВСТВО КАК ПРОМЫШЛЕННОСТЬ ВОЗНИКЛО В XVII ВЕК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C:\Documents and Settings\Ирина\Рабочий стол\Оля\рыная пром\2.jpg"/>
          <p:cNvPicPr/>
          <p:nvPr/>
        </p:nvPicPr>
        <p:blipFill>
          <a:blip r:embed="rId1"/>
          <a:stretch/>
        </p:blipFill>
        <p:spPr>
          <a:xfrm>
            <a:off x="1143000" y="1714680"/>
            <a:ext cx="67867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400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РАЗВИТИЮ РЫБНОЙ ПРОМЫШЛЕННОСТИ В РОССИИ СПОСОБСТВОВАЛА ЖЕЛЕЗНАЯ ДОРОГ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2" descr="C:\Documents and Settings\Ирина\Рабочий стол\Оля\рыная пром\56958385_bsimf095o.jpg"/>
          <p:cNvPicPr/>
          <p:nvPr/>
        </p:nvPicPr>
        <p:blipFill>
          <a:blip r:embed="rId1"/>
          <a:stretch/>
        </p:blipFill>
        <p:spPr>
          <a:xfrm>
            <a:off x="928800" y="2071800"/>
            <a:ext cx="6781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ГЛАВНЫМИ РЕГИОНАМИ ВЫЛОВА РЫБЫ НА ТЕРРИТОРИИ РОССИЙСКОЙ ИМПЕРИИ БЫЛИ АРАЛЬСКОЕ, КАСПИЙСКОЕ И ЧЕРНОЕ МОРЯ. ОНИ СОСТАВЛЯЛИ 80,2% ВСЕЙ ДОБЫЧИ РЫБЫ СТРАНЫ.</a:t>
            </a:r>
            <a:br>
              <a:rPr sz="25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" descr="C:\Documents and Settings\Ирина\Рабочий стол\Оля\рыная пром\aral-article04.jpg"/>
          <p:cNvPicPr/>
          <p:nvPr/>
        </p:nvPicPr>
        <p:blipFill>
          <a:blip r:embed="rId1"/>
          <a:stretch/>
        </p:blipFill>
        <p:spPr>
          <a:xfrm>
            <a:off x="1857240" y="2571840"/>
            <a:ext cx="521496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ЛОДКИ, КУНГАСЫ, МЕЛКИЕ ПАРУСНЫЕ СУДА - ОСНОВНЫЕ СРЕДСТВА ТОГДАШНЕЙ РЫБНОЙ ПРОМЫШЛЕННОСТИ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2" descr="C:\Documents and Settings\Ирина\Рабочий стол\Оля\рыная пром\parusa20.jpg"/>
          <p:cNvPicPr/>
          <p:nvPr/>
        </p:nvPicPr>
        <p:blipFill>
          <a:blip r:embed="rId1"/>
          <a:stretch/>
        </p:blipFill>
        <p:spPr>
          <a:xfrm>
            <a:off x="652320" y="1600200"/>
            <a:ext cx="3267360" cy="457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C:\Documents and Settings\Ирина\Рабочий стол\Оля\рыная пром\7334c4cea274.jpg"/>
          <p:cNvPicPr/>
          <p:nvPr/>
        </p:nvPicPr>
        <p:blipFill>
          <a:blip r:embed="rId2"/>
          <a:stretch/>
        </p:blipFill>
        <p:spPr>
          <a:xfrm>
            <a:off x="4384800" y="16002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СЕЙЧАС МОРСКОЙ ПРОМЫСЕЛ ВЕДЕТСЯ ФЛОТОМ СПЕЦИАЛЬНЫХ СУДОВ: ТРАУЛЕРОВ, СЕЙНЕРОВ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C:\Documents and Settings\Ирина\Рабочий стол\Оля\рыная пром\70.jpg"/>
          <p:cNvPicPr/>
          <p:nvPr/>
        </p:nvPicPr>
        <p:blipFill>
          <a:blip r:embed="rId1"/>
          <a:stretch/>
        </p:blipFill>
        <p:spPr>
          <a:xfrm>
            <a:off x="457200" y="2671920"/>
            <a:ext cx="3657600" cy="2428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Documents and Settings\Ирина\Рабочий стол\Оля\рыная пром\сеййнер.jpg"/>
          <p:cNvPicPr/>
          <p:nvPr/>
        </p:nvPicPr>
        <p:blipFill>
          <a:blip r:embed="rId2"/>
          <a:stretch/>
        </p:blipFill>
        <p:spPr>
          <a:xfrm>
            <a:off x="4270320" y="2671920"/>
            <a:ext cx="36576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СНОВНЫЕ РЕГИОНЫ РЫБНОЙ ЛОВЛИ –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КРАЙНИЙ СЕВЕР (БАРЕНЦЕВО МОРЕ)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И ДАЛЬНИЙ ВОСТОК (ОХОТСКОЕ МОРЕ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C:\Documents and Settings\Ирина\Рабочий стол\Оля\рыная пром\dfjkdszxfhnmfcghbn-bcv.jpg"/>
          <p:cNvPicPr/>
          <p:nvPr/>
        </p:nvPicPr>
        <p:blipFill>
          <a:blip r:embed="rId1"/>
          <a:stretch/>
        </p:blipFill>
        <p:spPr>
          <a:xfrm>
            <a:off x="4572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C:\Documents and Settings\Ирина\Рабочий стол\Оля\рыная пром\d180d18bd0b1d0b0d0bad0b8.jpg"/>
          <p:cNvPicPr/>
          <p:nvPr/>
        </p:nvPicPr>
        <p:blipFill>
          <a:blip r:embed="rId2"/>
          <a:stretch/>
        </p:blipFill>
        <p:spPr>
          <a:xfrm>
            <a:off x="4643280" y="2357280"/>
            <a:ext cx="411192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ПРИ ЭТОМ БОЛЬШАЯ ЧАСТЬ РЫБОПЕРЕРАБАТЫВАЮЩИХ ПРЕДПРИЯТИЙ НАХОДИТЬСЯ НА СУШЕ (ТИХООКЕАНСКОЕ ПОБЕРЕЖЬЕ, МУРМАНСК, КАЛИНИНГРАД).</a:t>
            </a: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C:\Documents and Settings\Ирина\Рабочий стол\Оля\рыная пром\292471598.jpg"/>
          <p:cNvPicPr/>
          <p:nvPr/>
        </p:nvPicPr>
        <p:blipFill>
          <a:blip r:embed="rId1"/>
          <a:stretch/>
        </p:blipFill>
        <p:spPr>
          <a:xfrm>
            <a:off x="1285920" y="2125800"/>
            <a:ext cx="6080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ФОТОГРАФИИ - </a:t>
            </a:r>
            <a:r>
              <a:rPr b="0" lang="rm-CH" sz="2400" spc="-1" strike="noStrike">
                <a:solidFill>
                  <a:srgbClr val="575f6d"/>
                </a:solidFill>
                <a:latin typeface="Century Schoolbook"/>
              </a:rPr>
              <a:t>HTTP://YANDEX.RU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6:24:24Z</dcterms:created>
  <dc:creator>25</dc:creator>
  <dc:description/>
  <dc:language>en-US</dc:language>
  <cp:lastModifiedBy>Admin</cp:lastModifiedBy>
  <dcterms:modified xsi:type="dcterms:W3CDTF">2015-01-11T19:06:36Z</dcterms:modified>
  <cp:revision>12</cp:revision>
  <dc:subject/>
  <dc:title>Слайд 1</dc:title>
</cp:coreProperties>
</file>