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C3A-2061-4304-9475-59E3C803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1B5-3E15-4C57-9032-20098C37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D88-0640-4772-9B2B-607A47DA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DAF-28C5-4993-8B53-69C3E05E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5753-9CE4-45AD-B3F2-3F9EDC38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D841-2881-472C-A9D5-79E68511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C220-9E77-4F6B-8491-1E623771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B397-CB0F-4121-BBFC-02D060E3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453B-51AD-4F15-B9E9-32A00B11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011D-1E6E-4023-8E82-A6AE03AE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D141-543A-46FE-AFBC-4A294F62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9AE-101E-47AB-85D5-0D0E1B54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C38F-FB6C-4557-9E04-EC62A7A8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6224-D571-4FF4-9128-90FD12E6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2054-20B5-43E8-BE48-009FA850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5F1E-0C2E-43DB-9ED6-3498757E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F1C2-8258-4285-9AA0-F5E07A61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E9853-D441-4F71-9120-45C40D2C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75F97-2F7E-48C3-B6F3-A3FAE61E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94D3-5FF0-4D5C-8695-5968D916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6F1E0-FB3B-44F5-8A12-3866123F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8A9DF-22CA-4504-8700-15D7BD2C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87D-A52C-427D-8CD7-7C36EC70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907A-B102-47B0-AABA-4E699860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B614-3FED-4DB4-BC75-41E44F7E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DDA2B-BCD0-4425-938C-0A3BEB2B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B68A3-AAA3-4019-9EA4-61E49F3E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478EC-BDC1-47FC-96CA-E24D2137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62AD-1C24-4C3A-A5AD-FE823FDD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AD04B-27D1-466F-890E-AC9015CB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52574-94B0-4E10-A6E0-EF0F54C4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2723B-F821-42C0-B463-B7BC977C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ACB40-FB6F-4A6C-A230-A55B8B63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79D-0F6F-4DAF-B0C5-49BD85B0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D0896-D9BE-41B8-93B9-453A08F2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B1BF6-568F-4FF8-AE24-C74FB6F7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64B6-7EAB-4564-B491-78FD93BE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93556-630B-4063-AC3A-6E6D43C6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5762A-3218-4F5D-8B00-3DF25E0D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618EF-46A7-4943-AAC5-D8D96DF9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2B98C-1C07-47D8-B55B-F870EFAE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94105-8F2D-4063-B935-801C50EA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4F821-F64E-461D-ABC5-F9CDD467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CDB32-5D53-4A4C-ADE4-5F1CC5B7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B1A-D3B6-4B83-BB41-568BA0F0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E4C43-2351-4852-9449-ADA5F7E8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C1727-96DC-451F-B262-5CCBD96D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3DD1B-BFD0-4B6B-BD65-D7E2266C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A2B51-67FA-466C-B6B5-4B8C163F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F9660-0943-465C-A975-3A2F8911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62901-CD33-475C-9438-2A09ABB4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E3334-0E19-46D9-8531-7223CACB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DB071-BBA0-4EFF-9AAD-11AF2913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DCC62-A78A-4D52-B9BD-205CFED1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81FF2-A4E1-45E8-B632-2833FFE2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C77-13BB-4F7D-81B7-C6A84C49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48FE7-B714-47DF-A1FC-2319EDC8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4D65-A030-485E-9CBA-EEB7609D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1EF-ED3A-47C2-A2A0-C181E46A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94A-67A5-4E43-8155-CFC66679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30FC-F8FB-424A-BD8B-97604912343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B5D8-6772-46C6-AFBF-59F7BE4435F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934E-A682-4085-A79C-5A5685113F8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8147-E888-41F2-BDE1-7964C1DA4340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E751-6CBC-4423-847E-624A466DA41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755640" y="324000"/>
            <a:ext cx="8345520" cy="1535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rebuchet MS"/>
              </a:rPr>
              <a:t>Презентация для детей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990240" y="4724280"/>
            <a:ext cx="49798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готовила Воспитатель Сидоренко С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БДОУ д/сад № 71 Примор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10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dc972cfa643c6401d6ce57af200e403d"/>
          <p:cNvPicPr/>
          <p:nvPr/>
        </p:nvPicPr>
        <p:blipFill>
          <a:blip r:embed="rId2"/>
          <a:stretch/>
        </p:blipFill>
        <p:spPr>
          <a:xfrm>
            <a:off x="609480" y="2362320"/>
            <a:ext cx="3629160" cy="26445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з чего печётся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хлеб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Что едим мы на обед?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Хлеб печётся из муки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Что дают нам колос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Т. Лавр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minski"/>
          <p:cNvPicPr/>
          <p:nvPr/>
        </p:nvPicPr>
        <p:blipFill>
          <a:blip r:embed="rId2"/>
          <a:stretch/>
        </p:blipFill>
        <p:spPr>
          <a:xfrm>
            <a:off x="533520" y="1600200"/>
            <a:ext cx="286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vensk_yel"/>
          <p:cNvPicPr/>
          <p:nvPr/>
        </p:nvPicPr>
        <p:blipFill>
          <a:blip r:embed="rId3"/>
          <a:stretch/>
        </p:blipFill>
        <p:spPr>
          <a:xfrm>
            <a:off x="5276880" y="1600200"/>
            <a:ext cx="2781360" cy="2185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taco shells"/>
          <p:cNvPicPr/>
          <p:nvPr/>
        </p:nvPicPr>
        <p:blipFill>
          <a:blip r:embed="rId4"/>
          <a:stretch/>
        </p:blipFill>
        <p:spPr>
          <a:xfrm>
            <a:off x="533520" y="3886200"/>
            <a:ext cx="2971800" cy="2187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recipe_1204_1_h_orig"/>
          <p:cNvPicPr/>
          <p:nvPr/>
        </p:nvPicPr>
        <p:blipFill>
          <a:blip r:embed="rId5"/>
          <a:stretch/>
        </p:blipFill>
        <p:spPr>
          <a:xfrm>
            <a:off x="4741920" y="3938760"/>
            <a:ext cx="3851280" cy="21873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2"/>
          <p:cNvSpPr/>
          <p:nvPr/>
        </p:nvSpPr>
        <p:spPr>
          <a:xfrm>
            <a:off x="2286360" y="17524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баг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7543800" y="327672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в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609840" y="39625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так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7696080" y="56386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п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85440" y="3049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Пышный, мягкий, пропеченный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Подрумяненный слегка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Хлеб с горбушкой золочено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Шел к тебе издалек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В каждый дом, на каждый сто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Он пожаловал, пришел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В нем чудесное тепло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Сколько рук его растило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Сохраняло, берегло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4" descr="ekmek-sepeti"/>
          <p:cNvPicPr/>
          <p:nvPr/>
        </p:nvPicPr>
        <p:blipFill>
          <a:blip r:embed="rId1"/>
          <a:stretch/>
        </p:blipFill>
        <p:spPr>
          <a:xfrm>
            <a:off x="5715000" y="304920"/>
            <a:ext cx="3124080" cy="2576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1c0de4544a"/>
          <p:cNvPicPr/>
          <p:nvPr/>
        </p:nvPicPr>
        <p:blipFill>
          <a:blip r:embed="rId2"/>
          <a:stretch/>
        </p:blipFill>
        <p:spPr>
          <a:xfrm>
            <a:off x="4267080" y="3225960"/>
            <a:ext cx="469584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b822881f4897"/>
          <p:cNvPicPr/>
          <p:nvPr/>
        </p:nvPicPr>
        <p:blipFill>
          <a:blip r:embed="rId1"/>
          <a:srcRect l="0" t="0" r="0" b="27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ic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WordArt 3"/>
          <p:cNvSpPr txBox="1"/>
          <p:nvPr/>
        </p:nvSpPr>
        <p:spPr>
          <a:xfrm>
            <a:off x="684360" y="549360"/>
            <a:ext cx="7704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От куда хлеб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 нам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шёл?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image26"/>
          <p:cNvPicPr/>
          <p:nvPr/>
        </p:nvPicPr>
        <p:blipFill>
          <a:blip r:embed="rId1"/>
          <a:stretch/>
        </p:blipFill>
        <p:spPr>
          <a:xfrm>
            <a:off x="1476360" y="0"/>
            <a:ext cx="6210360" cy="3895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image12"/>
          <p:cNvPicPr/>
          <p:nvPr/>
        </p:nvPicPr>
        <p:blipFill>
          <a:blip r:embed="rId2"/>
          <a:stretch/>
        </p:blipFill>
        <p:spPr>
          <a:xfrm>
            <a:off x="0" y="3827520"/>
            <a:ext cx="4716360" cy="30304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" descr="untitled1.bmp"/>
          <p:cNvPicPr/>
          <p:nvPr/>
        </p:nvPicPr>
        <p:blipFill>
          <a:blip r:embed="rId3"/>
          <a:stretch/>
        </p:blipFill>
        <p:spPr>
          <a:xfrm>
            <a:off x="4572000" y="3846600"/>
            <a:ext cx="45720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6"/>
          <p:cNvPicPr/>
          <p:nvPr/>
        </p:nvPicPr>
        <p:blipFill>
          <a:blip r:embed="rId1"/>
          <a:stretch/>
        </p:blipFill>
        <p:spPr>
          <a:xfrm>
            <a:off x="1476360" y="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1116000" y="4630680"/>
            <a:ext cx="73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лывают в степь комбай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но в море корабл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х, машинища как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ляденье, посмотр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origin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3"/>
          <p:cNvSpPr txBox="1"/>
          <p:nvPr/>
        </p:nvSpPr>
        <p:spPr>
          <a:xfrm>
            <a:off x="395280" y="981000"/>
            <a:ext cx="85694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леб -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й жизни  голова!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ра</dc:creator>
  <dc:description/>
  <dc:language>en-US</dc:language>
  <cp:lastModifiedBy>Юра</cp:lastModifiedBy>
  <dcterms:modified xsi:type="dcterms:W3CDTF">2015-01-10T22:37:2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