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77B-5ACF-4F6D-90D8-736E7320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9C8B-6394-49C8-9216-72847DF3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0501-DAAE-4B47-A588-F544CB5F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EF59-7A01-48CE-B51C-734E6423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A12D-067C-4075-BC83-65B96A4C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03A2-2B8F-4282-A69F-014C2387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AFB2-24EC-42A9-BED3-A075A1F9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568-D37F-4FF7-956B-AD596009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0390-5A73-4FA8-8707-0B624BA0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616D-EA0A-4700-8B83-E92ECE77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ADB-3AF2-4EB7-B666-06734C96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EA3E-C134-4BE7-9003-7DCED057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BCF5-E08E-4E3F-9477-75A1E616A9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81440" y="1557000"/>
            <a:ext cx="932508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Bookman Old Style"/>
              </a:rPr>
              <a:t>Сочинение – описание природы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И.Айвазовски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«Лунная ночь на Черном мор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0" y="3041640"/>
            <a:ext cx="6073920" cy="3816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9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молвное море, лазурное море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ю очарован над бездной твоей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ы живо, ты дышишь; смятенной любовью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вожною думой наполнено ты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молвное море, лазурное море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крой мне глубокую тайну твою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. Жуковский «Море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0908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9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Художник Исаак Левитан говорил: 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«Настроение от природы мы, пожалуй, умеем передавать, скорее мы наделяем природу своими переживаниями; но природу, где чувствуешь не автора, а саму стихию, передать не всякий может».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Это целое искусство.</a:t>
            </a:r>
            <a:br>
              <a:rPr sz="3200"/>
            </a:br>
            <a:br>
              <a:rPr sz="3200"/>
            </a:b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Что такое искусств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0908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9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Искусство облагораживает людей, делает их добрее, пробуждает различные чувства, заставляет отвлечься от повседневности, увидеть и услышать красоту. В этом нам и помогают поэты, художники, музыканты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0908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9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Цель нашего урока – попытаться передать состояние природы, используя различные средства языка.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56000" y="333000"/>
            <a:ext cx="47880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9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Художник</a:t>
            </a:r>
            <a:br>
              <a:rPr sz="4000"/>
            </a:br>
            <a:br>
              <a:rPr sz="4000"/>
            </a:b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Иван Константинович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 Айвазовский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(1817-19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64652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284720" y="3643200"/>
            <a:ext cx="4859280" cy="3214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675640" cy="508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9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Самым ярким представителем романтического направления в русской живописи был замечательный художник Иван Константинович Айвазовский. Он жил в Феодосии и с раннего детства получил возможность наблюдать морскую стихию. Подобно гроссмейстеру, играющему вслепую, он создавал живописные полотна по памяти, не обращаясь к этюдам. Такие сеансы вызывали восторг поклонников: Айвазовский обладал феноменальной зрительной памятью. Созданные им образы стихии обобщали драматическую историю борьбы людей с природными сил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5310360" y="4324320"/>
            <a:ext cx="3833640" cy="2533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8028000" cy="508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9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Художник писал преимущественно морские пейзажи, поэтому его можно назвать маринистом. Если посмотреть значение этого слова в словаре, то мы увидим, что, действительно,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маринист – это художник, рисующий морские виды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, а это в свою очередь является одним из видов пейзажа, так как пейзаж – это и есть отражение состояния природы в искусстве.</a:t>
            </a:r>
            <a:br>
              <a:rPr sz="28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9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ездонное лунное небо. Создается впечатление таинственной ночной жизни. Безмолвие. Мутная подвижность воздуха настораживает. Чувствуется утомленность замерзшего моря. Едва слышно разрезая воду, возникает корабль-призрак на фоне бледно-желтой лунной дорожки, отороченной светом скучающей луны. Тихо, но неспокойно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07:13:59Z</dcterms:created>
  <dc:creator>user</dc:creator>
  <dc:description/>
  <dc:language>en-US</dc:language>
  <cp:lastModifiedBy>user</cp:lastModifiedBy>
  <dcterms:modified xsi:type="dcterms:W3CDTF">2015-01-11T11:05:18Z</dcterms:modified>
  <cp:revision>9</cp:revision>
  <dc:subject/>
  <dc:title>Сочинение – описание природы.</dc:title>
</cp:coreProperties>
</file>