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8CD-071C-45B7-8A5D-989B2D8B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1B8-D23D-4F1C-B79F-992B8F8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CDC-C27A-40DA-96CB-C06D2985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D89-297E-4401-ABDF-0AEF1531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C1B-2FDE-4332-A0A1-6D2FF74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C30-64CA-4A4C-8A93-E26C4333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38F-5878-4141-BEC4-5D2871C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2C4-3F71-4E58-9C22-CCBB6F6B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39D-FAB5-4319-9E13-3A4D0232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423-6D14-4027-BCE8-3525C08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631-704A-45DE-B863-98F83F8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D38-6CE5-414D-BAC8-3ED86E4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A954-A6B3-4BEB-A6DD-C09D7CB55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над сочи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Bookman Old Style"/>
              </a:rPr>
              <a:t>Что описываем?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33cc33"/>
                </a:solidFill>
                <a:latin typeface="Bookman Old Style"/>
              </a:rPr>
              <a:t>Как описыв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Море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ебо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о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ораб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И.Айвазовский «Девятый ва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03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Герои этого полотна показаны в исключительной ситуации. Всю ночь бушевал шторм, корабль потерпел крушение, люди продолжают сражаться с грозной стихией, которая готовит им еще одно испытание: обрушивает девятый в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По древнему поверью моряков, буря рождает девять валов. Девятый – самый сокрушительный, роковой и послед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Пессимистичное и оптимистичное в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План сочинения-опис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Вступление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(Передо мной картина И.Айвазовского «Девятый вал». На ней изображены моряки, потерпевшие кораблекрушен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Основная часть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(описываем все объекты, их цвет, состояние, свои ощуще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Заключение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(Эта картина вызывает… Я надеюсь… Увидев эту картину, я понял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7:13:59Z</dcterms:created>
  <dc:creator>user</dc:creator>
  <dc:description/>
  <dc:language>en-US</dc:language>
  <cp:lastModifiedBy>user</cp:lastModifiedBy>
  <dcterms:modified xsi:type="dcterms:W3CDTF">2015-01-11T11:05:49Z</dcterms:modified>
  <cp:revision>9</cp:revision>
  <dc:subject/>
  <dc:title>Сочинение – описание природы.</dc:title>
</cp:coreProperties>
</file>