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gif" ContentType="image/gif"/>
  <Override PartName="/ppt/media/image6.jpeg" ContentType="image/jpeg"/>
  <Override PartName="/ppt/media/image5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8209-2D5E-4111-A013-DA4F87C6BB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этом слайде для корректной  демонстрации надо нажимать стрелочку в левом нижнем углу «следующее действ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числения ус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29 Виленкин Н.Я. 2006 г.изд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этом слайде для корректной  демонстрации надо нажимать стрелочку в левом нижнем углу «следующее действ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B15-1CF2-4A1F-B096-C50041D4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2B9-6579-4121-AE8B-AB0024CE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14C-3DDD-4F0D-958E-6BACEBEE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DCC-BEAE-4EFE-83DE-9D8BDA1E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D03-A31B-4AC4-808B-96F491E0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35F-5CE9-4FFA-A083-CA143C60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92B-C7DA-46BC-B353-49D73FDC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483-DF24-4C6D-9ACE-43C86CB1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6B4-4D7A-448C-9D8D-95681E61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9FC-FCF8-4321-9B58-B240F95C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814-D192-4A69-9B89-6FD500BC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4CC-E582-41B0-9F25-44D7043D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A891-DBEA-40A9-A279-39B71CED8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7.jpeg"/><Relationship Id="rId37" Type="http://schemas.openxmlformats.org/officeDocument/2006/relationships/image" Target="../media/image7.jpeg"/><Relationship Id="rId38" Type="http://schemas.openxmlformats.org/officeDocument/2006/relationships/image" Target="../media/image6.jpeg"/><Relationship Id="rId39" Type="http://schemas.openxmlformats.org/officeDocument/2006/relationships/image" Target="../media/image6.jpeg"/><Relationship Id="rId40" Type="http://schemas.openxmlformats.org/officeDocument/2006/relationships/image" Target="../media/image6.jpeg"/><Relationship Id="rId41" Type="http://schemas.openxmlformats.org/officeDocument/2006/relationships/image" Target="../media/image6.jpeg"/><Relationship Id="rId42" Type="http://schemas.openxmlformats.org/officeDocument/2006/relationships/image" Target="../media/image6.jpeg"/><Relationship Id="rId43" Type="http://schemas.openxmlformats.org/officeDocument/2006/relationships/image" Target="../media/image6.jpeg"/><Relationship Id="rId44" Type="http://schemas.openxmlformats.org/officeDocument/2006/relationships/image" Target="../media/image6.jpeg"/><Relationship Id="rId45" Type="http://schemas.openxmlformats.org/officeDocument/2006/relationships/image" Target="../media/image6.jpeg"/><Relationship Id="rId46" Type="http://schemas.openxmlformats.org/officeDocument/2006/relationships/image" Target="../media/image6.jpeg"/><Relationship Id="rId47" Type="http://schemas.openxmlformats.org/officeDocument/2006/relationships/image" Target="../media/image6.jpeg"/><Relationship Id="rId48" Type="http://schemas.openxmlformats.org/officeDocument/2006/relationships/image" Target="../media/image7.jpeg"/><Relationship Id="rId49" Type="http://schemas.openxmlformats.org/officeDocument/2006/relationships/image" Target="../media/image7.jpeg"/><Relationship Id="rId50" Type="http://schemas.openxmlformats.org/officeDocument/2006/relationships/image" Target="../media/image6.jpe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7.jpeg"/><Relationship Id="rId37" Type="http://schemas.openxmlformats.org/officeDocument/2006/relationships/image" Target="../media/image7.jpeg"/><Relationship Id="rId38" Type="http://schemas.openxmlformats.org/officeDocument/2006/relationships/image" Target="../media/image6.jpeg"/><Relationship Id="rId39" Type="http://schemas.openxmlformats.org/officeDocument/2006/relationships/image" Target="../media/image6.jpeg"/><Relationship Id="rId40" Type="http://schemas.openxmlformats.org/officeDocument/2006/relationships/image" Target="../media/image6.jpeg"/><Relationship Id="rId41" Type="http://schemas.openxmlformats.org/officeDocument/2006/relationships/image" Target="../media/image6.jpeg"/><Relationship Id="rId42" Type="http://schemas.openxmlformats.org/officeDocument/2006/relationships/image" Target="../media/image6.jpeg"/><Relationship Id="rId43" Type="http://schemas.openxmlformats.org/officeDocument/2006/relationships/image" Target="../media/image6.jpeg"/><Relationship Id="rId44" Type="http://schemas.openxmlformats.org/officeDocument/2006/relationships/image" Target="../media/image6.jpeg"/><Relationship Id="rId45" Type="http://schemas.openxmlformats.org/officeDocument/2006/relationships/image" Target="../media/image6.jpeg"/><Relationship Id="rId46" Type="http://schemas.openxmlformats.org/officeDocument/2006/relationships/image" Target="../media/image6.jpeg"/><Relationship Id="rId47" Type="http://schemas.openxmlformats.org/officeDocument/2006/relationships/image" Target="../media/image6.jpeg"/><Relationship Id="rId48" Type="http://schemas.openxmlformats.org/officeDocument/2006/relationships/image" Target="../media/image7.jpeg"/><Relationship Id="rId49" Type="http://schemas.openxmlformats.org/officeDocument/2006/relationships/image" Target="../media/image7.jpeg"/><Relationship Id="rId50" Type="http://schemas.openxmlformats.org/officeDocument/2006/relationships/image" Target="../media/image6.jpe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6629400" y="3200400"/>
            <a:ext cx="1054080" cy="3657600"/>
          </a:xfrm>
          <a:custGeom>
            <a:avLst/>
            <a:gdLst/>
            <a:ahLst/>
            <a:rect l="l" t="t" r="r" b="b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" y="3200400"/>
            <a:ext cx="1054080" cy="3352680"/>
          </a:xfrm>
          <a:custGeom>
            <a:avLst/>
            <a:gdLst/>
            <a:ahLst/>
            <a:rect l="l" t="t" r="r" b="b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3200400"/>
            <a:ext cx="1054080" cy="3352680"/>
          </a:xfrm>
          <a:custGeom>
            <a:avLst/>
            <a:gdLst/>
            <a:ahLst/>
            <a:rect l="l" t="t" r="r" b="b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2921040"/>
            <a:ext cx="9220320" cy="304920"/>
          </a:xfrm>
          <a:custGeom>
            <a:avLst/>
            <a:gdLst/>
            <a:ahLst/>
            <a:rect l="l" t="t" r="r" b="b"/>
            <a:pathLst>
              <a:path w="5808" h="192">
                <a:moveTo>
                  <a:pt x="0" y="48"/>
                </a:moveTo>
                <a:lnTo>
                  <a:pt x="5808" y="0"/>
                </a:lnTo>
                <a:lnTo>
                  <a:pt x="5808" y="192"/>
                </a:lnTo>
                <a:lnTo>
                  <a:pt x="0" y="192"/>
                </a:lnTo>
                <a:lnTo>
                  <a:pt x="0" y="4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-2700360" y="4424040"/>
            <a:ext cx="12960000" cy="2821680"/>
            <a:chOff x="-2700360" y="4424040"/>
            <a:chExt cx="12960000" cy="2821680"/>
          </a:xfrm>
        </p:grpSpPr>
        <p:grpSp>
          <p:nvGrpSpPr>
            <p:cNvPr id="1086" name=""/>
            <p:cNvGrpSpPr/>
            <p:nvPr/>
          </p:nvGrpSpPr>
          <p:grpSpPr>
            <a:xfrm>
              <a:off x="-2655720" y="4424040"/>
              <a:ext cx="12880080" cy="576000"/>
              <a:chOff x="-2655720" y="4424040"/>
              <a:chExt cx="12880080" cy="576000"/>
            </a:xfrm>
          </p:grpSpPr>
          <p:sp>
            <p:nvSpPr>
              <p:cNvPr id="1087" name=""/>
              <p:cNvSpPr/>
              <p:nvPr/>
            </p:nvSpPr>
            <p:spPr>
              <a:xfrm flipH="1" rot="27600">
                <a:off x="-2654280" y="4436640"/>
                <a:ext cx="3246480" cy="42156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H="1" rot="27600">
                <a:off x="560160" y="4479480"/>
                <a:ext cx="3246480" cy="42156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 rot="27600">
                <a:off x="3760200" y="4522320"/>
                <a:ext cx="3247200" cy="42156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 rot="27600">
                <a:off x="6975720" y="4565160"/>
                <a:ext cx="3246480" cy="42156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1" name=""/>
            <p:cNvSpPr/>
            <p:nvPr/>
          </p:nvSpPr>
          <p:spPr>
            <a:xfrm>
              <a:off x="-2700360" y="4770720"/>
              <a:ext cx="12960000" cy="24750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4428720" y="3907440"/>
            <a:ext cx="5631480" cy="2048760"/>
            <a:chOff x="4428720" y="3907440"/>
            <a:chExt cx="5631480" cy="2048760"/>
          </a:xfrm>
        </p:grpSpPr>
        <p:grpSp>
          <p:nvGrpSpPr>
            <p:cNvPr id="1093" name=""/>
            <p:cNvGrpSpPr/>
            <p:nvPr/>
          </p:nvGrpSpPr>
          <p:grpSpPr>
            <a:xfrm>
              <a:off x="6409800" y="4136040"/>
              <a:ext cx="3378960" cy="1820160"/>
              <a:chOff x="6409800" y="4136040"/>
              <a:chExt cx="3378960" cy="182016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6409800" y="4136040"/>
                <a:ext cx="2339640" cy="1442880"/>
                <a:chOff x="6409800" y="4136040"/>
                <a:chExt cx="2339640" cy="1442880"/>
              </a:xfrm>
            </p:grpSpPr>
            <p:sp>
              <p:nvSpPr>
                <p:cNvPr id="1095" name=""/>
                <p:cNvSpPr/>
                <p:nvPr/>
              </p:nvSpPr>
              <p:spPr>
                <a:xfrm rot="1058400">
                  <a:off x="6481800" y="444924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rot="1058400">
                  <a:off x="6614280" y="4827600"/>
                  <a:ext cx="321120" cy="15084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058400">
                  <a:off x="6661800" y="484776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rot="1058400">
                  <a:off x="6698160" y="48618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rot="1058400">
                  <a:off x="6734520" y="487584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6672600" y="4226400"/>
                <a:ext cx="2339640" cy="1442880"/>
                <a:chOff x="6672600" y="4226400"/>
                <a:chExt cx="2339640" cy="1442880"/>
              </a:xfrm>
            </p:grpSpPr>
            <p:sp>
              <p:nvSpPr>
                <p:cNvPr id="1101" name=""/>
                <p:cNvSpPr/>
                <p:nvPr/>
              </p:nvSpPr>
              <p:spPr>
                <a:xfrm rot="1058400">
                  <a:off x="6744600" y="453960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rot="1058400">
                  <a:off x="6877080" y="4917960"/>
                  <a:ext cx="321120" cy="15084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058400">
                  <a:off x="6924600" y="49381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1058400">
                  <a:off x="6960960" y="49521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rot="1058400">
                  <a:off x="6997320" y="4966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6953760" y="4302000"/>
                <a:ext cx="2339280" cy="1442520"/>
                <a:chOff x="6953760" y="4302000"/>
                <a:chExt cx="2339280" cy="1442520"/>
              </a:xfrm>
            </p:grpSpPr>
            <p:sp>
              <p:nvSpPr>
                <p:cNvPr id="1107" name=""/>
                <p:cNvSpPr/>
                <p:nvPr/>
              </p:nvSpPr>
              <p:spPr>
                <a:xfrm rot="1058400">
                  <a:off x="7025760" y="4615200"/>
                  <a:ext cx="219528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rot="1058400">
                  <a:off x="7158240" y="4993560"/>
                  <a:ext cx="321120" cy="15084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058400">
                  <a:off x="7205760" y="50137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1058400">
                  <a:off x="7241760" y="50277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rot="1058400">
                  <a:off x="7278480" y="50418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7198560" y="4377600"/>
                <a:ext cx="2339640" cy="1442880"/>
                <a:chOff x="7198560" y="4377600"/>
                <a:chExt cx="2339640" cy="1442880"/>
              </a:xfrm>
            </p:grpSpPr>
            <p:sp>
              <p:nvSpPr>
                <p:cNvPr id="1113" name=""/>
                <p:cNvSpPr/>
                <p:nvPr/>
              </p:nvSpPr>
              <p:spPr>
                <a:xfrm rot="1058400">
                  <a:off x="7270560" y="469080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rot="1058400">
                  <a:off x="7403040" y="5069160"/>
                  <a:ext cx="321120" cy="150840"/>
                </a:xfrm>
                <a:prstGeom prst="ellips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058400">
                  <a:off x="7450560" y="50893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rot="1058400">
                  <a:off x="7486920" y="51033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rot="1058400">
                  <a:off x="7523280" y="51174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7447680" y="4438440"/>
                <a:ext cx="2341080" cy="1517760"/>
                <a:chOff x="7447680" y="4438440"/>
                <a:chExt cx="2341080" cy="1517760"/>
              </a:xfrm>
            </p:grpSpPr>
            <p:sp>
              <p:nvSpPr>
                <p:cNvPr id="1119" name=""/>
                <p:cNvSpPr/>
                <p:nvPr/>
              </p:nvSpPr>
              <p:spPr>
                <a:xfrm rot="1201200">
                  <a:off x="7520760" y="4789080"/>
                  <a:ext cx="219420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rot="1201200">
                  <a:off x="7652520" y="5133960"/>
                  <a:ext cx="320760" cy="150840"/>
                </a:xfrm>
                <a:prstGeom prst="ellipse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201200">
                  <a:off x="7699680" y="515376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rot="1201200">
                  <a:off x="7735680" y="516852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rot="1201200">
                  <a:off x="7772400" y="5182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4" name=""/>
              <p:cNvSpPr/>
              <p:nvPr/>
            </p:nvSpPr>
            <p:spPr>
              <a:xfrm>
                <a:off x="8035920" y="4687200"/>
                <a:ext cx="1200240" cy="54360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167600" y="4779720"/>
                <a:ext cx="1200240" cy="54360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6681240" y="3907440"/>
              <a:ext cx="3378960" cy="1820160"/>
              <a:chOff x="6681240" y="3907440"/>
              <a:chExt cx="3378960" cy="182016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6681240" y="3907440"/>
                <a:ext cx="2339640" cy="1442880"/>
                <a:chOff x="6681240" y="3907440"/>
                <a:chExt cx="2339640" cy="1442880"/>
              </a:xfrm>
            </p:grpSpPr>
            <p:sp>
              <p:nvSpPr>
                <p:cNvPr id="1128" name=""/>
                <p:cNvSpPr/>
                <p:nvPr/>
              </p:nvSpPr>
              <p:spPr>
                <a:xfrm rot="1058400">
                  <a:off x="6753240" y="422064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rot="1058400">
                  <a:off x="6885720" y="4599000"/>
                  <a:ext cx="321120" cy="150840"/>
                </a:xfrm>
                <a:prstGeom prst="ellipse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058400">
                  <a:off x="6933240" y="461916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rot="1058400">
                  <a:off x="6969600" y="46332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rot="1058400">
                  <a:off x="7005960" y="464724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6944040" y="3997800"/>
                <a:ext cx="2339640" cy="1442880"/>
                <a:chOff x="6944040" y="3997800"/>
                <a:chExt cx="2339640" cy="1442880"/>
              </a:xfrm>
            </p:grpSpPr>
            <p:sp>
              <p:nvSpPr>
                <p:cNvPr id="1134" name=""/>
                <p:cNvSpPr/>
                <p:nvPr/>
              </p:nvSpPr>
              <p:spPr>
                <a:xfrm rot="1058400">
                  <a:off x="7016040" y="431100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rot="1058400">
                  <a:off x="7148520" y="4689360"/>
                  <a:ext cx="321120" cy="150840"/>
                </a:xfrm>
                <a:prstGeom prst="ellipse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rot="1058400">
                  <a:off x="7196040" y="47095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rot="1058400">
                  <a:off x="7232400" y="47235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rot="1058400">
                  <a:off x="7268760" y="47376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7225200" y="4073400"/>
                <a:ext cx="2339280" cy="1442520"/>
                <a:chOff x="7225200" y="4073400"/>
                <a:chExt cx="2339280" cy="1442520"/>
              </a:xfrm>
            </p:grpSpPr>
            <p:sp>
              <p:nvSpPr>
                <p:cNvPr id="1140" name=""/>
                <p:cNvSpPr/>
                <p:nvPr/>
              </p:nvSpPr>
              <p:spPr>
                <a:xfrm rot="1058400">
                  <a:off x="7297200" y="4386600"/>
                  <a:ext cx="219528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rot="1058400">
                  <a:off x="7429680" y="4764960"/>
                  <a:ext cx="321120" cy="150840"/>
                </a:xfrm>
                <a:prstGeom prst="ellipse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rot="1058400">
                  <a:off x="7477200" y="47851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rot="1058400">
                  <a:off x="7513200" y="47991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1058400">
                  <a:off x="7549920" y="4813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7470000" y="4149000"/>
                <a:ext cx="2339640" cy="1442880"/>
                <a:chOff x="7470000" y="4149000"/>
                <a:chExt cx="2339640" cy="1442880"/>
              </a:xfrm>
            </p:grpSpPr>
            <p:sp>
              <p:nvSpPr>
                <p:cNvPr id="1146" name=""/>
                <p:cNvSpPr/>
                <p:nvPr/>
              </p:nvSpPr>
              <p:spPr>
                <a:xfrm rot="1058400">
                  <a:off x="7542000" y="446220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rot="1058400">
                  <a:off x="7674480" y="4840560"/>
                  <a:ext cx="321120" cy="150840"/>
                </a:xfrm>
                <a:prstGeom prst="ellipse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rot="1058400">
                  <a:off x="7722000" y="48607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rot="1058400">
                  <a:off x="7758360" y="48747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1058400">
                  <a:off x="7794720" y="48888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7719120" y="4209840"/>
                <a:ext cx="2341080" cy="1517760"/>
                <a:chOff x="7719120" y="4209840"/>
                <a:chExt cx="2341080" cy="1517760"/>
              </a:xfrm>
            </p:grpSpPr>
            <p:sp>
              <p:nvSpPr>
                <p:cNvPr id="1152" name=""/>
                <p:cNvSpPr/>
                <p:nvPr/>
              </p:nvSpPr>
              <p:spPr>
                <a:xfrm rot="1201200">
                  <a:off x="7792200" y="4560480"/>
                  <a:ext cx="219420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rot="1201200">
                  <a:off x="7923960" y="4905360"/>
                  <a:ext cx="320760" cy="150840"/>
                </a:xfrm>
                <a:prstGeom prst="ellips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rot="1201200">
                  <a:off x="7971120" y="492516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rot="1201200">
                  <a:off x="8007120" y="493992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rot="1201200">
                  <a:off x="8043840" y="49536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"/>
              <p:cNvSpPr/>
              <p:nvPr/>
            </p:nvSpPr>
            <p:spPr>
              <a:xfrm>
                <a:off x="8307360" y="4458600"/>
                <a:ext cx="1200240" cy="54360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439040" y="4551120"/>
                <a:ext cx="1200240" cy="54360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4428720" y="4136040"/>
              <a:ext cx="3378960" cy="1820160"/>
              <a:chOff x="4428720" y="4136040"/>
              <a:chExt cx="3378960" cy="1820160"/>
            </a:xfrm>
          </p:grpSpPr>
          <p:grpSp>
            <p:nvGrpSpPr>
              <p:cNvPr id="1160" name=""/>
              <p:cNvGrpSpPr/>
              <p:nvPr/>
            </p:nvGrpSpPr>
            <p:grpSpPr>
              <a:xfrm>
                <a:off x="4428720" y="4136040"/>
                <a:ext cx="2339640" cy="1442880"/>
                <a:chOff x="4428720" y="4136040"/>
                <a:chExt cx="2339640" cy="1442880"/>
              </a:xfrm>
            </p:grpSpPr>
            <p:sp>
              <p:nvSpPr>
                <p:cNvPr id="1161" name=""/>
                <p:cNvSpPr/>
                <p:nvPr/>
              </p:nvSpPr>
              <p:spPr>
                <a:xfrm rot="1058400">
                  <a:off x="4500720" y="444924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rot="1058400">
                  <a:off x="4633200" y="4827600"/>
                  <a:ext cx="321120" cy="150840"/>
                </a:xfrm>
                <a:prstGeom prst="ellips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rot="1058400">
                  <a:off x="4680720" y="484776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rot="1058400">
                  <a:off x="4717080" y="48618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rot="1058400">
                  <a:off x="4753440" y="487584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4691520" y="4226400"/>
                <a:ext cx="2339640" cy="1442880"/>
                <a:chOff x="4691520" y="4226400"/>
                <a:chExt cx="2339640" cy="1442880"/>
              </a:xfrm>
            </p:grpSpPr>
            <p:sp>
              <p:nvSpPr>
                <p:cNvPr id="1167" name=""/>
                <p:cNvSpPr/>
                <p:nvPr/>
              </p:nvSpPr>
              <p:spPr>
                <a:xfrm rot="1058400">
                  <a:off x="4763520" y="453960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rot="1058400">
                  <a:off x="4896000" y="4917960"/>
                  <a:ext cx="321120" cy="150840"/>
                </a:xfrm>
                <a:prstGeom prst="ellipse">
                  <a:avLst/>
                </a:pr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rot="1058400">
                  <a:off x="4943520" y="49381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rot="1058400">
                  <a:off x="4979880" y="49521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58400">
                  <a:off x="5016240" y="4966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4972680" y="4302000"/>
                <a:ext cx="2339280" cy="1442520"/>
                <a:chOff x="4972680" y="4302000"/>
                <a:chExt cx="2339280" cy="1442520"/>
              </a:xfrm>
            </p:grpSpPr>
            <p:sp>
              <p:nvSpPr>
                <p:cNvPr id="1173" name=""/>
                <p:cNvSpPr/>
                <p:nvPr/>
              </p:nvSpPr>
              <p:spPr>
                <a:xfrm rot="1058400">
                  <a:off x="5044680" y="4615200"/>
                  <a:ext cx="219528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rot="1058400">
                  <a:off x="5177160" y="4993560"/>
                  <a:ext cx="321120" cy="150840"/>
                </a:xfrm>
                <a:prstGeom prst="ellipse">
                  <a:avLst/>
                </a:prstGeom>
                <a:blipFill rotWithShape="0">
                  <a:blip r:embed="rId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rot="1058400">
                  <a:off x="5224680" y="50137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rot="1058400">
                  <a:off x="5260680" y="50277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rot="1058400">
                  <a:off x="5297400" y="50418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5217480" y="4377600"/>
                <a:ext cx="2339640" cy="1442880"/>
                <a:chOff x="5217480" y="4377600"/>
                <a:chExt cx="2339640" cy="1442880"/>
              </a:xfrm>
            </p:grpSpPr>
            <p:sp>
              <p:nvSpPr>
                <p:cNvPr id="1179" name=""/>
                <p:cNvSpPr/>
                <p:nvPr/>
              </p:nvSpPr>
              <p:spPr>
                <a:xfrm rot="1058400">
                  <a:off x="5289480" y="469080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rot="1058400">
                  <a:off x="5421960" y="5069160"/>
                  <a:ext cx="321120" cy="150840"/>
                </a:xfrm>
                <a:prstGeom prst="ellipse">
                  <a:avLst/>
                </a:prstGeom>
                <a:blipFill rotWithShape="0">
                  <a:blip r:embed="rId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rot="1058400">
                  <a:off x="5469480" y="50893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rot="1058400">
                  <a:off x="5505840" y="51033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rot="1058400">
                  <a:off x="5542200" y="51174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5466600" y="4438440"/>
                <a:ext cx="2341080" cy="1517760"/>
                <a:chOff x="5466600" y="4438440"/>
                <a:chExt cx="2341080" cy="1517760"/>
              </a:xfrm>
            </p:grpSpPr>
            <p:sp>
              <p:nvSpPr>
                <p:cNvPr id="1185" name=""/>
                <p:cNvSpPr/>
                <p:nvPr/>
              </p:nvSpPr>
              <p:spPr>
                <a:xfrm rot="1201200">
                  <a:off x="5539680" y="4789080"/>
                  <a:ext cx="219420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rot="1201200">
                  <a:off x="5671440" y="5133960"/>
                  <a:ext cx="320760" cy="150840"/>
                </a:xfrm>
                <a:prstGeom prst="ellipse">
                  <a:avLst/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rot="1201200">
                  <a:off x="5718600" y="515376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rot="1201200">
                  <a:off x="5754600" y="516852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rot="1201200">
                  <a:off x="5791320" y="5182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0" name=""/>
              <p:cNvSpPr/>
              <p:nvPr/>
            </p:nvSpPr>
            <p:spPr>
              <a:xfrm>
                <a:off x="6054840" y="4687200"/>
                <a:ext cx="1200240" cy="54360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186520" y="4779720"/>
                <a:ext cx="1200240" cy="54360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4700160" y="3983400"/>
              <a:ext cx="3378960" cy="1820520"/>
              <a:chOff x="4700160" y="3983400"/>
              <a:chExt cx="3378960" cy="182052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4700160" y="3983400"/>
                <a:ext cx="2339640" cy="1443240"/>
                <a:chOff x="4700160" y="3983400"/>
                <a:chExt cx="2339640" cy="1443240"/>
              </a:xfrm>
            </p:grpSpPr>
            <p:sp>
              <p:nvSpPr>
                <p:cNvPr id="1194" name=""/>
                <p:cNvSpPr/>
                <p:nvPr/>
              </p:nvSpPr>
              <p:spPr>
                <a:xfrm rot="1058400">
                  <a:off x="4772160" y="4296600"/>
                  <a:ext cx="2195640" cy="81612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 rot="1058400">
                  <a:off x="4904640" y="4675320"/>
                  <a:ext cx="321120" cy="150840"/>
                </a:xfrm>
                <a:prstGeom prst="ellipse">
                  <a:avLst/>
                </a:prstGeom>
                <a:blipFill rotWithShape="0">
                  <a:blip r:embed="rId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1058400">
                  <a:off x="4951800" y="469548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 rot="1058400">
                  <a:off x="4988160" y="470952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rot="1058400">
                  <a:off x="5024880" y="472356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4962960" y="4073760"/>
                <a:ext cx="2339640" cy="1443240"/>
                <a:chOff x="4962960" y="4073760"/>
                <a:chExt cx="2339640" cy="1443240"/>
              </a:xfrm>
            </p:grpSpPr>
            <p:sp>
              <p:nvSpPr>
                <p:cNvPr id="1200" name=""/>
                <p:cNvSpPr/>
                <p:nvPr/>
              </p:nvSpPr>
              <p:spPr>
                <a:xfrm rot="1058400">
                  <a:off x="5034960" y="4386960"/>
                  <a:ext cx="2195640" cy="81612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rot="1058400">
                  <a:off x="5167440" y="4765680"/>
                  <a:ext cx="321120" cy="150840"/>
                </a:xfrm>
                <a:prstGeom prst="ellipse">
                  <a:avLst/>
                </a:prstGeom>
                <a:blipFill rotWithShape="0">
                  <a:blip r:embed="rId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rot="1058400">
                  <a:off x="5214600" y="47858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rot="1058400">
                  <a:off x="5250960" y="479988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rot="1058400">
                  <a:off x="5287680" y="48139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5244120" y="4149360"/>
                <a:ext cx="2339280" cy="1442880"/>
                <a:chOff x="5244120" y="4149360"/>
                <a:chExt cx="2339280" cy="1442880"/>
              </a:xfrm>
            </p:grpSpPr>
            <p:sp>
              <p:nvSpPr>
                <p:cNvPr id="1206" name=""/>
                <p:cNvSpPr/>
                <p:nvPr/>
              </p:nvSpPr>
              <p:spPr>
                <a:xfrm rot="1058400">
                  <a:off x="5316120" y="4462560"/>
                  <a:ext cx="2195280" cy="81612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rot="1058400">
                  <a:off x="5448600" y="4841280"/>
                  <a:ext cx="321120" cy="150840"/>
                </a:xfrm>
                <a:prstGeom prst="ellipse">
                  <a:avLst/>
                </a:prstGeom>
                <a:blipFill rotWithShape="0">
                  <a:blip r:embed="rId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 rot="1058400">
                  <a:off x="5495760" y="48614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 rot="1058400">
                  <a:off x="5531760" y="487548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 rot="1058400">
                  <a:off x="5568840" y="48895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5488920" y="4224960"/>
                <a:ext cx="2339640" cy="1443240"/>
                <a:chOff x="5488920" y="4224960"/>
                <a:chExt cx="2339640" cy="1443240"/>
              </a:xfrm>
            </p:grpSpPr>
            <p:sp>
              <p:nvSpPr>
                <p:cNvPr id="1212" name=""/>
                <p:cNvSpPr/>
                <p:nvPr/>
              </p:nvSpPr>
              <p:spPr>
                <a:xfrm rot="1058400">
                  <a:off x="5560920" y="4538160"/>
                  <a:ext cx="2195640" cy="81612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 rot="1058400">
                  <a:off x="5693400" y="4916880"/>
                  <a:ext cx="321120" cy="150840"/>
                </a:xfrm>
                <a:prstGeom prst="ellipse">
                  <a:avLst/>
                </a:prstGeom>
                <a:blipFill rotWithShape="0">
                  <a:blip r:embed="rId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 rot="1058400">
                  <a:off x="5740560" y="49370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 rot="1058400">
                  <a:off x="5776920" y="495108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rot="1058400">
                  <a:off x="5813640" y="49651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5738040" y="4285800"/>
                <a:ext cx="2341080" cy="1518120"/>
                <a:chOff x="5738040" y="4285800"/>
                <a:chExt cx="2341080" cy="1518120"/>
              </a:xfrm>
            </p:grpSpPr>
            <p:sp>
              <p:nvSpPr>
                <p:cNvPr id="1218" name=""/>
                <p:cNvSpPr/>
                <p:nvPr/>
              </p:nvSpPr>
              <p:spPr>
                <a:xfrm rot="1201200">
                  <a:off x="5811120" y="4636440"/>
                  <a:ext cx="2194200" cy="81612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 rot="1201200">
                  <a:off x="5942880" y="4981680"/>
                  <a:ext cx="320760" cy="150840"/>
                </a:xfrm>
                <a:prstGeom prst="ellipse">
                  <a:avLst/>
                </a:prstGeom>
                <a:blipFill rotWithShape="0">
                  <a:blip r:embed="rId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 rot="1201200">
                  <a:off x="5990040" y="500148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rot="1201200">
                  <a:off x="6026040" y="501624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rot="1201200">
                  <a:off x="6062760" y="50299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3" name=""/>
              <p:cNvSpPr/>
              <p:nvPr/>
            </p:nvSpPr>
            <p:spPr>
              <a:xfrm>
                <a:off x="6326280" y="4534920"/>
                <a:ext cx="1200240" cy="54396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457960" y="4627440"/>
                <a:ext cx="1200240" cy="54396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5" name=""/>
          <p:cNvSpPr/>
          <p:nvPr/>
        </p:nvSpPr>
        <p:spPr>
          <a:xfrm>
            <a:off x="250920" y="3141720"/>
            <a:ext cx="288720" cy="3276720"/>
          </a:xfrm>
          <a:custGeom>
            <a:avLst/>
            <a:gdLst/>
            <a:ahLst/>
            <a:rect l="l" t="t" r="r" b="b"/>
            <a:pathLst>
              <a:path w="480" h="4176">
                <a:moveTo>
                  <a:pt x="48" y="4128"/>
                </a:moveTo>
                <a:lnTo>
                  <a:pt x="0" y="96"/>
                </a:lnTo>
                <a:lnTo>
                  <a:pt x="48" y="48"/>
                </a:lnTo>
                <a:lnTo>
                  <a:pt x="192" y="0"/>
                </a:lnTo>
                <a:lnTo>
                  <a:pt x="288" y="0"/>
                </a:lnTo>
                <a:lnTo>
                  <a:pt x="384" y="48"/>
                </a:lnTo>
                <a:lnTo>
                  <a:pt x="432" y="96"/>
                </a:lnTo>
                <a:lnTo>
                  <a:pt x="480" y="4128"/>
                </a:lnTo>
                <a:lnTo>
                  <a:pt x="288" y="4176"/>
                </a:lnTo>
                <a:lnTo>
                  <a:pt x="192" y="4176"/>
                </a:lnTo>
                <a:lnTo>
                  <a:pt x="48" y="4128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50920" y="6093000"/>
            <a:ext cx="21744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50920" y="4797360"/>
            <a:ext cx="21744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333360"/>
            <a:ext cx="9144000" cy="23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Georgia"/>
              </a:rPr>
              <a:t>Наступил момент, когда  паво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Georgia"/>
              </a:rPr>
              <a:t>начал убывать на 2 см в час. Как измен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Georgia"/>
              </a:rPr>
              <a:t>уровень воды в реке за сутки в пер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Georgia"/>
              </a:rPr>
              <a:t>спа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rot="10800000">
            <a:off x="900000" y="4508640"/>
            <a:ext cx="287280" cy="1800000"/>
          </a:xfrm>
          <a:prstGeom prst="upArrow">
            <a:avLst>
              <a:gd name="adj1" fmla="val 50000"/>
              <a:gd name="adj2" fmla="val 1566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1332000" y="3573360"/>
            <a:ext cx="5257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-2) * 24 = -48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4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-0.00087 0.20347 E">
                                      <p:cBhvr>
                                        <p:cTn id="250" dur="2000" fill="hold"/>
                                        <p:tgtEl>
                                          <p:spTgt spid="10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L 1.94444E-006 0.19421 E">
                                      <p:cBhvr>
                                        <p:cTn id="252" dur="2000" fill="hold"/>
                                        <p:tgtEl>
                                          <p:spTgt spid="10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 txBox="1"/>
          <p:nvPr/>
        </p:nvSpPr>
        <p:spPr>
          <a:xfrm rot="21334200">
            <a:off x="365040" y="420480"/>
            <a:ext cx="7542360" cy="28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ubTitle"/>
          </p:nvPr>
        </p:nvSpPr>
        <p:spPr>
          <a:xfrm>
            <a:off x="169236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П. 35 – 1 часть стр 19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1143 (а, в, г, 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1144 (а, в , г, 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114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35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65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89000"/>
            <a:ext cx="51451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Georgia"/>
              </a:rPr>
              <a:t>Математический дикт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3440" y="2460600"/>
            <a:ext cx="116820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7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11714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Georgia"/>
              </a:rPr>
              <a:t>Вычисл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2000" y="844560"/>
            <a:ext cx="207000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844560"/>
            <a:ext cx="221148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2</a:t>
            </a:r>
            <a:r>
              <a:rPr b="1" i="1" lang="en-US" sz="2400" spc="-1" strike="noStrike">
                <a:solidFill>
                  <a:srgbClr val="cc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188280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8,3 + (–11,5) – (– 1,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4880" y="1989000"/>
            <a:ext cx="71424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04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4966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1049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91280" y="188280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6,1 + (–12,4) – (– 2,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2460600"/>
            <a:ext cx="116856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5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4880" y="3429000"/>
            <a:ext cx="71424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04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4966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28760" y="3179880"/>
            <a:ext cx="3417480" cy="1019160"/>
            <a:chOff x="428760" y="3179880"/>
            <a:chExt cx="3417480" cy="1019160"/>
          </a:xfrm>
        </p:grpSpPr>
        <p:grpSp>
          <p:nvGrpSpPr>
            <p:cNvPr id="59" name=""/>
            <p:cNvGrpSpPr/>
            <p:nvPr/>
          </p:nvGrpSpPr>
          <p:grpSpPr>
            <a:xfrm>
              <a:off x="428760" y="3179880"/>
              <a:ext cx="1265040" cy="1019160"/>
              <a:chOff x="428760" y="3179880"/>
              <a:chExt cx="1265040" cy="1019160"/>
            </a:xfrm>
          </p:grpSpPr>
          <p:sp>
            <p:nvSpPr>
              <p:cNvPr id="60" name=""/>
              <p:cNvSpPr/>
              <p:nvPr/>
            </p:nvSpPr>
            <p:spPr>
              <a:xfrm>
                <a:off x="455760" y="3179880"/>
                <a:ext cx="1238040" cy="1019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040040" y="3697560"/>
                <a:ext cx="482400" cy="14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84320" y="3364200"/>
                <a:ext cx="40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8760" y="3430800"/>
                <a:ext cx="66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–</a:t>
                </a: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67040" y="3654720"/>
                <a:ext cx="4060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1680" y="3284640"/>
                <a:ext cx="988920" cy="77148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1579680" y="34689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49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868400" y="3179880"/>
              <a:ext cx="1265040" cy="1019160"/>
              <a:chOff x="1868400" y="3179880"/>
              <a:chExt cx="1265040" cy="1019160"/>
            </a:xfrm>
          </p:grpSpPr>
          <p:sp>
            <p:nvSpPr>
              <p:cNvPr id="68" name=""/>
              <p:cNvSpPr/>
              <p:nvPr/>
            </p:nvSpPr>
            <p:spPr>
              <a:xfrm>
                <a:off x="1895400" y="3179880"/>
                <a:ext cx="1238040" cy="1019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479680" y="3697560"/>
                <a:ext cx="482400" cy="14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523960" y="3364200"/>
                <a:ext cx="40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868400" y="3430800"/>
                <a:ext cx="66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–</a:t>
                </a: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506680" y="3654720"/>
                <a:ext cx="4060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11320" y="3284640"/>
                <a:ext cx="988920" cy="77148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019680" y="3364200"/>
              <a:ext cx="826560" cy="656640"/>
              <a:chOff x="3019680" y="3364200"/>
              <a:chExt cx="826560" cy="656640"/>
            </a:xfrm>
          </p:grpSpPr>
          <p:sp>
            <p:nvSpPr>
              <p:cNvPr id="75" name=""/>
              <p:cNvSpPr/>
              <p:nvPr/>
            </p:nvSpPr>
            <p:spPr>
              <a:xfrm>
                <a:off x="3363840" y="3697560"/>
                <a:ext cx="482400" cy="14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408480" y="3364200"/>
                <a:ext cx="4060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019680" y="3430800"/>
                <a:ext cx="30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390840" y="3654720"/>
                <a:ext cx="4060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4214880" y="5229360"/>
            <a:ext cx="71424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04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4966"/>
                </a:solidFill>
                <a:latin typeface="Arial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63640" y="5864400"/>
            <a:ext cx="792360" cy="804600"/>
            <a:chOff x="1763640" y="5864400"/>
            <a:chExt cx="792360" cy="804600"/>
          </a:xfrm>
        </p:grpSpPr>
        <p:sp>
          <p:nvSpPr>
            <p:cNvPr id="81" name=""/>
            <p:cNvSpPr/>
            <p:nvPr/>
          </p:nvSpPr>
          <p:spPr>
            <a:xfrm>
              <a:off x="1763640" y="5864400"/>
              <a:ext cx="792360" cy="80460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804600"/>
                <a:gd name="textAreaBottom" fmla="*/ 766080 h 804600"/>
              </a:gdLst>
              <a:ahLst/>
              <a:rect l="textAreaLeft" t="textAreaTop" r="textAreaRight" b="textAreaBottom"/>
              <a:pathLst>
                <a:path w="21600" h="21934">
                  <a:moveTo>
                    <a:pt x="3600" y="0"/>
                  </a:moveTo>
                  <a:arcTo wR="3600" hR="3600" stAng="16200000" swAng="-5400000"/>
                  <a:lnTo>
                    <a:pt x="0" y="18334"/>
                  </a:lnTo>
                  <a:arcTo wR="3600" hR="3600" stAng="10800000" swAng="-5400000"/>
                  <a:lnTo>
                    <a:pt x="18000" y="219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48040" y="6237360"/>
              <a:ext cx="452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24000" y="5877000"/>
              <a:ext cx="382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63640" y="5970600"/>
              <a:ext cx="33984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24000" y="6237360"/>
              <a:ext cx="37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546200" y="4260960"/>
            <a:ext cx="116856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435640" y="3213000"/>
            <a:ext cx="3417480" cy="1019160"/>
            <a:chOff x="5435640" y="3213000"/>
            <a:chExt cx="3417480" cy="1019160"/>
          </a:xfrm>
        </p:grpSpPr>
        <p:grpSp>
          <p:nvGrpSpPr>
            <p:cNvPr id="88" name=""/>
            <p:cNvGrpSpPr/>
            <p:nvPr/>
          </p:nvGrpSpPr>
          <p:grpSpPr>
            <a:xfrm>
              <a:off x="5435640" y="3213000"/>
              <a:ext cx="1265040" cy="1019160"/>
              <a:chOff x="5435640" y="3213000"/>
              <a:chExt cx="1265040" cy="1019160"/>
            </a:xfrm>
          </p:grpSpPr>
          <p:sp>
            <p:nvSpPr>
              <p:cNvPr id="89" name=""/>
              <p:cNvSpPr/>
              <p:nvPr/>
            </p:nvSpPr>
            <p:spPr>
              <a:xfrm>
                <a:off x="5462640" y="3213000"/>
                <a:ext cx="1238040" cy="1019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046920" y="3730680"/>
                <a:ext cx="482400" cy="14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091200" y="3397320"/>
                <a:ext cx="40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35640" y="3463920"/>
                <a:ext cx="66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–</a:t>
                </a: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073920" y="3687840"/>
                <a:ext cx="4060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78560" y="3317760"/>
                <a:ext cx="988920" cy="77148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586560" y="3502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49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875280" y="3213000"/>
              <a:ext cx="1265040" cy="1019160"/>
              <a:chOff x="6875280" y="3213000"/>
              <a:chExt cx="1265040" cy="1019160"/>
            </a:xfrm>
          </p:grpSpPr>
          <p:sp>
            <p:nvSpPr>
              <p:cNvPr id="97" name=""/>
              <p:cNvSpPr/>
              <p:nvPr/>
            </p:nvSpPr>
            <p:spPr>
              <a:xfrm>
                <a:off x="6902280" y="3213000"/>
                <a:ext cx="1238040" cy="1019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86560" y="3730680"/>
                <a:ext cx="482400" cy="14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530840" y="3397320"/>
                <a:ext cx="40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875280" y="3463920"/>
                <a:ext cx="66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–</a:t>
                </a: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13560" y="3687840"/>
                <a:ext cx="4060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018200" y="3317760"/>
                <a:ext cx="988920" cy="77148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026560" y="3397320"/>
              <a:ext cx="826560" cy="656640"/>
              <a:chOff x="8026560" y="3397320"/>
              <a:chExt cx="826560" cy="656640"/>
            </a:xfrm>
          </p:grpSpPr>
          <p:sp>
            <p:nvSpPr>
              <p:cNvPr id="104" name=""/>
              <p:cNvSpPr/>
              <p:nvPr/>
            </p:nvSpPr>
            <p:spPr>
              <a:xfrm>
                <a:off x="8370720" y="3730680"/>
                <a:ext cx="482400" cy="14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415360" y="3397320"/>
                <a:ext cx="4060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26560" y="3463920"/>
                <a:ext cx="30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397720" y="3687840"/>
                <a:ext cx="4060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6553080" y="4260960"/>
            <a:ext cx="116856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0920" y="4915080"/>
            <a:ext cx="3470040" cy="1019160"/>
            <a:chOff x="250920" y="4915080"/>
            <a:chExt cx="3470040" cy="1019160"/>
          </a:xfrm>
        </p:grpSpPr>
        <p:grpSp>
          <p:nvGrpSpPr>
            <p:cNvPr id="110" name=""/>
            <p:cNvGrpSpPr/>
            <p:nvPr/>
          </p:nvGrpSpPr>
          <p:grpSpPr>
            <a:xfrm>
              <a:off x="473040" y="4915080"/>
              <a:ext cx="1265040" cy="1019160"/>
              <a:chOff x="473040" y="4915080"/>
              <a:chExt cx="1265040" cy="1019160"/>
            </a:xfrm>
          </p:grpSpPr>
          <p:sp>
            <p:nvSpPr>
              <p:cNvPr id="111" name=""/>
              <p:cNvSpPr/>
              <p:nvPr/>
            </p:nvSpPr>
            <p:spPr>
              <a:xfrm>
                <a:off x="500040" y="4915080"/>
                <a:ext cx="1238040" cy="1019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84320" y="5432760"/>
                <a:ext cx="482400" cy="14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28600" y="5099400"/>
                <a:ext cx="40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73040" y="5166000"/>
                <a:ext cx="66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–</a:t>
                </a: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11320" y="5389920"/>
                <a:ext cx="4060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5960" y="5019840"/>
                <a:ext cx="988920" cy="77148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50920" y="515772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               </a:t>
              </a: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–          </a:t>
              </a: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547640" y="5110200"/>
              <a:ext cx="1093680" cy="656640"/>
              <a:chOff x="1547640" y="5110200"/>
              <a:chExt cx="1093680" cy="656640"/>
            </a:xfrm>
          </p:grpSpPr>
          <p:sp>
            <p:nvSpPr>
              <p:cNvPr id="119" name=""/>
              <p:cNvSpPr/>
              <p:nvPr/>
            </p:nvSpPr>
            <p:spPr>
              <a:xfrm>
                <a:off x="2158560" y="5443560"/>
                <a:ext cx="482760" cy="14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03200" y="5110200"/>
                <a:ext cx="40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47640" y="5176800"/>
                <a:ext cx="66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85560" y="5400720"/>
                <a:ext cx="40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2627280" y="5111640"/>
              <a:ext cx="1093680" cy="656640"/>
              <a:chOff x="2627280" y="5111640"/>
              <a:chExt cx="1093680" cy="656640"/>
            </a:xfrm>
          </p:grpSpPr>
          <p:sp>
            <p:nvSpPr>
              <p:cNvPr id="124" name=""/>
              <p:cNvSpPr/>
              <p:nvPr/>
            </p:nvSpPr>
            <p:spPr>
              <a:xfrm>
                <a:off x="3238200" y="5445000"/>
                <a:ext cx="482760" cy="14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2840" y="5111640"/>
                <a:ext cx="40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627280" y="5178240"/>
                <a:ext cx="66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65200" y="5402160"/>
                <a:ext cx="40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6877080" y="5877000"/>
            <a:ext cx="792000" cy="819000"/>
            <a:chOff x="6877080" y="5877000"/>
            <a:chExt cx="792000" cy="819000"/>
          </a:xfrm>
        </p:grpSpPr>
        <p:sp>
          <p:nvSpPr>
            <p:cNvPr id="129" name=""/>
            <p:cNvSpPr/>
            <p:nvPr/>
          </p:nvSpPr>
          <p:spPr>
            <a:xfrm>
              <a:off x="6877080" y="5891040"/>
              <a:ext cx="792000" cy="80496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804960"/>
                <a:gd name="textAreaBottom" fmla="*/ 766440 h 804960"/>
              </a:gdLst>
              <a:ahLst/>
              <a:rect l="textAreaLeft" t="textAreaTop" r="textAreaRight" b="textAreaBottom"/>
              <a:pathLst>
                <a:path w="21600" h="21953">
                  <a:moveTo>
                    <a:pt x="3600" y="0"/>
                  </a:moveTo>
                  <a:arcTo wR="3600" hR="3600" stAng="16200000" swAng="-5400000"/>
                  <a:lnTo>
                    <a:pt x="0" y="18353"/>
                  </a:lnTo>
                  <a:arcTo wR="3600" hR="3600" stAng="10800000" swAng="-5400000"/>
                  <a:lnTo>
                    <a:pt x="18000" y="219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61120" y="6264360"/>
              <a:ext cx="452520" cy="14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36000" y="5877000"/>
              <a:ext cx="382320" cy="366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7080" y="5997600"/>
              <a:ext cx="339840" cy="45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36000" y="6308640"/>
              <a:ext cx="379080" cy="366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08720" y="4941720"/>
            <a:ext cx="3470040" cy="1019160"/>
            <a:chOff x="5508720" y="4941720"/>
            <a:chExt cx="3470040" cy="1019160"/>
          </a:xfrm>
        </p:grpSpPr>
        <p:grpSp>
          <p:nvGrpSpPr>
            <p:cNvPr id="135" name=""/>
            <p:cNvGrpSpPr/>
            <p:nvPr/>
          </p:nvGrpSpPr>
          <p:grpSpPr>
            <a:xfrm>
              <a:off x="5730840" y="4941720"/>
              <a:ext cx="1265040" cy="1019160"/>
              <a:chOff x="5730840" y="4941720"/>
              <a:chExt cx="1265040" cy="1019160"/>
            </a:xfrm>
          </p:grpSpPr>
          <p:sp>
            <p:nvSpPr>
              <p:cNvPr id="136" name=""/>
              <p:cNvSpPr/>
              <p:nvPr/>
            </p:nvSpPr>
            <p:spPr>
              <a:xfrm>
                <a:off x="5757840" y="4941720"/>
                <a:ext cx="1238040" cy="1019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42120" y="5459400"/>
                <a:ext cx="482400" cy="14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86400" y="5126040"/>
                <a:ext cx="40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30840" y="5192640"/>
                <a:ext cx="66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–</a:t>
                </a: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69120" y="5416560"/>
                <a:ext cx="4060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3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73760" y="5046480"/>
                <a:ext cx="988920" cy="77148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508720" y="520380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               </a:t>
              </a: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–          </a:t>
              </a: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6805440" y="5137200"/>
              <a:ext cx="1093680" cy="656640"/>
              <a:chOff x="6805440" y="5137200"/>
              <a:chExt cx="1093680" cy="656640"/>
            </a:xfrm>
          </p:grpSpPr>
          <p:sp>
            <p:nvSpPr>
              <p:cNvPr id="144" name=""/>
              <p:cNvSpPr/>
              <p:nvPr/>
            </p:nvSpPr>
            <p:spPr>
              <a:xfrm>
                <a:off x="7416360" y="5470560"/>
                <a:ext cx="482760" cy="14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61000" y="5137200"/>
                <a:ext cx="40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805440" y="5203800"/>
                <a:ext cx="66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443360" y="5427720"/>
                <a:ext cx="40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7885080" y="5138640"/>
              <a:ext cx="1093680" cy="656640"/>
              <a:chOff x="7885080" y="5138640"/>
              <a:chExt cx="1093680" cy="656640"/>
            </a:xfrm>
          </p:grpSpPr>
          <p:sp>
            <p:nvSpPr>
              <p:cNvPr id="149" name=""/>
              <p:cNvSpPr/>
              <p:nvPr/>
            </p:nvSpPr>
            <p:spPr>
              <a:xfrm>
                <a:off x="8496000" y="5472000"/>
                <a:ext cx="482760" cy="14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40640" y="5138640"/>
                <a:ext cx="40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885080" y="5205240"/>
                <a:ext cx="66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523000" y="5429160"/>
                <a:ext cx="40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3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2340000" y="189000"/>
            <a:ext cx="460836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Georgia"/>
              </a:rPr>
              <a:t>Проверьте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9640" y="333360"/>
            <a:ext cx="3492720" cy="1152720"/>
          </a:xfrm>
          <a:prstGeom prst="wedgeEllipseCallout">
            <a:avLst>
              <a:gd name="adj1" fmla="val -27634"/>
              <a:gd name="adj2" fmla="val 18057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Georgia"/>
              </a:rPr>
              <a:t>Вывод?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40360" y="333360"/>
            <a:ext cx="4608360" cy="265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ри умножении двух чисел с разными знаками в результате получается отрицательное число, модуль которого равен произведению модулей множ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4941720"/>
            <a:ext cx="792360" cy="8218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32360" y="4941720"/>
            <a:ext cx="6382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3932280"/>
            <a:ext cx="792000" cy="8218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32360" y="3933720"/>
            <a:ext cx="6382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931920" y="5200200"/>
            <a:ext cx="273600" cy="273600"/>
            <a:chOff x="3931920" y="5200200"/>
            <a:chExt cx="273600" cy="273600"/>
          </a:xfrm>
        </p:grpSpPr>
        <p:sp>
          <p:nvSpPr>
            <p:cNvPr id="161" name=""/>
            <p:cNvSpPr/>
            <p:nvPr/>
          </p:nvSpPr>
          <p:spPr>
            <a:xfrm>
              <a:off x="3931920" y="5218200"/>
              <a:ext cx="273600" cy="23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951000" y="5200200"/>
              <a:ext cx="236160" cy="27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931920" y="4227120"/>
            <a:ext cx="273600" cy="273600"/>
            <a:chOff x="3931920" y="4227120"/>
            <a:chExt cx="273600" cy="273600"/>
          </a:xfrm>
        </p:grpSpPr>
        <p:sp>
          <p:nvSpPr>
            <p:cNvPr id="164" name=""/>
            <p:cNvSpPr/>
            <p:nvPr/>
          </p:nvSpPr>
          <p:spPr>
            <a:xfrm>
              <a:off x="3931920" y="4245120"/>
              <a:ext cx="273600" cy="23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951000" y="4227120"/>
              <a:ext cx="236160" cy="27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437080" y="4940280"/>
            <a:ext cx="792360" cy="780840"/>
            <a:chOff x="5437080" y="4940280"/>
            <a:chExt cx="792360" cy="780840"/>
          </a:xfrm>
        </p:grpSpPr>
        <p:sp>
          <p:nvSpPr>
            <p:cNvPr id="167" name=""/>
            <p:cNvSpPr/>
            <p:nvPr/>
          </p:nvSpPr>
          <p:spPr>
            <a:xfrm>
              <a:off x="5437080" y="4940280"/>
              <a:ext cx="79236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8160" y="533700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437080" y="3932280"/>
            <a:ext cx="792360" cy="780840"/>
            <a:chOff x="5437080" y="3932280"/>
            <a:chExt cx="792360" cy="780840"/>
          </a:xfrm>
        </p:grpSpPr>
        <p:sp>
          <p:nvSpPr>
            <p:cNvPr id="170" name=""/>
            <p:cNvSpPr/>
            <p:nvPr/>
          </p:nvSpPr>
          <p:spPr>
            <a:xfrm>
              <a:off x="5437080" y="3932280"/>
              <a:ext cx="79236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16360" y="432288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987640" y="3933720"/>
            <a:ext cx="792000" cy="781200"/>
            <a:chOff x="2987640" y="3933720"/>
            <a:chExt cx="792000" cy="781200"/>
          </a:xfrm>
        </p:grpSpPr>
        <p:sp>
          <p:nvSpPr>
            <p:cNvPr id="173" name=""/>
            <p:cNvSpPr/>
            <p:nvPr/>
          </p:nvSpPr>
          <p:spPr>
            <a:xfrm>
              <a:off x="2987640" y="3933720"/>
              <a:ext cx="792000" cy="78120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66920" y="432432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284720" y="4940280"/>
            <a:ext cx="792000" cy="780840"/>
            <a:chOff x="4284720" y="4940280"/>
            <a:chExt cx="792000" cy="780840"/>
          </a:xfrm>
        </p:grpSpPr>
        <p:sp>
          <p:nvSpPr>
            <p:cNvPr id="176" name=""/>
            <p:cNvSpPr/>
            <p:nvPr/>
          </p:nvSpPr>
          <p:spPr>
            <a:xfrm>
              <a:off x="4284720" y="4940280"/>
              <a:ext cx="79200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29080" y="533700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Georgia"/>
              </a:rPr>
              <a:t>Выполните   умнож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58920" y="1268280"/>
            <a:ext cx="316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7 * 5 =</a:t>
            </a:r>
            <a:endParaRPr b="1" i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16000" y="227664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* (-3)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27640" y="98100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66"/>
                </a:solidFill>
                <a:latin typeface="Times New Roman"/>
              </a:rPr>
              <a:t>-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0720" y="220500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66"/>
                </a:solidFill>
                <a:latin typeface="Times New Roman"/>
              </a:rPr>
              <a:t>-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57336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66"/>
                </a:solidFill>
                <a:latin typeface="Times New Roman"/>
              </a:rPr>
              <a:t>-8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4869000"/>
            <a:ext cx="2736720" cy="113004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7760 h 1130040"/>
              <a:gd name="textAreaBottom" fmla="*/ 87228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66"/>
                </a:solidFill>
                <a:latin typeface="Times New Roman"/>
              </a:rPr>
              <a:t>-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42920" y="3429000"/>
            <a:ext cx="37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4 * 20 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71640" y="4724280"/>
            <a:ext cx="374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 * (-1) =</a:t>
            </a:r>
            <a:endParaRPr b="1" i="1" lang="en-US" sz="2800" spc="1" strike="noStrike">
              <a:ln w="19080">
                <a:solidFill>
                  <a:srgbClr val="cc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26920" y="189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Вычисл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1890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Проверьте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932360" y="2565360"/>
            <a:ext cx="3509640" cy="3190680"/>
            <a:chOff x="4932360" y="2565360"/>
            <a:chExt cx="3509640" cy="3190680"/>
          </a:xfrm>
        </p:grpSpPr>
        <p:sp>
          <p:nvSpPr>
            <p:cNvPr id="190" name=""/>
            <p:cNvSpPr/>
            <p:nvPr/>
          </p:nvSpPr>
          <p:spPr>
            <a:xfrm>
              <a:off x="5481360" y="2619360"/>
              <a:ext cx="217656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fc5"/>
                </a:gs>
                <a:gs pos="50000">
                  <a:srgbClr val="ffffff"/>
                </a:gs>
                <a:gs pos="100000">
                  <a:srgbClr val="feff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5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–1) 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32360" y="2565360"/>
              <a:ext cx="569880" cy="116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f5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21520" y="2611440"/>
              <a:ext cx="110628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fc5"/>
                </a:gs>
                <a:gs pos="50000">
                  <a:srgbClr val="ffffff"/>
                </a:gs>
                <a:gs pos="100000">
                  <a:srgbClr val="feff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1360" y="3294000"/>
              <a:ext cx="217656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fc5"/>
                </a:gs>
                <a:gs pos="50000">
                  <a:srgbClr val="ffffff"/>
                </a:gs>
                <a:gs pos="100000">
                  <a:srgbClr val="feff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2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–1) 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32360" y="3240000"/>
              <a:ext cx="569880" cy="116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f5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5720" y="3294000"/>
              <a:ext cx="110628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fc5"/>
                </a:gs>
                <a:gs pos="50000">
                  <a:srgbClr val="ffffff"/>
                </a:gs>
                <a:gs pos="100000">
                  <a:srgbClr val="feff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81360" y="3968640"/>
              <a:ext cx="217656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fc5"/>
                </a:gs>
                <a:gs pos="50000">
                  <a:srgbClr val="ffffff"/>
                </a:gs>
                <a:gs pos="100000">
                  <a:srgbClr val="feff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–1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 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32360" y="3914640"/>
              <a:ext cx="569880" cy="116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f5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21520" y="3979800"/>
              <a:ext cx="110628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fc5"/>
                </a:gs>
                <a:gs pos="50000">
                  <a:srgbClr val="ffffff"/>
                </a:gs>
                <a:gs pos="100000">
                  <a:srgbClr val="feff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81360" y="4643280"/>
              <a:ext cx="217656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fc5"/>
                </a:gs>
                <a:gs pos="50000">
                  <a:srgbClr val="ffffff"/>
                </a:gs>
                <a:gs pos="100000">
                  <a:srgbClr val="feff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–1) 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32360" y="4589280"/>
              <a:ext cx="569880" cy="116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f5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51680" y="4627440"/>
              <a:ext cx="110628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fc5"/>
                </a:gs>
                <a:gs pos="50000">
                  <a:srgbClr val="ffffff"/>
                </a:gs>
                <a:gs pos="100000">
                  <a:srgbClr val="feff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50920" y="2637000"/>
            <a:ext cx="3510000" cy="3189240"/>
            <a:chOff x="250920" y="2637000"/>
            <a:chExt cx="3510000" cy="3189240"/>
          </a:xfrm>
        </p:grpSpPr>
        <p:sp>
          <p:nvSpPr>
            <p:cNvPr id="203" name=""/>
            <p:cNvSpPr/>
            <p:nvPr/>
          </p:nvSpPr>
          <p:spPr>
            <a:xfrm>
              <a:off x="800280" y="2690640"/>
              <a:ext cx="217620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fc5"/>
                </a:gs>
                <a:gs pos="50000">
                  <a:srgbClr val="ffffff"/>
                </a:gs>
                <a:gs pos="100000">
                  <a:srgbClr val="feff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5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–1)  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0920" y="2637000"/>
              <a:ext cx="569880" cy="116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f5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54280" y="2690640"/>
              <a:ext cx="110664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fc5"/>
                </a:gs>
                <a:gs pos="50000">
                  <a:srgbClr val="ffffff"/>
                </a:gs>
                <a:gs pos="100000">
                  <a:srgbClr val="feff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0280" y="3363840"/>
              <a:ext cx="217620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fc5"/>
                </a:gs>
                <a:gs pos="50000">
                  <a:srgbClr val="ffffff"/>
                </a:gs>
                <a:gs pos="100000">
                  <a:srgbClr val="feff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 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0920" y="3309840"/>
              <a:ext cx="569880" cy="116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f5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70240" y="3363840"/>
              <a:ext cx="110628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fc5"/>
                </a:gs>
                <a:gs pos="50000">
                  <a:srgbClr val="ffffff"/>
                </a:gs>
                <a:gs pos="100000">
                  <a:srgbClr val="feff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 2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0280" y="4038480"/>
              <a:ext cx="217620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fc5"/>
                </a:gs>
                <a:gs pos="50000">
                  <a:srgbClr val="ffffff"/>
                </a:gs>
                <a:gs pos="100000">
                  <a:srgbClr val="feff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–1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3,4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0920" y="3984480"/>
              <a:ext cx="569880" cy="116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f5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54280" y="4038480"/>
              <a:ext cx="110664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fc5"/>
                </a:gs>
                <a:gs pos="50000">
                  <a:srgbClr val="ffffff"/>
                </a:gs>
                <a:gs pos="100000">
                  <a:srgbClr val="feff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0920" y="4659480"/>
              <a:ext cx="569880" cy="116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f5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65600" y="4713120"/>
              <a:ext cx="89532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fc5"/>
                </a:gs>
                <a:gs pos="50000">
                  <a:srgbClr val="ffffff"/>
                </a:gs>
                <a:gs pos="100000">
                  <a:srgbClr val="feff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0280" y="4713120"/>
              <a:ext cx="217620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fc5"/>
                </a:gs>
                <a:gs pos="50000">
                  <a:srgbClr val="ffffff"/>
                </a:gs>
                <a:gs pos="100000">
                  <a:srgbClr val="feff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11280" y="1341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19640" y="14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I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2920" y="337680"/>
            <a:ext cx="77778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Физкультмину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Раз - согнуться, разогнуться,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Два – нагнуться, подтянуться,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Три – в ладоши три хлопка,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Головою три кивка,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На четыре – руки шире,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На пять, шесть – тихо сесть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На семь, восемь – лень отбросим,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И продолжим наш у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Выполнить у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12*(-5)= -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0,5*(-30)= -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-1,25*8= 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-44*0,2= -8,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1700280"/>
            <a:ext cx="403884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*(-5)= -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0,5*(-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0)= -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-1,25*8= 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33</a:t>
            </a: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*0,2= -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87280" y="4724280"/>
          <a:ext cx="2737080" cy="12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724280"/>
                    <a:ext cx="2737080" cy="12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321160" y="4869000"/>
          <a:ext cx="304020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21160" y="4869000"/>
                    <a:ext cx="304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258920" y="126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51640" y="126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I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-181080" y="3530880"/>
            <a:ext cx="9556560" cy="1946520"/>
            <a:chOff x="-181080" y="3530880"/>
            <a:chExt cx="9556560" cy="1946520"/>
          </a:xfrm>
        </p:grpSpPr>
        <p:sp>
          <p:nvSpPr>
            <p:cNvPr id="228" name=""/>
            <p:cNvSpPr/>
            <p:nvPr/>
          </p:nvSpPr>
          <p:spPr>
            <a:xfrm rot="21243600">
              <a:off x="-153720" y="4098600"/>
              <a:ext cx="9521640" cy="64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-181080" y="3530880"/>
              <a:ext cx="9047880" cy="1946520"/>
              <a:chOff x="-181080" y="3530880"/>
              <a:chExt cx="9047880" cy="194652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-181080" y="3771720"/>
                <a:ext cx="4889520" cy="1705680"/>
                <a:chOff x="-181080" y="3771720"/>
                <a:chExt cx="4889520" cy="170568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3819240" y="3771720"/>
                  <a:ext cx="165240" cy="82440"/>
                  <a:chOff x="3819240" y="3771720"/>
                  <a:chExt cx="165240" cy="8244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3819240" y="37717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903840" y="37720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2828520" y="4495680"/>
                  <a:ext cx="343080" cy="183960"/>
                  <a:chOff x="2828520" y="4495680"/>
                  <a:chExt cx="343080" cy="18396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2828520" y="4495680"/>
                    <a:ext cx="16200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004200" y="4497120"/>
                    <a:ext cx="1674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86320" y="5016600"/>
                  <a:ext cx="694440" cy="254880"/>
                  <a:chOff x="886320" y="5016600"/>
                  <a:chExt cx="694440" cy="254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 rot="10626600">
                    <a:off x="1251360" y="5024520"/>
                    <a:ext cx="32400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rot="10626600">
                    <a:off x="890640" y="5074200"/>
                    <a:ext cx="33480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3958920" y="4292280"/>
                  <a:ext cx="165240" cy="82800"/>
                  <a:chOff x="3958920" y="4292280"/>
                  <a:chExt cx="165240" cy="8280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3958920" y="42922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4043520" y="42926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4340160" y="4419360"/>
                  <a:ext cx="164520" cy="82800"/>
                  <a:chOff x="4340160" y="4419360"/>
                  <a:chExt cx="164520" cy="8280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340160" y="441936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424400" y="44197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3476520" y="5029200"/>
                  <a:ext cx="164520" cy="82440"/>
                  <a:chOff x="3476520" y="5029200"/>
                  <a:chExt cx="164520" cy="8244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3476520" y="50292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560760" y="50295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3247920" y="5079960"/>
                  <a:ext cx="164520" cy="82440"/>
                  <a:chOff x="3247920" y="5079960"/>
                  <a:chExt cx="164520" cy="8244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3247920" y="50799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332160" y="50803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3082680" y="5105160"/>
                  <a:ext cx="165240" cy="82800"/>
                  <a:chOff x="3082680" y="5105160"/>
                  <a:chExt cx="165240" cy="8280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3082680" y="510516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167280" y="51055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3082680" y="5003640"/>
                  <a:ext cx="165240" cy="82440"/>
                  <a:chOff x="3082680" y="5003640"/>
                  <a:chExt cx="165240" cy="8244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082680" y="50036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167280" y="50040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3159000" y="4940280"/>
                  <a:ext cx="164520" cy="82440"/>
                  <a:chOff x="3159000" y="4940280"/>
                  <a:chExt cx="164520" cy="8244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3159000" y="494028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3243240" y="494064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3222360" y="4914720"/>
                  <a:ext cx="165240" cy="82440"/>
                  <a:chOff x="3222360" y="4914720"/>
                  <a:chExt cx="165240" cy="8244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3222360" y="49147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3306960" y="49150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3298680" y="4876560"/>
                  <a:ext cx="164520" cy="82800"/>
                  <a:chOff x="3298680" y="4876560"/>
                  <a:chExt cx="164520" cy="8280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3298680" y="487656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382920" y="48769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3501720" y="4800600"/>
                  <a:ext cx="165240" cy="82440"/>
                  <a:chOff x="3501720" y="4800600"/>
                  <a:chExt cx="165240" cy="824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3501720" y="48006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3586320" y="4800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2904840" y="5041800"/>
                  <a:ext cx="165240" cy="82440"/>
                  <a:chOff x="2904840" y="5041800"/>
                  <a:chExt cx="165240" cy="824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2904840" y="50418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989440" y="50421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2676240" y="5092560"/>
                  <a:ext cx="165240" cy="82440"/>
                  <a:chOff x="2676240" y="5092560"/>
                  <a:chExt cx="165240" cy="8244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2676240" y="50925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760840" y="50929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2511360" y="5118120"/>
                  <a:ext cx="164520" cy="82440"/>
                  <a:chOff x="2511360" y="5118120"/>
                  <a:chExt cx="164520" cy="82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511360" y="51181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595600" y="51184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2511360" y="5016240"/>
                  <a:ext cx="164520" cy="82800"/>
                  <a:chOff x="2511360" y="5016240"/>
                  <a:chExt cx="164520" cy="828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2511360" y="501624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595600" y="50166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587320" y="4952880"/>
                  <a:ext cx="165240" cy="82440"/>
                  <a:chOff x="2587320" y="4952880"/>
                  <a:chExt cx="165240" cy="8244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2587320" y="49528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671920" y="49532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2651040" y="4927320"/>
                  <a:ext cx="164520" cy="82800"/>
                  <a:chOff x="2651040" y="4927320"/>
                  <a:chExt cx="164520" cy="8280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2651040" y="492732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735280" y="49276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2727000" y="4889520"/>
                  <a:ext cx="165240" cy="82440"/>
                  <a:chOff x="2727000" y="4889520"/>
                  <a:chExt cx="165240" cy="8244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2727000" y="48895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811600" y="4889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2930400" y="4813200"/>
                  <a:ext cx="164520" cy="82440"/>
                  <a:chOff x="2930400" y="4813200"/>
                  <a:chExt cx="164520" cy="8244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2930400" y="48132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014640" y="48135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2193840" y="5232240"/>
                  <a:ext cx="164520" cy="82440"/>
                  <a:chOff x="2193840" y="5232240"/>
                  <a:chExt cx="164520" cy="8244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2193840" y="523224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278080" y="52326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1965240" y="5283000"/>
                  <a:ext cx="164520" cy="82440"/>
                  <a:chOff x="1965240" y="5283000"/>
                  <a:chExt cx="164520" cy="824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1965240" y="52830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049480" y="52833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1800000" y="5308560"/>
                  <a:ext cx="165240" cy="82440"/>
                  <a:chOff x="1800000" y="5308560"/>
                  <a:chExt cx="165240" cy="824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1800000" y="53085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1884600" y="53089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1800000" y="5206680"/>
                  <a:ext cx="165240" cy="82800"/>
                  <a:chOff x="1800000" y="5206680"/>
                  <a:chExt cx="165240" cy="828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1800000" y="52066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884600" y="52070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1876320" y="5143320"/>
                  <a:ext cx="164520" cy="82440"/>
                  <a:chOff x="1876320" y="5143320"/>
                  <a:chExt cx="164520" cy="824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1876320" y="51433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1960560" y="51436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1939680" y="5118120"/>
                  <a:ext cx="165240" cy="82440"/>
                  <a:chOff x="1939680" y="5118120"/>
                  <a:chExt cx="165240" cy="824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1939680" y="51181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024280" y="5118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2016000" y="5079960"/>
                  <a:ext cx="164520" cy="82440"/>
                  <a:chOff x="2016000" y="5079960"/>
                  <a:chExt cx="164520" cy="8244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2016000" y="50799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100240" y="50803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2219040" y="5003640"/>
                  <a:ext cx="165240" cy="82440"/>
                  <a:chOff x="2219040" y="5003640"/>
                  <a:chExt cx="165240" cy="8244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2219040" y="50036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303640" y="50040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466560" y="4520880"/>
                  <a:ext cx="164520" cy="82800"/>
                  <a:chOff x="466560" y="4520880"/>
                  <a:chExt cx="164520" cy="8280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466560" y="452088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50800" y="452124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237960" y="4572000"/>
                  <a:ext cx="164520" cy="82440"/>
                  <a:chOff x="237960" y="4572000"/>
                  <a:chExt cx="164520" cy="8244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237960" y="45720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322200" y="45723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72720" y="4597200"/>
                  <a:ext cx="165240" cy="82440"/>
                  <a:chOff x="72720" y="4597200"/>
                  <a:chExt cx="165240" cy="8244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72720" y="45972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157320" y="45975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72720" y="4495680"/>
                  <a:ext cx="165240" cy="82440"/>
                  <a:chOff x="72720" y="4495680"/>
                  <a:chExt cx="165240" cy="824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72720" y="44956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57320" y="44960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149040" y="4432320"/>
                  <a:ext cx="164520" cy="82440"/>
                  <a:chOff x="149040" y="4432320"/>
                  <a:chExt cx="164520" cy="8244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149040" y="44323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233280" y="44326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212400" y="4406760"/>
                  <a:ext cx="165240" cy="82440"/>
                  <a:chOff x="212400" y="4406760"/>
                  <a:chExt cx="165240" cy="8244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212400" y="44067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97000" y="44071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288720" y="4368600"/>
                  <a:ext cx="165240" cy="82440"/>
                  <a:chOff x="288720" y="4368600"/>
                  <a:chExt cx="165240" cy="82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288720" y="43686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373320" y="4368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491760" y="4292280"/>
                  <a:ext cx="165240" cy="82800"/>
                  <a:chOff x="491760" y="4292280"/>
                  <a:chExt cx="165240" cy="828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491760" y="42922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576360" y="42926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212400" y="5225760"/>
                  <a:ext cx="367920" cy="120960"/>
                  <a:chOff x="212400" y="5225760"/>
                  <a:chExt cx="367920" cy="12096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H="1" flipV="1">
                    <a:off x="406080" y="5225760"/>
                    <a:ext cx="1738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 flipV="1">
                    <a:off x="212040" y="5243040"/>
                    <a:ext cx="1796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-16200" y="5276520"/>
                  <a:ext cx="367920" cy="120960"/>
                  <a:chOff x="-16200" y="5276520"/>
                  <a:chExt cx="367920" cy="12096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flipV="1">
                    <a:off x="177480" y="5276520"/>
                    <a:ext cx="1738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flipV="1">
                    <a:off x="-16560" y="5293800"/>
                    <a:ext cx="1796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-181080" y="5301720"/>
                  <a:ext cx="367920" cy="120600"/>
                  <a:chOff x="-181080" y="5301720"/>
                  <a:chExt cx="367920" cy="1206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flipV="1">
                    <a:off x="12240" y="5301360"/>
                    <a:ext cx="1738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flipV="1">
                    <a:off x="-181440" y="5319360"/>
                    <a:ext cx="179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-181080" y="5200200"/>
                  <a:ext cx="367920" cy="120600"/>
                  <a:chOff x="-181080" y="5200200"/>
                  <a:chExt cx="367920" cy="12060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flipV="1">
                    <a:off x="12240" y="5199840"/>
                    <a:ext cx="1738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flipV="1">
                    <a:off x="-181440" y="5217840"/>
                    <a:ext cx="179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-105120" y="5136840"/>
                  <a:ext cx="367920" cy="120960"/>
                  <a:chOff x="-105120" y="5136840"/>
                  <a:chExt cx="367920" cy="12096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flipV="1">
                    <a:off x="88200" y="5136840"/>
                    <a:ext cx="1738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flipV="1">
                    <a:off x="-105480" y="5154120"/>
                    <a:ext cx="1796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-41400" y="5111280"/>
                  <a:ext cx="367920" cy="120600"/>
                  <a:chOff x="-41400" y="5111280"/>
                  <a:chExt cx="367920" cy="12060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flipV="1">
                    <a:off x="152280" y="5110920"/>
                    <a:ext cx="1738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flipV="1">
                    <a:off x="-41760" y="5128920"/>
                    <a:ext cx="179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34560" y="5073120"/>
                  <a:ext cx="367920" cy="120600"/>
                  <a:chOff x="34560" y="5073120"/>
                  <a:chExt cx="367920" cy="1206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flipV="1">
                    <a:off x="228240" y="5072760"/>
                    <a:ext cx="1738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flipV="1">
                    <a:off x="33840" y="5090760"/>
                    <a:ext cx="179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237960" y="4997160"/>
                  <a:ext cx="367920" cy="120960"/>
                  <a:chOff x="237960" y="4997160"/>
                  <a:chExt cx="367920" cy="12096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flipV="1">
                    <a:off x="431640" y="4997160"/>
                    <a:ext cx="1738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flipV="1">
                    <a:off x="237600" y="5014440"/>
                    <a:ext cx="1796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2054160" y="5092560"/>
                  <a:ext cx="164520" cy="82440"/>
                  <a:chOff x="2054160" y="5092560"/>
                  <a:chExt cx="164520" cy="8244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2054160" y="50925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2138400" y="50929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1523880" y="4064400"/>
                  <a:ext cx="1740600" cy="447840"/>
                  <a:chOff x="1523880" y="4064400"/>
                  <a:chExt cx="1740600" cy="447840"/>
                </a:xfrm>
              </p:grpSpPr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1523880" y="4064400"/>
                    <a:ext cx="978480" cy="447840"/>
                    <a:chOff x="1523880" y="4064400"/>
                    <a:chExt cx="978480" cy="447840"/>
                  </a:xfrm>
                </p:grpSpPr>
                <p:grpSp>
                  <p:nvGrpSpPr>
                    <p:cNvPr id="371" name=""/>
                    <p:cNvGrpSpPr/>
                    <p:nvPr/>
                  </p:nvGrpSpPr>
                  <p:grpSpPr>
                    <a:xfrm>
                      <a:off x="1523880" y="4118760"/>
                      <a:ext cx="492120" cy="393480"/>
                      <a:chOff x="1523880" y="4118760"/>
                      <a:chExt cx="492120" cy="393480"/>
                    </a:xfrm>
                  </p:grpSpPr>
                  <p:grpSp>
                    <p:nvGrpSpPr>
                      <p:cNvPr id="372" name=""/>
                      <p:cNvGrpSpPr/>
                      <p:nvPr/>
                    </p:nvGrpSpPr>
                    <p:grpSpPr>
                      <a:xfrm>
                        <a:off x="1821600" y="4118760"/>
                        <a:ext cx="194400" cy="277200"/>
                        <a:chOff x="1821600" y="4118760"/>
                        <a:chExt cx="194400" cy="277200"/>
                      </a:xfrm>
                    </p:grpSpPr>
                    <p:sp>
                      <p:nvSpPr>
                        <p:cNvPr id="373" name=""/>
                        <p:cNvSpPr/>
                        <p:nvPr/>
                      </p:nvSpPr>
                      <p:spPr>
                        <a:xfrm flipH="1" rot="21099600">
                          <a:off x="1838160" y="4128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4" name=""/>
                        <p:cNvSpPr/>
                        <p:nvPr/>
                      </p:nvSpPr>
                      <p:spPr>
                        <a:xfrm flipH="1" rot="21099600">
                          <a:off x="1846800" y="41360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5" name=""/>
                      <p:cNvGrpSpPr/>
                      <p:nvPr/>
                    </p:nvGrpSpPr>
                    <p:grpSpPr>
                      <a:xfrm>
                        <a:off x="1705680" y="4161960"/>
                        <a:ext cx="220680" cy="288720"/>
                        <a:chOff x="1705680" y="4161960"/>
                        <a:chExt cx="220680" cy="288720"/>
                      </a:xfrm>
                    </p:grpSpPr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 flipH="1" rot="20649000">
                          <a:off x="1734840" y="41792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 flipH="1" rot="20649000">
                          <a:off x="1745280" y="418824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8" name=""/>
                      <p:cNvGrpSpPr/>
                      <p:nvPr/>
                    </p:nvGrpSpPr>
                    <p:grpSpPr>
                      <a:xfrm>
                        <a:off x="1523880" y="4212720"/>
                        <a:ext cx="268920" cy="299520"/>
                        <a:chOff x="1523880" y="4212720"/>
                        <a:chExt cx="268920" cy="299520"/>
                      </a:xfrm>
                    </p:grpSpPr>
                    <p:sp>
                      <p:nvSpPr>
                        <p:cNvPr id="379" name=""/>
                        <p:cNvSpPr/>
                        <p:nvPr/>
                      </p:nvSpPr>
                      <p:spPr>
                        <a:xfrm flipH="1" rot="19542600">
                          <a:off x="1576800" y="4237200"/>
                          <a:ext cx="16200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"/>
                        <p:cNvSpPr/>
                        <p:nvPr/>
                      </p:nvSpPr>
                      <p:spPr>
                        <a:xfrm flipH="1" rot="19542600">
                          <a:off x="1594080" y="42508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81" name=""/>
                    <p:cNvGrpSpPr/>
                    <p:nvPr/>
                  </p:nvGrpSpPr>
                  <p:grpSpPr>
                    <a:xfrm>
                      <a:off x="2021040" y="4064400"/>
                      <a:ext cx="481320" cy="341280"/>
                      <a:chOff x="2021040" y="4064400"/>
                      <a:chExt cx="481320" cy="341280"/>
                    </a:xfrm>
                  </p:grpSpPr>
                  <p:grpSp>
                    <p:nvGrpSpPr>
                      <p:cNvPr id="382" name=""/>
                      <p:cNvGrpSpPr/>
                      <p:nvPr/>
                    </p:nvGrpSpPr>
                    <p:grpSpPr>
                      <a:xfrm>
                        <a:off x="2021040" y="4064400"/>
                        <a:ext cx="165600" cy="259200"/>
                        <a:chOff x="2021040" y="4064400"/>
                        <a:chExt cx="165600" cy="259200"/>
                      </a:xfrm>
                    </p:grpSpPr>
                    <p:sp>
                      <p:nvSpPr>
                        <p:cNvPr id="383" name=""/>
                        <p:cNvSpPr/>
                        <p:nvPr/>
                      </p:nvSpPr>
                      <p:spPr>
                        <a:xfrm rot="21544800">
                          <a:off x="2022840" y="40654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4" name=""/>
                        <p:cNvSpPr/>
                        <p:nvPr/>
                      </p:nvSpPr>
                      <p:spPr>
                        <a:xfrm rot="21544800">
                          <a:off x="2072520" y="40690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5" name=""/>
                      <p:cNvGrpSpPr/>
                      <p:nvPr/>
                    </p:nvGrpSpPr>
                    <p:grpSpPr>
                      <a:xfrm>
                        <a:off x="2119320" y="4090320"/>
                        <a:ext cx="187920" cy="272520"/>
                        <a:chOff x="2119320" y="4090320"/>
                        <a:chExt cx="187920" cy="272520"/>
                      </a:xfrm>
                    </p:grpSpPr>
                    <p:sp>
                      <p:nvSpPr>
                        <p:cNvPr id="386" name=""/>
                        <p:cNvSpPr/>
                        <p:nvPr/>
                      </p:nvSpPr>
                      <p:spPr>
                        <a:xfrm rot="395400">
                          <a:off x="2132280" y="4098600"/>
                          <a:ext cx="16164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"/>
                        <p:cNvSpPr/>
                        <p:nvPr/>
                      </p:nvSpPr>
                      <p:spPr>
                        <a:xfrm rot="395400">
                          <a:off x="2180880" y="410436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8" name=""/>
                      <p:cNvGrpSpPr/>
                      <p:nvPr/>
                    </p:nvGrpSpPr>
                    <p:grpSpPr>
                      <a:xfrm>
                        <a:off x="2254320" y="4107600"/>
                        <a:ext cx="248040" cy="298080"/>
                        <a:chOff x="2254320" y="4107600"/>
                        <a:chExt cx="248040" cy="298080"/>
                      </a:xfrm>
                    </p:grpSpPr>
                    <p:sp>
                      <p:nvSpPr>
                        <p:cNvPr id="389" name=""/>
                        <p:cNvSpPr/>
                        <p:nvPr/>
                      </p:nvSpPr>
                      <p:spPr>
                        <a:xfrm rot="1501800">
                          <a:off x="2297520" y="41302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 rot="1501800">
                          <a:off x="2340720" y="41418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2286000" y="4064400"/>
                    <a:ext cx="978480" cy="447840"/>
                    <a:chOff x="2286000" y="4064400"/>
                    <a:chExt cx="978480" cy="447840"/>
                  </a:xfrm>
                </p:grpSpPr>
                <p:grpSp>
                  <p:nvGrpSpPr>
                    <p:cNvPr id="392" name=""/>
                    <p:cNvGrpSpPr/>
                    <p:nvPr/>
                  </p:nvGrpSpPr>
                  <p:grpSpPr>
                    <a:xfrm>
                      <a:off x="2772360" y="4118760"/>
                      <a:ext cx="492120" cy="393480"/>
                      <a:chOff x="2772360" y="4118760"/>
                      <a:chExt cx="492120" cy="393480"/>
                    </a:xfrm>
                  </p:grpSpPr>
                  <p:grpSp>
                    <p:nvGrpSpPr>
                      <p:cNvPr id="393" name=""/>
                      <p:cNvGrpSpPr/>
                      <p:nvPr/>
                    </p:nvGrpSpPr>
                    <p:grpSpPr>
                      <a:xfrm>
                        <a:off x="2772360" y="4118760"/>
                        <a:ext cx="194400" cy="276840"/>
                        <a:chOff x="2772360" y="4118760"/>
                        <a:chExt cx="194400" cy="276840"/>
                      </a:xfrm>
                    </p:grpSpPr>
                    <p:sp>
                      <p:nvSpPr>
                        <p:cNvPr id="394" name=""/>
                        <p:cNvSpPr/>
                        <p:nvPr/>
                      </p:nvSpPr>
                      <p:spPr>
                        <a:xfrm rot="500400">
                          <a:off x="2788920" y="4128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5" name=""/>
                        <p:cNvSpPr/>
                        <p:nvPr/>
                      </p:nvSpPr>
                      <p:spPr>
                        <a:xfrm rot="500400">
                          <a:off x="2836440" y="413604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6" name=""/>
                      <p:cNvGrpSpPr/>
                      <p:nvPr/>
                    </p:nvGrpSpPr>
                    <p:grpSpPr>
                      <a:xfrm>
                        <a:off x="2862360" y="4161960"/>
                        <a:ext cx="220320" cy="288720"/>
                        <a:chOff x="2862360" y="4161960"/>
                        <a:chExt cx="220320" cy="288720"/>
                      </a:xfrm>
                    </p:grpSpPr>
                    <p:sp>
                      <p:nvSpPr>
                        <p:cNvPr id="397" name=""/>
                        <p:cNvSpPr/>
                        <p:nvPr/>
                      </p:nvSpPr>
                      <p:spPr>
                        <a:xfrm rot="951000">
                          <a:off x="2891880" y="4179240"/>
                          <a:ext cx="16128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8" name=""/>
                        <p:cNvSpPr/>
                        <p:nvPr/>
                      </p:nvSpPr>
                      <p:spPr>
                        <a:xfrm rot="951000">
                          <a:off x="2937960" y="418824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9" name=""/>
                      <p:cNvGrpSpPr/>
                      <p:nvPr/>
                    </p:nvGrpSpPr>
                    <p:grpSpPr>
                      <a:xfrm>
                        <a:off x="2995200" y="4212720"/>
                        <a:ext cx="269280" cy="299520"/>
                        <a:chOff x="2995200" y="4212720"/>
                        <a:chExt cx="269280" cy="299520"/>
                      </a:xfrm>
                    </p:grpSpPr>
                    <p:sp>
                      <p:nvSpPr>
                        <p:cNvPr id="400" name=""/>
                        <p:cNvSpPr/>
                        <p:nvPr/>
                      </p:nvSpPr>
                      <p:spPr>
                        <a:xfrm rot="2057400">
                          <a:off x="3048480" y="4237200"/>
                          <a:ext cx="162000" cy="240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1" name=""/>
                        <p:cNvSpPr/>
                        <p:nvPr/>
                      </p:nvSpPr>
                      <p:spPr>
                        <a:xfrm rot="2057400">
                          <a:off x="3088800" y="4250880"/>
                          <a:ext cx="10476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02" name=""/>
                    <p:cNvGrpSpPr/>
                    <p:nvPr/>
                  </p:nvGrpSpPr>
                  <p:grpSpPr>
                    <a:xfrm>
                      <a:off x="2286000" y="4064400"/>
                      <a:ext cx="481320" cy="341280"/>
                      <a:chOff x="2286000" y="4064400"/>
                      <a:chExt cx="481320" cy="341280"/>
                    </a:xfrm>
                  </p:grpSpPr>
                  <p:grpSp>
                    <p:nvGrpSpPr>
                      <p:cNvPr id="403" name=""/>
                      <p:cNvGrpSpPr/>
                      <p:nvPr/>
                    </p:nvGrpSpPr>
                    <p:grpSpPr>
                      <a:xfrm>
                        <a:off x="2602080" y="4064400"/>
                        <a:ext cx="165240" cy="259200"/>
                        <a:chOff x="2602080" y="4064400"/>
                        <a:chExt cx="165240" cy="259200"/>
                      </a:xfrm>
                    </p:grpSpPr>
                    <p:sp>
                      <p:nvSpPr>
                        <p:cNvPr id="404" name=""/>
                        <p:cNvSpPr/>
                        <p:nvPr/>
                      </p:nvSpPr>
                      <p:spPr>
                        <a:xfrm flipH="1" rot="55200">
                          <a:off x="2603520" y="40654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5" name=""/>
                        <p:cNvSpPr/>
                        <p:nvPr/>
                      </p:nvSpPr>
                      <p:spPr>
                        <a:xfrm flipH="1" rot="55200">
                          <a:off x="2610000" y="40690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6" name=""/>
                      <p:cNvGrpSpPr/>
                      <p:nvPr/>
                    </p:nvGrpSpPr>
                    <p:grpSpPr>
                      <a:xfrm>
                        <a:off x="2481120" y="4090320"/>
                        <a:ext cx="188280" cy="272520"/>
                        <a:chOff x="2481120" y="4090320"/>
                        <a:chExt cx="188280" cy="272520"/>
                      </a:xfrm>
                    </p:grpSpPr>
                    <p:sp>
                      <p:nvSpPr>
                        <p:cNvPr id="407" name=""/>
                        <p:cNvSpPr/>
                        <p:nvPr/>
                      </p:nvSpPr>
                      <p:spPr>
                        <a:xfrm flipH="1" rot="21204600">
                          <a:off x="2494080" y="4098600"/>
                          <a:ext cx="161640" cy="23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8" name=""/>
                        <p:cNvSpPr/>
                        <p:nvPr/>
                      </p:nvSpPr>
                      <p:spPr>
                        <a:xfrm flipH="1" rot="21204600">
                          <a:off x="2502000" y="410436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9" name=""/>
                      <p:cNvGrpSpPr/>
                      <p:nvPr/>
                    </p:nvGrpSpPr>
                    <p:grpSpPr>
                      <a:xfrm>
                        <a:off x="2286000" y="4107600"/>
                        <a:ext cx="248040" cy="298080"/>
                        <a:chOff x="2286000" y="4107600"/>
                        <a:chExt cx="248040" cy="298080"/>
                      </a:xfrm>
                    </p:grpSpPr>
                    <p:sp>
                      <p:nvSpPr>
                        <p:cNvPr id="410" name=""/>
                        <p:cNvSpPr/>
                        <p:nvPr/>
                      </p:nvSpPr>
                      <p:spPr>
                        <a:xfrm flipH="1" rot="20098200">
                          <a:off x="2328840" y="41302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1" name=""/>
                        <p:cNvSpPr/>
                        <p:nvPr/>
                      </p:nvSpPr>
                      <p:spPr>
                        <a:xfrm flipH="1" rot="20098200">
                          <a:off x="2341800" y="41418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-76320" y="5029560"/>
                  <a:ext cx="1740600" cy="447840"/>
                  <a:chOff x="-76320" y="5029560"/>
                  <a:chExt cx="1740600" cy="447840"/>
                </a:xfrm>
              </p:grpSpPr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-76320" y="5029560"/>
                    <a:ext cx="978480" cy="447840"/>
                    <a:chOff x="-76320" y="5029560"/>
                    <a:chExt cx="978480" cy="447840"/>
                  </a:xfrm>
                </p:grpSpPr>
                <p:grpSp>
                  <p:nvGrpSpPr>
                    <p:cNvPr id="414" name=""/>
                    <p:cNvGrpSpPr/>
                    <p:nvPr/>
                  </p:nvGrpSpPr>
                  <p:grpSpPr>
                    <a:xfrm>
                      <a:off x="-76320" y="5083920"/>
                      <a:ext cx="492120" cy="393480"/>
                      <a:chOff x="-76320" y="5083920"/>
                      <a:chExt cx="492120" cy="393480"/>
                    </a:xfrm>
                  </p:grpSpPr>
                  <p:grpSp>
                    <p:nvGrpSpPr>
                      <p:cNvPr id="415" name=""/>
                      <p:cNvGrpSpPr/>
                      <p:nvPr/>
                    </p:nvGrpSpPr>
                    <p:grpSpPr>
                      <a:xfrm>
                        <a:off x="221400" y="5083920"/>
                        <a:ext cx="194400" cy="277200"/>
                        <a:chOff x="221400" y="5083920"/>
                        <a:chExt cx="194400" cy="277200"/>
                      </a:xfrm>
                    </p:grpSpPr>
                    <p:sp>
                      <p:nvSpPr>
                        <p:cNvPr id="416" name=""/>
                        <p:cNvSpPr/>
                        <p:nvPr/>
                      </p:nvSpPr>
                      <p:spPr>
                        <a:xfrm flipH="1" rot="21099600">
                          <a:off x="237960" y="50940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7" name=""/>
                        <p:cNvSpPr/>
                        <p:nvPr/>
                      </p:nvSpPr>
                      <p:spPr>
                        <a:xfrm flipH="1" rot="21099600">
                          <a:off x="246600" y="51012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8" name=""/>
                      <p:cNvGrpSpPr/>
                      <p:nvPr/>
                    </p:nvGrpSpPr>
                    <p:grpSpPr>
                      <a:xfrm>
                        <a:off x="105480" y="5127120"/>
                        <a:ext cx="220680" cy="288720"/>
                        <a:chOff x="105480" y="5127120"/>
                        <a:chExt cx="220680" cy="288720"/>
                      </a:xfrm>
                    </p:grpSpPr>
                    <p:sp>
                      <p:nvSpPr>
                        <p:cNvPr id="419" name=""/>
                        <p:cNvSpPr/>
                        <p:nvPr/>
                      </p:nvSpPr>
                      <p:spPr>
                        <a:xfrm flipH="1" rot="20649000">
                          <a:off x="134640" y="51444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0" name=""/>
                        <p:cNvSpPr/>
                        <p:nvPr/>
                      </p:nvSpPr>
                      <p:spPr>
                        <a:xfrm flipH="1" rot="20649000">
                          <a:off x="145080" y="515340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1" name=""/>
                      <p:cNvGrpSpPr/>
                      <p:nvPr/>
                    </p:nvGrpSpPr>
                    <p:grpSpPr>
                      <a:xfrm>
                        <a:off x="-76320" y="5177880"/>
                        <a:ext cx="268920" cy="299520"/>
                        <a:chOff x="-76320" y="5177880"/>
                        <a:chExt cx="268920" cy="299520"/>
                      </a:xfrm>
                    </p:grpSpPr>
                    <p:sp>
                      <p:nvSpPr>
                        <p:cNvPr id="422" name=""/>
                        <p:cNvSpPr/>
                        <p:nvPr/>
                      </p:nvSpPr>
                      <p:spPr>
                        <a:xfrm flipH="1" rot="19542600">
                          <a:off x="-23040" y="5202360"/>
                          <a:ext cx="16200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3" name=""/>
                        <p:cNvSpPr/>
                        <p:nvPr/>
                      </p:nvSpPr>
                      <p:spPr>
                        <a:xfrm flipH="1" rot="19542600">
                          <a:off x="-5760" y="52160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4" name=""/>
                    <p:cNvGrpSpPr/>
                    <p:nvPr/>
                  </p:nvGrpSpPr>
                  <p:grpSpPr>
                    <a:xfrm>
                      <a:off x="420840" y="5029560"/>
                      <a:ext cx="481320" cy="341280"/>
                      <a:chOff x="420840" y="5029560"/>
                      <a:chExt cx="481320" cy="341280"/>
                    </a:xfrm>
                  </p:grpSpPr>
                  <p:grpSp>
                    <p:nvGrpSpPr>
                      <p:cNvPr id="425" name=""/>
                      <p:cNvGrpSpPr/>
                      <p:nvPr/>
                    </p:nvGrpSpPr>
                    <p:grpSpPr>
                      <a:xfrm>
                        <a:off x="420840" y="5029560"/>
                        <a:ext cx="165600" cy="259200"/>
                        <a:chOff x="420840" y="5029560"/>
                        <a:chExt cx="165600" cy="259200"/>
                      </a:xfrm>
                    </p:grpSpPr>
                    <p:sp>
                      <p:nvSpPr>
                        <p:cNvPr id="426" name=""/>
                        <p:cNvSpPr/>
                        <p:nvPr/>
                      </p:nvSpPr>
                      <p:spPr>
                        <a:xfrm rot="21544800">
                          <a:off x="422640" y="503064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7" name=""/>
                        <p:cNvSpPr/>
                        <p:nvPr/>
                      </p:nvSpPr>
                      <p:spPr>
                        <a:xfrm rot="21544800">
                          <a:off x="472320" y="50342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519120" y="5055480"/>
                        <a:ext cx="187920" cy="272520"/>
                        <a:chOff x="519120" y="5055480"/>
                        <a:chExt cx="187920" cy="272520"/>
                      </a:xfrm>
                    </p:grpSpPr>
                    <p:sp>
                      <p:nvSpPr>
                        <p:cNvPr id="429" name=""/>
                        <p:cNvSpPr/>
                        <p:nvPr/>
                      </p:nvSpPr>
                      <p:spPr>
                        <a:xfrm rot="395400">
                          <a:off x="532080" y="5063760"/>
                          <a:ext cx="16164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0" name=""/>
                        <p:cNvSpPr/>
                        <p:nvPr/>
                      </p:nvSpPr>
                      <p:spPr>
                        <a:xfrm rot="395400">
                          <a:off x="580680" y="506952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1" name=""/>
                      <p:cNvGrpSpPr/>
                      <p:nvPr/>
                    </p:nvGrpSpPr>
                    <p:grpSpPr>
                      <a:xfrm>
                        <a:off x="654120" y="5072760"/>
                        <a:ext cx="248040" cy="298080"/>
                        <a:chOff x="654120" y="5072760"/>
                        <a:chExt cx="248040" cy="298080"/>
                      </a:xfrm>
                    </p:grpSpPr>
                    <p:sp>
                      <p:nvSpPr>
                        <p:cNvPr id="432" name=""/>
                        <p:cNvSpPr/>
                        <p:nvPr/>
                      </p:nvSpPr>
                      <p:spPr>
                        <a:xfrm rot="1501800">
                          <a:off x="697320" y="509544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3" name=""/>
                        <p:cNvSpPr/>
                        <p:nvPr/>
                      </p:nvSpPr>
                      <p:spPr>
                        <a:xfrm rot="1501800">
                          <a:off x="740520" y="510696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685800" y="5029560"/>
                    <a:ext cx="978480" cy="447840"/>
                    <a:chOff x="685800" y="5029560"/>
                    <a:chExt cx="978480" cy="447840"/>
                  </a:xfrm>
                </p:grpSpPr>
                <p:grpSp>
                  <p:nvGrpSpPr>
                    <p:cNvPr id="435" name=""/>
                    <p:cNvGrpSpPr/>
                    <p:nvPr/>
                  </p:nvGrpSpPr>
                  <p:grpSpPr>
                    <a:xfrm>
                      <a:off x="1172160" y="5083920"/>
                      <a:ext cx="492120" cy="393480"/>
                      <a:chOff x="1172160" y="5083920"/>
                      <a:chExt cx="492120" cy="393480"/>
                    </a:xfrm>
                  </p:grpSpPr>
                  <p:grpSp>
                    <p:nvGrpSpPr>
                      <p:cNvPr id="436" name=""/>
                      <p:cNvGrpSpPr/>
                      <p:nvPr/>
                    </p:nvGrpSpPr>
                    <p:grpSpPr>
                      <a:xfrm>
                        <a:off x="1172160" y="5083920"/>
                        <a:ext cx="194400" cy="276840"/>
                        <a:chOff x="1172160" y="5083920"/>
                        <a:chExt cx="194400" cy="276840"/>
                      </a:xfrm>
                    </p:grpSpPr>
                    <p:sp>
                      <p:nvSpPr>
                        <p:cNvPr id="437" name=""/>
                        <p:cNvSpPr/>
                        <p:nvPr/>
                      </p:nvSpPr>
                      <p:spPr>
                        <a:xfrm rot="500400">
                          <a:off x="1188720" y="50940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8" name=""/>
                        <p:cNvSpPr/>
                        <p:nvPr/>
                      </p:nvSpPr>
                      <p:spPr>
                        <a:xfrm rot="500400">
                          <a:off x="1236240" y="510120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9" name=""/>
                      <p:cNvGrpSpPr/>
                      <p:nvPr/>
                    </p:nvGrpSpPr>
                    <p:grpSpPr>
                      <a:xfrm>
                        <a:off x="1262160" y="5127120"/>
                        <a:ext cx="220320" cy="288720"/>
                        <a:chOff x="1262160" y="5127120"/>
                        <a:chExt cx="220320" cy="288720"/>
                      </a:xfrm>
                    </p:grpSpPr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 rot="951000">
                          <a:off x="1291680" y="5144400"/>
                          <a:ext cx="16128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 rot="951000">
                          <a:off x="1337760" y="515340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2" name=""/>
                      <p:cNvGrpSpPr/>
                      <p:nvPr/>
                    </p:nvGrpSpPr>
                    <p:grpSpPr>
                      <a:xfrm>
                        <a:off x="1395000" y="5177880"/>
                        <a:ext cx="269280" cy="299520"/>
                        <a:chOff x="1395000" y="5177880"/>
                        <a:chExt cx="269280" cy="299520"/>
                      </a:xfrm>
                    </p:grpSpPr>
                    <p:sp>
                      <p:nvSpPr>
                        <p:cNvPr id="443" name=""/>
                        <p:cNvSpPr/>
                        <p:nvPr/>
                      </p:nvSpPr>
                      <p:spPr>
                        <a:xfrm rot="2057400">
                          <a:off x="1448280" y="5202360"/>
                          <a:ext cx="162000" cy="240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"/>
                        <p:cNvSpPr/>
                        <p:nvPr/>
                      </p:nvSpPr>
                      <p:spPr>
                        <a:xfrm rot="2057400">
                          <a:off x="1488600" y="5216040"/>
                          <a:ext cx="10476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5" name=""/>
                    <p:cNvGrpSpPr/>
                    <p:nvPr/>
                  </p:nvGrpSpPr>
                  <p:grpSpPr>
                    <a:xfrm>
                      <a:off x="685800" y="5029560"/>
                      <a:ext cx="481320" cy="341280"/>
                      <a:chOff x="685800" y="5029560"/>
                      <a:chExt cx="481320" cy="341280"/>
                    </a:xfrm>
                  </p:grpSpPr>
                  <p:grpSp>
                    <p:nvGrpSpPr>
                      <p:cNvPr id="446" name=""/>
                      <p:cNvGrpSpPr/>
                      <p:nvPr/>
                    </p:nvGrpSpPr>
                    <p:grpSpPr>
                      <a:xfrm>
                        <a:off x="1001880" y="5029560"/>
                        <a:ext cx="165240" cy="259200"/>
                        <a:chOff x="1001880" y="5029560"/>
                        <a:chExt cx="165240" cy="259200"/>
                      </a:xfrm>
                    </p:grpSpPr>
                    <p:sp>
                      <p:nvSpPr>
                        <p:cNvPr id="447" name=""/>
                        <p:cNvSpPr/>
                        <p:nvPr/>
                      </p:nvSpPr>
                      <p:spPr>
                        <a:xfrm flipH="1" rot="55200">
                          <a:off x="1003320" y="503064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"/>
                        <p:cNvSpPr/>
                        <p:nvPr/>
                      </p:nvSpPr>
                      <p:spPr>
                        <a:xfrm flipH="1" rot="55200">
                          <a:off x="1009800" y="50342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9" name=""/>
                      <p:cNvGrpSpPr/>
                      <p:nvPr/>
                    </p:nvGrpSpPr>
                    <p:grpSpPr>
                      <a:xfrm>
                        <a:off x="880920" y="5055480"/>
                        <a:ext cx="188280" cy="272520"/>
                        <a:chOff x="880920" y="5055480"/>
                        <a:chExt cx="188280" cy="272520"/>
                      </a:xfrm>
                    </p:grpSpPr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 flipH="1" rot="21204600">
                          <a:off x="893880" y="5063760"/>
                          <a:ext cx="161640" cy="23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1" name=""/>
                        <p:cNvSpPr/>
                        <p:nvPr/>
                      </p:nvSpPr>
                      <p:spPr>
                        <a:xfrm flipH="1" rot="21204600">
                          <a:off x="901800" y="506952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2" name=""/>
                      <p:cNvGrpSpPr/>
                      <p:nvPr/>
                    </p:nvGrpSpPr>
                    <p:grpSpPr>
                      <a:xfrm>
                        <a:off x="685800" y="5072760"/>
                        <a:ext cx="248040" cy="298080"/>
                        <a:chOff x="685800" y="5072760"/>
                        <a:chExt cx="248040" cy="298080"/>
                      </a:xfrm>
                    </p:grpSpPr>
                    <p:sp>
                      <p:nvSpPr>
                        <p:cNvPr id="453" name=""/>
                        <p:cNvSpPr/>
                        <p:nvPr/>
                      </p:nvSpPr>
                      <p:spPr>
                        <a:xfrm flipH="1" rot="20098200">
                          <a:off x="728640" y="509544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"/>
                        <p:cNvSpPr/>
                        <p:nvPr/>
                      </p:nvSpPr>
                      <p:spPr>
                        <a:xfrm flipH="1" rot="20098200">
                          <a:off x="741600" y="510696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3057120" y="4152600"/>
                  <a:ext cx="685800" cy="222480"/>
                  <a:chOff x="3057120" y="4152600"/>
                  <a:chExt cx="685800" cy="22248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3057120" y="4152600"/>
                    <a:ext cx="32400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3408120" y="4154400"/>
                    <a:ext cx="33480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2117520" y="4889520"/>
                  <a:ext cx="685800" cy="222120"/>
                  <a:chOff x="2117520" y="4889520"/>
                  <a:chExt cx="685800" cy="2221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117520" y="4889520"/>
                    <a:ext cx="32400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468520" y="4890960"/>
                    <a:ext cx="33480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3539880" y="5092560"/>
                  <a:ext cx="165240" cy="82440"/>
                  <a:chOff x="3539880" y="5092560"/>
                  <a:chExt cx="165240" cy="8244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3539880" y="50925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3624480" y="50929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3311280" y="5143320"/>
                  <a:ext cx="165240" cy="82440"/>
                  <a:chOff x="3311280" y="5143320"/>
                  <a:chExt cx="165240" cy="824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3311280" y="51433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3395880" y="51436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3146040" y="5168880"/>
                  <a:ext cx="165240" cy="82440"/>
                  <a:chOff x="3146040" y="5168880"/>
                  <a:chExt cx="165240" cy="8244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3146040" y="51688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3230640" y="51692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3146040" y="5067000"/>
                  <a:ext cx="165240" cy="82800"/>
                  <a:chOff x="3146040" y="5067000"/>
                  <a:chExt cx="165240" cy="8280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3146040" y="506700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3230640" y="50673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3222360" y="5003640"/>
                  <a:ext cx="165240" cy="82440"/>
                  <a:chOff x="3222360" y="5003640"/>
                  <a:chExt cx="165240" cy="824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3222360" y="50036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3306960" y="50040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3285720" y="4978080"/>
                  <a:ext cx="165240" cy="82800"/>
                  <a:chOff x="3285720" y="4978080"/>
                  <a:chExt cx="165240" cy="8280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3285720" y="49780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3370320" y="49784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3362040" y="4940280"/>
                  <a:ext cx="165240" cy="82440"/>
                  <a:chOff x="3362040" y="4940280"/>
                  <a:chExt cx="165240" cy="8244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3362040" y="49402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3446640" y="49406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3565440" y="4863960"/>
                  <a:ext cx="164520" cy="82440"/>
                  <a:chOff x="3565440" y="4863960"/>
                  <a:chExt cx="164520" cy="8244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3565440" y="48639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3649680" y="48643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4466880" y="4178160"/>
                  <a:ext cx="165240" cy="82440"/>
                  <a:chOff x="4466880" y="4178160"/>
                  <a:chExt cx="165240" cy="8244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4466880" y="41781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4551480" y="41785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4466880" y="4076640"/>
                  <a:ext cx="165240" cy="82440"/>
                  <a:chOff x="4466880" y="4076640"/>
                  <a:chExt cx="165240" cy="8244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4466880" y="40766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4551480" y="40770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4543200" y="4012920"/>
                  <a:ext cx="165240" cy="82800"/>
                  <a:chOff x="4543200" y="4012920"/>
                  <a:chExt cx="165240" cy="8280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4543200" y="40129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4627800" y="40132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288720" y="4495680"/>
                  <a:ext cx="165240" cy="82440"/>
                  <a:chOff x="288720" y="4495680"/>
                  <a:chExt cx="165240" cy="8244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288720" y="44956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373320" y="44960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60120" y="4546440"/>
                  <a:ext cx="165240" cy="82440"/>
                  <a:chOff x="60120" y="4546440"/>
                  <a:chExt cx="165240" cy="8244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>
                    <a:off x="60120" y="45464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144720" y="45468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-105120" y="4572000"/>
                  <a:ext cx="165600" cy="82440"/>
                  <a:chOff x="-105120" y="4572000"/>
                  <a:chExt cx="165600" cy="8244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>
                    <a:off x="-105120" y="45720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-20160" y="45723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-105120" y="4470120"/>
                  <a:ext cx="165600" cy="82800"/>
                  <a:chOff x="-105120" y="4470120"/>
                  <a:chExt cx="165600" cy="8280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-105120" y="44701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-20160" y="4470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-28800" y="4406760"/>
                  <a:ext cx="165240" cy="82440"/>
                  <a:chOff x="-28800" y="4406760"/>
                  <a:chExt cx="165240" cy="8244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-28800" y="44067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55800" y="44071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34560" y="4381200"/>
                  <a:ext cx="165240" cy="82800"/>
                  <a:chOff x="34560" y="4381200"/>
                  <a:chExt cx="165240" cy="8280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34560" y="438120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119160" y="43815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110880" y="4343400"/>
                  <a:ext cx="165240" cy="82440"/>
                  <a:chOff x="110880" y="4343400"/>
                  <a:chExt cx="165240" cy="8244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110880" y="43434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195480" y="43437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313920" y="4267080"/>
                  <a:ext cx="165240" cy="82440"/>
                  <a:chOff x="313920" y="4267080"/>
                  <a:chExt cx="165240" cy="8244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>
                    <a:off x="313920" y="42670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398520" y="42674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1253880" y="4483080"/>
                  <a:ext cx="165240" cy="82440"/>
                  <a:chOff x="1253880" y="4483080"/>
                  <a:chExt cx="165240" cy="8244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253880" y="44830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338480" y="44834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1025280" y="4533840"/>
                  <a:ext cx="165240" cy="82440"/>
                  <a:chOff x="1025280" y="4533840"/>
                  <a:chExt cx="165240" cy="8244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1025280" y="45338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1109880" y="45342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860040" y="4559040"/>
                  <a:ext cx="165240" cy="82800"/>
                  <a:chOff x="860040" y="4559040"/>
                  <a:chExt cx="165240" cy="828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>
                    <a:off x="860040" y="455904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944640" y="45594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860040" y="4457520"/>
                  <a:ext cx="165240" cy="82440"/>
                  <a:chOff x="860040" y="4457520"/>
                  <a:chExt cx="165240" cy="824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860040" y="44575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944640" y="4457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936360" y="4394160"/>
                  <a:ext cx="165240" cy="82440"/>
                  <a:chOff x="936360" y="4394160"/>
                  <a:chExt cx="165240" cy="8244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936360" y="43941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1020960" y="43945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999720" y="4368600"/>
                  <a:ext cx="165240" cy="82440"/>
                  <a:chOff x="999720" y="4368600"/>
                  <a:chExt cx="165240" cy="8244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999720" y="43686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1084320" y="4368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1076040" y="4330440"/>
                  <a:ext cx="165240" cy="82800"/>
                  <a:chOff x="1076040" y="4330440"/>
                  <a:chExt cx="165240" cy="8280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1076040" y="433044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1160640" y="43308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1279440" y="4254480"/>
                  <a:ext cx="164520" cy="82440"/>
                  <a:chOff x="1279440" y="4254480"/>
                  <a:chExt cx="164520" cy="8244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1279440" y="425448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363680" y="425484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1190520" y="4292280"/>
                  <a:ext cx="685800" cy="222480"/>
                  <a:chOff x="1190520" y="4292280"/>
                  <a:chExt cx="685800" cy="22248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1190520" y="4292280"/>
                    <a:ext cx="32400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1541520" y="4294080"/>
                    <a:ext cx="33480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5" name=""/>
              <p:cNvGrpSpPr/>
              <p:nvPr/>
            </p:nvGrpSpPr>
            <p:grpSpPr>
              <a:xfrm>
                <a:off x="3543120" y="3530880"/>
                <a:ext cx="5323680" cy="1692360"/>
                <a:chOff x="3543120" y="3530880"/>
                <a:chExt cx="5323680" cy="1692360"/>
              </a:xfrm>
            </p:grpSpPr>
            <p:grpSp>
              <p:nvGrpSpPr>
                <p:cNvPr id="546" name=""/>
                <p:cNvGrpSpPr/>
                <p:nvPr/>
              </p:nvGrpSpPr>
              <p:grpSpPr>
                <a:xfrm>
                  <a:off x="3543120" y="4775400"/>
                  <a:ext cx="1740600" cy="447840"/>
                  <a:chOff x="3543120" y="4775400"/>
                  <a:chExt cx="1740600" cy="447840"/>
                </a:xfrm>
              </p:grpSpPr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3543120" y="4775400"/>
                    <a:ext cx="978480" cy="447840"/>
                    <a:chOff x="3543120" y="4775400"/>
                    <a:chExt cx="978480" cy="447840"/>
                  </a:xfrm>
                </p:grpSpPr>
                <p:grpSp>
                  <p:nvGrpSpPr>
                    <p:cNvPr id="548" name=""/>
                    <p:cNvGrpSpPr/>
                    <p:nvPr/>
                  </p:nvGrpSpPr>
                  <p:grpSpPr>
                    <a:xfrm>
                      <a:off x="3543120" y="4829760"/>
                      <a:ext cx="492120" cy="393480"/>
                      <a:chOff x="3543120" y="4829760"/>
                      <a:chExt cx="492120" cy="393480"/>
                    </a:xfrm>
                  </p:grpSpPr>
                  <p:grpSp>
                    <p:nvGrpSpPr>
                      <p:cNvPr id="549" name=""/>
                      <p:cNvGrpSpPr/>
                      <p:nvPr/>
                    </p:nvGrpSpPr>
                    <p:grpSpPr>
                      <a:xfrm>
                        <a:off x="3840840" y="4829760"/>
                        <a:ext cx="194400" cy="277200"/>
                        <a:chOff x="3840840" y="4829760"/>
                        <a:chExt cx="194400" cy="277200"/>
                      </a:xfrm>
                    </p:grpSpPr>
                    <p:sp>
                      <p:nvSpPr>
                        <p:cNvPr id="550" name=""/>
                        <p:cNvSpPr/>
                        <p:nvPr/>
                      </p:nvSpPr>
                      <p:spPr>
                        <a:xfrm flipH="1" rot="21099600">
                          <a:off x="3857400" y="4839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1" name=""/>
                        <p:cNvSpPr/>
                        <p:nvPr/>
                      </p:nvSpPr>
                      <p:spPr>
                        <a:xfrm flipH="1" rot="21099600">
                          <a:off x="3866040" y="48470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52" name=""/>
                      <p:cNvGrpSpPr/>
                      <p:nvPr/>
                    </p:nvGrpSpPr>
                    <p:grpSpPr>
                      <a:xfrm>
                        <a:off x="3724920" y="4872960"/>
                        <a:ext cx="220680" cy="288720"/>
                        <a:chOff x="3724920" y="4872960"/>
                        <a:chExt cx="220680" cy="288720"/>
                      </a:xfrm>
                    </p:grpSpPr>
                    <p:sp>
                      <p:nvSpPr>
                        <p:cNvPr id="553" name=""/>
                        <p:cNvSpPr/>
                        <p:nvPr/>
                      </p:nvSpPr>
                      <p:spPr>
                        <a:xfrm flipH="1" rot="20649000">
                          <a:off x="3754080" y="48902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4" name=""/>
                        <p:cNvSpPr/>
                        <p:nvPr/>
                      </p:nvSpPr>
                      <p:spPr>
                        <a:xfrm flipH="1" rot="20649000">
                          <a:off x="3764520" y="489924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55" name=""/>
                      <p:cNvGrpSpPr/>
                      <p:nvPr/>
                    </p:nvGrpSpPr>
                    <p:grpSpPr>
                      <a:xfrm>
                        <a:off x="3543120" y="4923720"/>
                        <a:ext cx="268920" cy="299520"/>
                        <a:chOff x="3543120" y="4923720"/>
                        <a:chExt cx="268920" cy="299520"/>
                      </a:xfrm>
                    </p:grpSpPr>
                    <p:sp>
                      <p:nvSpPr>
                        <p:cNvPr id="556" name=""/>
                        <p:cNvSpPr/>
                        <p:nvPr/>
                      </p:nvSpPr>
                      <p:spPr>
                        <a:xfrm flipH="1" rot="19542600">
                          <a:off x="3596040" y="4948200"/>
                          <a:ext cx="16200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" name=""/>
                        <p:cNvSpPr/>
                        <p:nvPr/>
                      </p:nvSpPr>
                      <p:spPr>
                        <a:xfrm flipH="1" rot="19542600">
                          <a:off x="3613320" y="49618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58" name=""/>
                    <p:cNvGrpSpPr/>
                    <p:nvPr/>
                  </p:nvGrpSpPr>
                  <p:grpSpPr>
                    <a:xfrm>
                      <a:off x="4040280" y="4775400"/>
                      <a:ext cx="481320" cy="341280"/>
                      <a:chOff x="4040280" y="4775400"/>
                      <a:chExt cx="481320" cy="341280"/>
                    </a:xfrm>
                  </p:grpSpPr>
                  <p:grpSp>
                    <p:nvGrpSpPr>
                      <p:cNvPr id="559" name=""/>
                      <p:cNvGrpSpPr/>
                      <p:nvPr/>
                    </p:nvGrpSpPr>
                    <p:grpSpPr>
                      <a:xfrm>
                        <a:off x="4040280" y="4775400"/>
                        <a:ext cx="165600" cy="259200"/>
                        <a:chOff x="4040280" y="4775400"/>
                        <a:chExt cx="165600" cy="259200"/>
                      </a:xfrm>
                    </p:grpSpPr>
                    <p:sp>
                      <p:nvSpPr>
                        <p:cNvPr id="560" name=""/>
                        <p:cNvSpPr/>
                        <p:nvPr/>
                      </p:nvSpPr>
                      <p:spPr>
                        <a:xfrm rot="21544800">
                          <a:off x="4042080" y="47764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1" name=""/>
                        <p:cNvSpPr/>
                        <p:nvPr/>
                      </p:nvSpPr>
                      <p:spPr>
                        <a:xfrm rot="21544800">
                          <a:off x="4091760" y="47800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62" name=""/>
                      <p:cNvGrpSpPr/>
                      <p:nvPr/>
                    </p:nvGrpSpPr>
                    <p:grpSpPr>
                      <a:xfrm>
                        <a:off x="4138560" y="4801320"/>
                        <a:ext cx="187920" cy="272520"/>
                        <a:chOff x="4138560" y="4801320"/>
                        <a:chExt cx="187920" cy="272520"/>
                      </a:xfrm>
                    </p:grpSpPr>
                    <p:sp>
                      <p:nvSpPr>
                        <p:cNvPr id="563" name=""/>
                        <p:cNvSpPr/>
                        <p:nvPr/>
                      </p:nvSpPr>
                      <p:spPr>
                        <a:xfrm rot="395400">
                          <a:off x="4151520" y="4809600"/>
                          <a:ext cx="16164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 rot="395400">
                          <a:off x="4200120" y="481536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65" name=""/>
                      <p:cNvGrpSpPr/>
                      <p:nvPr/>
                    </p:nvGrpSpPr>
                    <p:grpSpPr>
                      <a:xfrm>
                        <a:off x="4273560" y="4818600"/>
                        <a:ext cx="248040" cy="298080"/>
                        <a:chOff x="4273560" y="4818600"/>
                        <a:chExt cx="248040" cy="298080"/>
                      </a:xfrm>
                    </p:grpSpPr>
                    <p:sp>
                      <p:nvSpPr>
                        <p:cNvPr id="566" name=""/>
                        <p:cNvSpPr/>
                        <p:nvPr/>
                      </p:nvSpPr>
                      <p:spPr>
                        <a:xfrm rot="1501800">
                          <a:off x="4316760" y="48412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 rot="1501800">
                          <a:off x="4359960" y="48528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4305240" y="4775400"/>
                    <a:ext cx="978480" cy="447840"/>
                    <a:chOff x="4305240" y="4775400"/>
                    <a:chExt cx="978480" cy="447840"/>
                  </a:xfrm>
                </p:grpSpPr>
                <p:grpSp>
                  <p:nvGrpSpPr>
                    <p:cNvPr id="569" name=""/>
                    <p:cNvGrpSpPr/>
                    <p:nvPr/>
                  </p:nvGrpSpPr>
                  <p:grpSpPr>
                    <a:xfrm>
                      <a:off x="4791600" y="4829760"/>
                      <a:ext cx="492120" cy="393480"/>
                      <a:chOff x="4791600" y="4829760"/>
                      <a:chExt cx="492120" cy="393480"/>
                    </a:xfrm>
                  </p:grpSpPr>
                  <p:grpSp>
                    <p:nvGrpSpPr>
                      <p:cNvPr id="570" name=""/>
                      <p:cNvGrpSpPr/>
                      <p:nvPr/>
                    </p:nvGrpSpPr>
                    <p:grpSpPr>
                      <a:xfrm>
                        <a:off x="4791600" y="4829760"/>
                        <a:ext cx="194400" cy="276840"/>
                        <a:chOff x="4791600" y="4829760"/>
                        <a:chExt cx="194400" cy="276840"/>
                      </a:xfrm>
                    </p:grpSpPr>
                    <p:sp>
                      <p:nvSpPr>
                        <p:cNvPr id="571" name=""/>
                        <p:cNvSpPr/>
                        <p:nvPr/>
                      </p:nvSpPr>
                      <p:spPr>
                        <a:xfrm rot="500400">
                          <a:off x="4808160" y="4839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2" name=""/>
                        <p:cNvSpPr/>
                        <p:nvPr/>
                      </p:nvSpPr>
                      <p:spPr>
                        <a:xfrm rot="500400">
                          <a:off x="4855680" y="484704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73" name=""/>
                      <p:cNvGrpSpPr/>
                      <p:nvPr/>
                    </p:nvGrpSpPr>
                    <p:grpSpPr>
                      <a:xfrm>
                        <a:off x="4881600" y="4872960"/>
                        <a:ext cx="220320" cy="288720"/>
                        <a:chOff x="4881600" y="4872960"/>
                        <a:chExt cx="220320" cy="288720"/>
                      </a:xfrm>
                    </p:grpSpPr>
                    <p:sp>
                      <p:nvSpPr>
                        <p:cNvPr id="574" name=""/>
                        <p:cNvSpPr/>
                        <p:nvPr/>
                      </p:nvSpPr>
                      <p:spPr>
                        <a:xfrm rot="951000">
                          <a:off x="4911120" y="4890240"/>
                          <a:ext cx="16128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"/>
                        <p:cNvSpPr/>
                        <p:nvPr/>
                      </p:nvSpPr>
                      <p:spPr>
                        <a:xfrm rot="951000">
                          <a:off x="4957200" y="489924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76" name=""/>
                      <p:cNvGrpSpPr/>
                      <p:nvPr/>
                    </p:nvGrpSpPr>
                    <p:grpSpPr>
                      <a:xfrm>
                        <a:off x="5014440" y="4923720"/>
                        <a:ext cx="269280" cy="299520"/>
                        <a:chOff x="5014440" y="4923720"/>
                        <a:chExt cx="269280" cy="299520"/>
                      </a:xfrm>
                    </p:grpSpPr>
                    <p:sp>
                      <p:nvSpPr>
                        <p:cNvPr id="577" name=""/>
                        <p:cNvSpPr/>
                        <p:nvPr/>
                      </p:nvSpPr>
                      <p:spPr>
                        <a:xfrm rot="2057400">
                          <a:off x="5067720" y="4948200"/>
                          <a:ext cx="162000" cy="240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"/>
                        <p:cNvSpPr/>
                        <p:nvPr/>
                      </p:nvSpPr>
                      <p:spPr>
                        <a:xfrm rot="2057400">
                          <a:off x="5108040" y="4961880"/>
                          <a:ext cx="10476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79" name=""/>
                    <p:cNvGrpSpPr/>
                    <p:nvPr/>
                  </p:nvGrpSpPr>
                  <p:grpSpPr>
                    <a:xfrm>
                      <a:off x="4305240" y="4775400"/>
                      <a:ext cx="481320" cy="341280"/>
                      <a:chOff x="4305240" y="4775400"/>
                      <a:chExt cx="481320" cy="341280"/>
                    </a:xfrm>
                  </p:grpSpPr>
                  <p:grpSp>
                    <p:nvGrpSpPr>
                      <p:cNvPr id="580" name=""/>
                      <p:cNvGrpSpPr/>
                      <p:nvPr/>
                    </p:nvGrpSpPr>
                    <p:grpSpPr>
                      <a:xfrm>
                        <a:off x="4621320" y="4775400"/>
                        <a:ext cx="165240" cy="259200"/>
                        <a:chOff x="4621320" y="4775400"/>
                        <a:chExt cx="165240" cy="259200"/>
                      </a:xfrm>
                    </p:grpSpPr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 flipH="1" rot="55200">
                          <a:off x="4622760" y="47764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2" name=""/>
                        <p:cNvSpPr/>
                        <p:nvPr/>
                      </p:nvSpPr>
                      <p:spPr>
                        <a:xfrm flipH="1" rot="55200">
                          <a:off x="4629240" y="47800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3" name=""/>
                      <p:cNvGrpSpPr/>
                      <p:nvPr/>
                    </p:nvGrpSpPr>
                    <p:grpSpPr>
                      <a:xfrm>
                        <a:off x="4500360" y="4801320"/>
                        <a:ext cx="188280" cy="272520"/>
                        <a:chOff x="4500360" y="4801320"/>
                        <a:chExt cx="188280" cy="272520"/>
                      </a:xfrm>
                    </p:grpSpPr>
                    <p:sp>
                      <p:nvSpPr>
                        <p:cNvPr id="584" name=""/>
                        <p:cNvSpPr/>
                        <p:nvPr/>
                      </p:nvSpPr>
                      <p:spPr>
                        <a:xfrm flipH="1" rot="21204600">
                          <a:off x="4513320" y="4809600"/>
                          <a:ext cx="161640" cy="23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 flipH="1" rot="21204600">
                          <a:off x="4521240" y="481536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6" name=""/>
                      <p:cNvGrpSpPr/>
                      <p:nvPr/>
                    </p:nvGrpSpPr>
                    <p:grpSpPr>
                      <a:xfrm>
                        <a:off x="4305240" y="4818600"/>
                        <a:ext cx="248040" cy="298080"/>
                        <a:chOff x="4305240" y="4818600"/>
                        <a:chExt cx="248040" cy="298080"/>
                      </a:xfrm>
                    </p:grpSpPr>
                    <p:sp>
                      <p:nvSpPr>
                        <p:cNvPr id="587" name=""/>
                        <p:cNvSpPr/>
                        <p:nvPr/>
                      </p:nvSpPr>
                      <p:spPr>
                        <a:xfrm flipH="1" rot="20098200">
                          <a:off x="4348080" y="48412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 flipH="1" rot="20098200">
                          <a:off x="4361040" y="48528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89" name=""/>
                <p:cNvGrpSpPr/>
                <p:nvPr/>
              </p:nvGrpSpPr>
              <p:grpSpPr>
                <a:xfrm>
                  <a:off x="5557680" y="4520880"/>
                  <a:ext cx="682200" cy="222480"/>
                  <a:chOff x="5557680" y="4520880"/>
                  <a:chExt cx="682200" cy="22248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5557680" y="4520880"/>
                    <a:ext cx="32220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906880" y="4522680"/>
                    <a:ext cx="33300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4657320" y="4254480"/>
                  <a:ext cx="165240" cy="82440"/>
                  <a:chOff x="4657320" y="4254480"/>
                  <a:chExt cx="165240" cy="8244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>
                    <a:off x="4657320" y="42544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4741920" y="42548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6202080" y="4038480"/>
                  <a:ext cx="165240" cy="82440"/>
                  <a:chOff x="6202080" y="4038480"/>
                  <a:chExt cx="165240" cy="8244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6202080" y="40384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6286680" y="40388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8" name=""/>
                <p:cNvGrpSpPr/>
                <p:nvPr/>
              </p:nvGrpSpPr>
              <p:grpSpPr>
                <a:xfrm>
                  <a:off x="7203960" y="4228920"/>
                  <a:ext cx="163440" cy="82440"/>
                  <a:chOff x="7203960" y="4228920"/>
                  <a:chExt cx="163440" cy="8244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>
                    <a:off x="7203960" y="42289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7287480" y="42292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1" name=""/>
                <p:cNvGrpSpPr/>
                <p:nvPr/>
              </p:nvGrpSpPr>
              <p:grpSpPr>
                <a:xfrm>
                  <a:off x="8318160" y="3771720"/>
                  <a:ext cx="165240" cy="82440"/>
                  <a:chOff x="8318160" y="3771720"/>
                  <a:chExt cx="165240" cy="8244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8318160" y="37717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8402760" y="37720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4" name=""/>
                <p:cNvGrpSpPr/>
                <p:nvPr/>
              </p:nvGrpSpPr>
              <p:grpSpPr>
                <a:xfrm>
                  <a:off x="8089560" y="3822480"/>
                  <a:ext cx="165240" cy="82440"/>
                  <a:chOff x="8089560" y="3822480"/>
                  <a:chExt cx="165240" cy="8244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8089560" y="38224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8174160" y="38228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" name=""/>
                <p:cNvGrpSpPr/>
                <p:nvPr/>
              </p:nvGrpSpPr>
              <p:grpSpPr>
                <a:xfrm>
                  <a:off x="7924680" y="3848040"/>
                  <a:ext cx="164520" cy="82440"/>
                  <a:chOff x="7924680" y="3848040"/>
                  <a:chExt cx="164520" cy="8244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7924680" y="384804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8008920" y="38484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" name=""/>
                <p:cNvGrpSpPr/>
                <p:nvPr/>
              </p:nvGrpSpPr>
              <p:grpSpPr>
                <a:xfrm>
                  <a:off x="7924680" y="3746520"/>
                  <a:ext cx="164520" cy="82440"/>
                  <a:chOff x="7924680" y="3746520"/>
                  <a:chExt cx="164520" cy="8244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>
                    <a:off x="7924680" y="37465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8008920" y="37468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3" name=""/>
                <p:cNvGrpSpPr/>
                <p:nvPr/>
              </p:nvGrpSpPr>
              <p:grpSpPr>
                <a:xfrm>
                  <a:off x="8000640" y="3682800"/>
                  <a:ext cx="165240" cy="82440"/>
                  <a:chOff x="8000640" y="3682800"/>
                  <a:chExt cx="165240" cy="8244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>
                    <a:off x="8000640" y="36828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8085240" y="36831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8064360" y="3657600"/>
                  <a:ext cx="164520" cy="82440"/>
                  <a:chOff x="8064360" y="3657600"/>
                  <a:chExt cx="164520" cy="8244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>
                    <a:off x="8064360" y="36576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8148600" y="36579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9" name=""/>
                <p:cNvGrpSpPr/>
                <p:nvPr/>
              </p:nvGrpSpPr>
              <p:grpSpPr>
                <a:xfrm>
                  <a:off x="8140320" y="3619440"/>
                  <a:ext cx="165240" cy="82440"/>
                  <a:chOff x="8140320" y="3619440"/>
                  <a:chExt cx="165240" cy="82440"/>
                </a:xfrm>
              </p:grpSpPr>
              <p:sp>
                <p:nvSpPr>
                  <p:cNvPr id="620" name=""/>
                  <p:cNvSpPr/>
                  <p:nvPr/>
                </p:nvSpPr>
                <p:spPr>
                  <a:xfrm>
                    <a:off x="8140320" y="36194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8224920" y="36198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" name=""/>
                <p:cNvGrpSpPr/>
                <p:nvPr/>
              </p:nvGrpSpPr>
              <p:grpSpPr>
                <a:xfrm>
                  <a:off x="8343720" y="3543120"/>
                  <a:ext cx="163440" cy="82440"/>
                  <a:chOff x="8343720" y="3543120"/>
                  <a:chExt cx="163440" cy="8244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8343720" y="35431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8427240" y="35434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5" name=""/>
                <p:cNvGrpSpPr/>
                <p:nvPr/>
              </p:nvGrpSpPr>
              <p:grpSpPr>
                <a:xfrm>
                  <a:off x="7341840" y="3682800"/>
                  <a:ext cx="165240" cy="82440"/>
                  <a:chOff x="7341840" y="3682800"/>
                  <a:chExt cx="165240" cy="8244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7341840" y="36828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7426440" y="36831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8659440" y="3543120"/>
                  <a:ext cx="165240" cy="82440"/>
                  <a:chOff x="8659440" y="3543120"/>
                  <a:chExt cx="165240" cy="8244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>
                    <a:off x="8659440" y="35431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8744040" y="3543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8127720" y="4305240"/>
                  <a:ext cx="165240" cy="82440"/>
                  <a:chOff x="8127720" y="4305240"/>
                  <a:chExt cx="165240" cy="824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8127720" y="43052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8212320" y="43056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8445240" y="4305240"/>
                  <a:ext cx="163440" cy="82440"/>
                  <a:chOff x="8445240" y="4305240"/>
                  <a:chExt cx="163440" cy="8244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>
                    <a:off x="8445240" y="430524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8528760" y="430560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5721120" y="3873240"/>
                  <a:ext cx="165240" cy="82800"/>
                  <a:chOff x="5721120" y="3873240"/>
                  <a:chExt cx="165240" cy="828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5721120" y="387324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5805720" y="38736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5493960" y="3924000"/>
                  <a:ext cx="163800" cy="82800"/>
                  <a:chOff x="5493960" y="3924000"/>
                  <a:chExt cx="163800" cy="8280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5493960" y="3924000"/>
                    <a:ext cx="774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5577840" y="39243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5329080" y="3949560"/>
                  <a:ext cx="164520" cy="82440"/>
                  <a:chOff x="5329080" y="3949560"/>
                  <a:chExt cx="164520" cy="8244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5329080" y="39495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5413320" y="39499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5329080" y="3848040"/>
                  <a:ext cx="164520" cy="82440"/>
                  <a:chOff x="5329080" y="3848040"/>
                  <a:chExt cx="164520" cy="8244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>
                    <a:off x="5329080" y="384804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5413320" y="38484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5405040" y="3784320"/>
                  <a:ext cx="165240" cy="82800"/>
                  <a:chOff x="5405040" y="3784320"/>
                  <a:chExt cx="165240" cy="828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5405040" y="37843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5489640" y="37846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5468760" y="3759120"/>
                  <a:ext cx="163440" cy="82440"/>
                  <a:chOff x="5468760" y="3759120"/>
                  <a:chExt cx="163440" cy="824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5468760" y="37591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5552280" y="37594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5545080" y="3720960"/>
                  <a:ext cx="163440" cy="82440"/>
                  <a:chOff x="5545080" y="3720960"/>
                  <a:chExt cx="163440" cy="82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5545080" y="372096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5628600" y="372132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5746680" y="3644640"/>
                  <a:ext cx="164520" cy="82800"/>
                  <a:chOff x="5746680" y="3644640"/>
                  <a:chExt cx="164520" cy="8280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>
                    <a:off x="5746680" y="364464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5830920" y="36450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6835680" y="4825800"/>
                  <a:ext cx="164520" cy="82440"/>
                  <a:chOff x="6835680" y="4825800"/>
                  <a:chExt cx="164520" cy="8244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6835680" y="48258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6919920" y="48261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6608520" y="4876560"/>
                  <a:ext cx="163440" cy="82800"/>
                  <a:chOff x="6608520" y="4876560"/>
                  <a:chExt cx="163440" cy="8280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>
                    <a:off x="6608520" y="487656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6692040" y="487692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6443280" y="4902120"/>
                  <a:ext cx="165240" cy="82440"/>
                  <a:chOff x="6443280" y="4902120"/>
                  <a:chExt cx="165240" cy="8244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6443280" y="49021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6527880" y="4902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6443280" y="4800600"/>
                  <a:ext cx="165240" cy="82440"/>
                  <a:chOff x="6443280" y="4800600"/>
                  <a:chExt cx="165240" cy="8244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6443280" y="48006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6527880" y="4800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6519600" y="4736880"/>
                  <a:ext cx="165240" cy="82440"/>
                  <a:chOff x="6519600" y="4736880"/>
                  <a:chExt cx="165240" cy="8244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>
                    <a:off x="6519600" y="47368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6604200" y="47372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6582960" y="4711680"/>
                  <a:ext cx="165240" cy="82440"/>
                  <a:chOff x="6582960" y="4711680"/>
                  <a:chExt cx="165240" cy="8244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6582960" y="47116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6667560" y="47120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6659280" y="4673520"/>
                  <a:ext cx="163440" cy="82440"/>
                  <a:chOff x="6659280" y="4673520"/>
                  <a:chExt cx="163440" cy="8244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6659280" y="46735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6742800" y="46738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" name=""/>
                <p:cNvGrpSpPr/>
                <p:nvPr/>
              </p:nvGrpSpPr>
              <p:grpSpPr>
                <a:xfrm>
                  <a:off x="6860880" y="4597200"/>
                  <a:ext cx="165240" cy="82440"/>
                  <a:chOff x="6860880" y="4597200"/>
                  <a:chExt cx="165240" cy="8244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6860880" y="45972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6945480" y="45975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" name=""/>
                <p:cNvGrpSpPr/>
                <p:nvPr/>
              </p:nvGrpSpPr>
              <p:grpSpPr>
                <a:xfrm>
                  <a:off x="5481360" y="4838400"/>
                  <a:ext cx="163440" cy="82800"/>
                  <a:chOff x="5481360" y="4838400"/>
                  <a:chExt cx="163440" cy="8280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>
                    <a:off x="5481360" y="483840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5564880" y="48387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5252760" y="4889520"/>
                  <a:ext cx="165240" cy="82440"/>
                  <a:chOff x="5252760" y="4889520"/>
                  <a:chExt cx="165240" cy="8244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>
                    <a:off x="5252760" y="48895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5337360" y="4889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5087880" y="4914720"/>
                  <a:ext cx="164520" cy="82440"/>
                  <a:chOff x="5087880" y="4914720"/>
                  <a:chExt cx="164520" cy="8244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5087880" y="49147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5172120" y="49150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4" name=""/>
                <p:cNvGrpSpPr/>
                <p:nvPr/>
              </p:nvGrpSpPr>
              <p:grpSpPr>
                <a:xfrm>
                  <a:off x="5087880" y="4813200"/>
                  <a:ext cx="164520" cy="82440"/>
                  <a:chOff x="5087880" y="4813200"/>
                  <a:chExt cx="164520" cy="8244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5087880" y="48132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5172120" y="48135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" name=""/>
                <p:cNvGrpSpPr/>
                <p:nvPr/>
              </p:nvGrpSpPr>
              <p:grpSpPr>
                <a:xfrm>
                  <a:off x="5163840" y="4749480"/>
                  <a:ext cx="165240" cy="82800"/>
                  <a:chOff x="5163840" y="4749480"/>
                  <a:chExt cx="165240" cy="8280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>
                    <a:off x="5163840" y="47494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5248440" y="47498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0" name=""/>
                <p:cNvGrpSpPr/>
                <p:nvPr/>
              </p:nvGrpSpPr>
              <p:grpSpPr>
                <a:xfrm>
                  <a:off x="5227560" y="4724280"/>
                  <a:ext cx="164520" cy="82440"/>
                  <a:chOff x="5227560" y="4724280"/>
                  <a:chExt cx="164520" cy="8244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5227560" y="472428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5311800" y="472464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5303520" y="4686120"/>
                  <a:ext cx="165240" cy="82440"/>
                  <a:chOff x="5303520" y="4686120"/>
                  <a:chExt cx="165240" cy="8244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5303520" y="46861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5388120" y="4686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"/>
                <p:cNvGrpSpPr/>
                <p:nvPr/>
              </p:nvGrpSpPr>
              <p:grpSpPr>
                <a:xfrm>
                  <a:off x="5506920" y="4609800"/>
                  <a:ext cx="163440" cy="82800"/>
                  <a:chOff x="5506920" y="4609800"/>
                  <a:chExt cx="163440" cy="8280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>
                    <a:off x="5506920" y="460980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5590440" y="46101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"/>
                <p:cNvGrpSpPr/>
                <p:nvPr/>
              </p:nvGrpSpPr>
              <p:grpSpPr>
                <a:xfrm>
                  <a:off x="4176360" y="3873240"/>
                  <a:ext cx="684000" cy="222480"/>
                  <a:chOff x="4176360" y="3873240"/>
                  <a:chExt cx="684000" cy="22248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>
                    <a:off x="4176360" y="3873240"/>
                    <a:ext cx="32328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4526280" y="3875040"/>
                    <a:ext cx="33408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" name=""/>
                <p:cNvGrpSpPr/>
                <p:nvPr/>
              </p:nvGrpSpPr>
              <p:grpSpPr>
                <a:xfrm>
                  <a:off x="6659280" y="3759120"/>
                  <a:ext cx="163440" cy="82440"/>
                  <a:chOff x="6659280" y="3759120"/>
                  <a:chExt cx="163440" cy="8244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>
                    <a:off x="6659280" y="37591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742800" y="37594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6316560" y="4597200"/>
                  <a:ext cx="164520" cy="82440"/>
                  <a:chOff x="6316560" y="4597200"/>
                  <a:chExt cx="164520" cy="8244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6316560" y="45972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6400800" y="45975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7089480" y="4457520"/>
                  <a:ext cx="165240" cy="82440"/>
                  <a:chOff x="7089480" y="4457520"/>
                  <a:chExt cx="165240" cy="8244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7089480" y="44575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7174080" y="4457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7748280" y="4381200"/>
                  <a:ext cx="165240" cy="82800"/>
                  <a:chOff x="7748280" y="4381200"/>
                  <a:chExt cx="165240" cy="8280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>
                    <a:off x="7748280" y="438120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7832880" y="43815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5256360" y="3632400"/>
                  <a:ext cx="1735920" cy="447120"/>
                  <a:chOff x="5256360" y="3632400"/>
                  <a:chExt cx="1735920" cy="447120"/>
                </a:xfrm>
              </p:grpSpPr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5256360" y="3632400"/>
                    <a:ext cx="975600" cy="447120"/>
                    <a:chOff x="5256360" y="3632400"/>
                    <a:chExt cx="975600" cy="447120"/>
                  </a:xfrm>
                </p:grpSpPr>
                <p:grpSp>
                  <p:nvGrpSpPr>
                    <p:cNvPr id="726" name=""/>
                    <p:cNvGrpSpPr/>
                    <p:nvPr/>
                  </p:nvGrpSpPr>
                  <p:grpSpPr>
                    <a:xfrm>
                      <a:off x="5256360" y="3686760"/>
                      <a:ext cx="491040" cy="392760"/>
                      <a:chOff x="5256360" y="3686760"/>
                      <a:chExt cx="491040" cy="392760"/>
                    </a:xfrm>
                  </p:grpSpPr>
                  <p:grpSp>
                    <p:nvGrpSpPr>
                      <p:cNvPr id="727" name=""/>
                      <p:cNvGrpSpPr/>
                      <p:nvPr/>
                    </p:nvGrpSpPr>
                    <p:grpSpPr>
                      <a:xfrm>
                        <a:off x="5553000" y="3686760"/>
                        <a:ext cx="194400" cy="277200"/>
                        <a:chOff x="5553000" y="3686760"/>
                        <a:chExt cx="194400" cy="277200"/>
                      </a:xfrm>
                    </p:grpSpPr>
                    <p:sp>
                      <p:nvSpPr>
                        <p:cNvPr id="728" name=""/>
                        <p:cNvSpPr/>
                        <p:nvPr/>
                      </p:nvSpPr>
                      <p:spPr>
                        <a:xfrm flipH="1" rot="21099600">
                          <a:off x="5569560" y="3696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9" name=""/>
                        <p:cNvSpPr/>
                        <p:nvPr/>
                      </p:nvSpPr>
                      <p:spPr>
                        <a:xfrm flipH="1" rot="21099600">
                          <a:off x="5579280" y="370368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30" name=""/>
                      <p:cNvGrpSpPr/>
                      <p:nvPr/>
                    </p:nvGrpSpPr>
                    <p:grpSpPr>
                      <a:xfrm>
                        <a:off x="5437440" y="3730320"/>
                        <a:ext cx="220320" cy="288720"/>
                        <a:chOff x="5437440" y="3730320"/>
                        <a:chExt cx="220320" cy="288720"/>
                      </a:xfrm>
                    </p:grpSpPr>
                    <p:sp>
                      <p:nvSpPr>
                        <p:cNvPr id="731" name=""/>
                        <p:cNvSpPr/>
                        <p:nvPr/>
                      </p:nvSpPr>
                      <p:spPr>
                        <a:xfrm flipH="1" rot="20649000">
                          <a:off x="5466960" y="374760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2" name=""/>
                        <p:cNvSpPr/>
                        <p:nvPr/>
                      </p:nvSpPr>
                      <p:spPr>
                        <a:xfrm flipH="1" rot="20649000">
                          <a:off x="5477760" y="375660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33" name=""/>
                      <p:cNvGrpSpPr/>
                      <p:nvPr/>
                    </p:nvGrpSpPr>
                    <p:grpSpPr>
                      <a:xfrm>
                        <a:off x="5256360" y="3780720"/>
                        <a:ext cx="268200" cy="298800"/>
                        <a:chOff x="5256360" y="3780720"/>
                        <a:chExt cx="268200" cy="298800"/>
                      </a:xfrm>
                    </p:grpSpPr>
                    <p:sp>
                      <p:nvSpPr>
                        <p:cNvPr id="734" name=""/>
                        <p:cNvSpPr/>
                        <p:nvPr/>
                      </p:nvSpPr>
                      <p:spPr>
                        <a:xfrm flipH="1" rot="19542600">
                          <a:off x="5309640" y="380520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5" name=""/>
                        <p:cNvSpPr/>
                        <p:nvPr/>
                      </p:nvSpPr>
                      <p:spPr>
                        <a:xfrm flipH="1" rot="19542600">
                          <a:off x="5326200" y="381852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36" name=""/>
                    <p:cNvGrpSpPr/>
                    <p:nvPr/>
                  </p:nvGrpSpPr>
                  <p:grpSpPr>
                    <a:xfrm>
                      <a:off x="5752080" y="3632400"/>
                      <a:ext cx="479880" cy="341280"/>
                      <a:chOff x="5752080" y="3632400"/>
                      <a:chExt cx="479880" cy="341280"/>
                    </a:xfrm>
                  </p:grpSpPr>
                  <p:grpSp>
                    <p:nvGrpSpPr>
                      <p:cNvPr id="737" name=""/>
                      <p:cNvGrpSpPr/>
                      <p:nvPr/>
                    </p:nvGrpSpPr>
                    <p:grpSpPr>
                      <a:xfrm>
                        <a:off x="5752080" y="3632400"/>
                        <a:ext cx="165240" cy="258480"/>
                        <a:chOff x="5752080" y="3632400"/>
                        <a:chExt cx="165240" cy="258480"/>
                      </a:xfrm>
                    </p:grpSpPr>
                    <p:sp>
                      <p:nvSpPr>
                        <p:cNvPr id="738" name=""/>
                        <p:cNvSpPr/>
                        <p:nvPr/>
                      </p:nvSpPr>
                      <p:spPr>
                        <a:xfrm rot="21544800">
                          <a:off x="5753880" y="363348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9" name=""/>
                        <p:cNvSpPr/>
                        <p:nvPr/>
                      </p:nvSpPr>
                      <p:spPr>
                        <a:xfrm rot="21544800">
                          <a:off x="5803560" y="363636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40" name=""/>
                      <p:cNvGrpSpPr/>
                      <p:nvPr/>
                    </p:nvGrpSpPr>
                    <p:grpSpPr>
                      <a:xfrm>
                        <a:off x="5850000" y="3657960"/>
                        <a:ext cx="187200" cy="272880"/>
                        <a:chOff x="5850000" y="3657960"/>
                        <a:chExt cx="187200" cy="272880"/>
                      </a:xfrm>
                    </p:grpSpPr>
                    <p:sp>
                      <p:nvSpPr>
                        <p:cNvPr id="741" name=""/>
                        <p:cNvSpPr/>
                        <p:nvPr/>
                      </p:nvSpPr>
                      <p:spPr>
                        <a:xfrm rot="395400">
                          <a:off x="5862960" y="366624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2" name=""/>
                        <p:cNvSpPr/>
                        <p:nvPr/>
                      </p:nvSpPr>
                      <p:spPr>
                        <a:xfrm rot="395400">
                          <a:off x="5911200" y="367236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43" name=""/>
                      <p:cNvGrpSpPr/>
                      <p:nvPr/>
                    </p:nvGrpSpPr>
                    <p:grpSpPr>
                      <a:xfrm>
                        <a:off x="5984280" y="3675600"/>
                        <a:ext cx="247680" cy="298080"/>
                        <a:chOff x="5984280" y="3675600"/>
                        <a:chExt cx="247680" cy="298080"/>
                      </a:xfrm>
                    </p:grpSpPr>
                    <p:sp>
                      <p:nvSpPr>
                        <p:cNvPr id="744" name=""/>
                        <p:cNvSpPr/>
                        <p:nvPr/>
                      </p:nvSpPr>
                      <p:spPr>
                        <a:xfrm rot="1501800">
                          <a:off x="6027480" y="369828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5" name=""/>
                        <p:cNvSpPr/>
                        <p:nvPr/>
                      </p:nvSpPr>
                      <p:spPr>
                        <a:xfrm rot="1501800">
                          <a:off x="6070680" y="370980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6016680" y="3632400"/>
                    <a:ext cx="975600" cy="446760"/>
                    <a:chOff x="6016680" y="3632400"/>
                    <a:chExt cx="975600" cy="446760"/>
                  </a:xfrm>
                </p:grpSpPr>
                <p:grpSp>
                  <p:nvGrpSpPr>
                    <p:cNvPr id="747" name=""/>
                    <p:cNvGrpSpPr/>
                    <p:nvPr/>
                  </p:nvGrpSpPr>
                  <p:grpSpPr>
                    <a:xfrm>
                      <a:off x="6501240" y="3686760"/>
                      <a:ext cx="491040" cy="392400"/>
                      <a:chOff x="6501240" y="3686760"/>
                      <a:chExt cx="491040" cy="392400"/>
                    </a:xfrm>
                  </p:grpSpPr>
                  <p:grpSp>
                    <p:nvGrpSpPr>
                      <p:cNvPr id="748" name=""/>
                      <p:cNvGrpSpPr/>
                      <p:nvPr/>
                    </p:nvGrpSpPr>
                    <p:grpSpPr>
                      <a:xfrm>
                        <a:off x="6501240" y="3686760"/>
                        <a:ext cx="194400" cy="276840"/>
                        <a:chOff x="6501240" y="3686760"/>
                        <a:chExt cx="194400" cy="276840"/>
                      </a:xfrm>
                    </p:grpSpPr>
                    <p:sp>
                      <p:nvSpPr>
                        <p:cNvPr id="749" name=""/>
                        <p:cNvSpPr/>
                        <p:nvPr/>
                      </p:nvSpPr>
                      <p:spPr>
                        <a:xfrm rot="500400">
                          <a:off x="6517800" y="3696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0" name=""/>
                        <p:cNvSpPr/>
                        <p:nvPr/>
                      </p:nvSpPr>
                      <p:spPr>
                        <a:xfrm rot="500400">
                          <a:off x="6564960" y="370368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51" name=""/>
                      <p:cNvGrpSpPr/>
                      <p:nvPr/>
                    </p:nvGrpSpPr>
                    <p:grpSpPr>
                      <a:xfrm>
                        <a:off x="6590880" y="3730320"/>
                        <a:ext cx="220320" cy="288720"/>
                        <a:chOff x="6590880" y="3730320"/>
                        <a:chExt cx="220320" cy="288720"/>
                      </a:xfrm>
                    </p:grpSpPr>
                    <p:sp>
                      <p:nvSpPr>
                        <p:cNvPr id="752" name=""/>
                        <p:cNvSpPr/>
                        <p:nvPr/>
                      </p:nvSpPr>
                      <p:spPr>
                        <a:xfrm rot="951000">
                          <a:off x="6620400" y="374760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3" name=""/>
                        <p:cNvSpPr/>
                        <p:nvPr/>
                      </p:nvSpPr>
                      <p:spPr>
                        <a:xfrm rot="951000">
                          <a:off x="6666480" y="375660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54" name=""/>
                      <p:cNvGrpSpPr/>
                      <p:nvPr/>
                    </p:nvGrpSpPr>
                    <p:grpSpPr>
                      <a:xfrm>
                        <a:off x="6724080" y="3780720"/>
                        <a:ext cx="268200" cy="298440"/>
                        <a:chOff x="6724080" y="3780720"/>
                        <a:chExt cx="268200" cy="298440"/>
                      </a:xfrm>
                    </p:grpSpPr>
                    <p:sp>
                      <p:nvSpPr>
                        <p:cNvPr id="755" name=""/>
                        <p:cNvSpPr/>
                        <p:nvPr/>
                      </p:nvSpPr>
                      <p:spPr>
                        <a:xfrm rot="2057400">
                          <a:off x="6777720" y="380520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6" name=""/>
                        <p:cNvSpPr/>
                        <p:nvPr/>
                      </p:nvSpPr>
                      <p:spPr>
                        <a:xfrm rot="2057400">
                          <a:off x="6817320" y="381852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7" name=""/>
                    <p:cNvGrpSpPr/>
                    <p:nvPr/>
                  </p:nvGrpSpPr>
                  <p:grpSpPr>
                    <a:xfrm>
                      <a:off x="6016680" y="3632400"/>
                      <a:ext cx="479880" cy="341280"/>
                      <a:chOff x="6016680" y="3632400"/>
                      <a:chExt cx="479880" cy="341280"/>
                    </a:xfrm>
                  </p:grpSpPr>
                  <p:grpSp>
                    <p:nvGrpSpPr>
                      <p:cNvPr id="758" name=""/>
                      <p:cNvGrpSpPr/>
                      <p:nvPr/>
                    </p:nvGrpSpPr>
                    <p:grpSpPr>
                      <a:xfrm>
                        <a:off x="6331680" y="3632400"/>
                        <a:ext cx="164880" cy="258480"/>
                        <a:chOff x="6331680" y="3632400"/>
                        <a:chExt cx="164880" cy="258480"/>
                      </a:xfrm>
                    </p:grpSpPr>
                    <p:sp>
                      <p:nvSpPr>
                        <p:cNvPr id="759" name=""/>
                        <p:cNvSpPr/>
                        <p:nvPr/>
                      </p:nvSpPr>
                      <p:spPr>
                        <a:xfrm flipH="1" rot="55200">
                          <a:off x="6333480" y="363348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 flipH="1" rot="55200">
                          <a:off x="6340320" y="363636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61" name=""/>
                      <p:cNvGrpSpPr/>
                      <p:nvPr/>
                    </p:nvGrpSpPr>
                    <p:grpSpPr>
                      <a:xfrm>
                        <a:off x="6211440" y="3657960"/>
                        <a:ext cx="187200" cy="272880"/>
                        <a:chOff x="6211440" y="3657960"/>
                        <a:chExt cx="187200" cy="272880"/>
                      </a:xfrm>
                    </p:grpSpPr>
                    <p:sp>
                      <p:nvSpPr>
                        <p:cNvPr id="762" name=""/>
                        <p:cNvSpPr/>
                        <p:nvPr/>
                      </p:nvSpPr>
                      <p:spPr>
                        <a:xfrm flipH="1" rot="21204600">
                          <a:off x="6224400" y="366624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 flipH="1" rot="21204600">
                          <a:off x="6233040" y="367236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64" name=""/>
                      <p:cNvGrpSpPr/>
                      <p:nvPr/>
                    </p:nvGrpSpPr>
                    <p:grpSpPr>
                      <a:xfrm>
                        <a:off x="6016680" y="3675600"/>
                        <a:ext cx="247680" cy="298080"/>
                        <a:chOff x="6016680" y="3675600"/>
                        <a:chExt cx="247680" cy="298080"/>
                      </a:xfrm>
                    </p:grpSpPr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 flipH="1" rot="20098200">
                          <a:off x="6059520" y="369828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 flipH="1" rot="20098200">
                          <a:off x="6072840" y="370980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4430520" y="4711680"/>
                  <a:ext cx="682200" cy="222120"/>
                  <a:chOff x="4430520" y="4711680"/>
                  <a:chExt cx="682200" cy="22212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>
                    <a:off x="4430520" y="4711680"/>
                    <a:ext cx="32220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4779720" y="4713120"/>
                    <a:ext cx="33300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8659440" y="4470120"/>
                  <a:ext cx="165240" cy="82800"/>
                  <a:chOff x="8659440" y="4470120"/>
                  <a:chExt cx="165240" cy="8280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>
                    <a:off x="8659440" y="44701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8744040" y="4470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8432640" y="4520880"/>
                  <a:ext cx="163440" cy="82800"/>
                  <a:chOff x="8432640" y="4520880"/>
                  <a:chExt cx="163440" cy="8280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>
                    <a:off x="8432640" y="452088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8516160" y="452124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8267400" y="4546440"/>
                  <a:ext cx="165240" cy="82440"/>
                  <a:chOff x="8267400" y="4546440"/>
                  <a:chExt cx="165240" cy="8244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>
                    <a:off x="8267400" y="45464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8352000" y="45468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9" name=""/>
                <p:cNvGrpSpPr/>
                <p:nvPr/>
              </p:nvGrpSpPr>
              <p:grpSpPr>
                <a:xfrm>
                  <a:off x="8267400" y="4444920"/>
                  <a:ext cx="165240" cy="82440"/>
                  <a:chOff x="8267400" y="4444920"/>
                  <a:chExt cx="165240" cy="8244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>
                    <a:off x="8267400" y="44449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8352000" y="44452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" name=""/>
                <p:cNvGrpSpPr/>
                <p:nvPr/>
              </p:nvGrpSpPr>
              <p:grpSpPr>
                <a:xfrm>
                  <a:off x="8343720" y="4381200"/>
                  <a:ext cx="163440" cy="82800"/>
                  <a:chOff x="8343720" y="4381200"/>
                  <a:chExt cx="163440" cy="8280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>
                    <a:off x="8343720" y="438120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8427240" y="43815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5" name=""/>
                <p:cNvGrpSpPr/>
                <p:nvPr/>
              </p:nvGrpSpPr>
              <p:grpSpPr>
                <a:xfrm>
                  <a:off x="8407080" y="4356000"/>
                  <a:ext cx="163440" cy="82440"/>
                  <a:chOff x="8407080" y="4356000"/>
                  <a:chExt cx="163440" cy="82440"/>
                </a:xfrm>
              </p:grpSpPr>
              <p:sp>
                <p:nvSpPr>
                  <p:cNvPr id="786" name=""/>
                  <p:cNvSpPr/>
                  <p:nvPr/>
                </p:nvSpPr>
                <p:spPr>
                  <a:xfrm>
                    <a:off x="8407080" y="435600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8490600" y="43563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8483400" y="4317840"/>
                  <a:ext cx="163440" cy="82440"/>
                  <a:chOff x="8483400" y="4317840"/>
                  <a:chExt cx="163440" cy="8244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8483400" y="431784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8566920" y="431820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8685000" y="4241520"/>
                  <a:ext cx="165240" cy="82800"/>
                  <a:chOff x="8685000" y="4241520"/>
                  <a:chExt cx="165240" cy="8280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>
                    <a:off x="8685000" y="42415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8769600" y="4241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4873320" y="4101840"/>
                  <a:ext cx="165240" cy="82800"/>
                  <a:chOff x="4873320" y="4101840"/>
                  <a:chExt cx="165240" cy="8280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>
                    <a:off x="4873320" y="410184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4957920" y="41022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7" name=""/>
                <p:cNvGrpSpPr/>
                <p:nvPr/>
              </p:nvGrpSpPr>
              <p:grpSpPr>
                <a:xfrm>
                  <a:off x="4644720" y="4152600"/>
                  <a:ext cx="165240" cy="82800"/>
                  <a:chOff x="4644720" y="4152600"/>
                  <a:chExt cx="165240" cy="8280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4644720" y="415260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4729320" y="4152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0" name=""/>
                <p:cNvGrpSpPr/>
                <p:nvPr/>
              </p:nvGrpSpPr>
              <p:grpSpPr>
                <a:xfrm>
                  <a:off x="4619520" y="3987720"/>
                  <a:ext cx="164520" cy="82440"/>
                  <a:chOff x="4619520" y="3987720"/>
                  <a:chExt cx="164520" cy="8244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>
                    <a:off x="4619520" y="39877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4703760" y="39880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" name=""/>
                <p:cNvGrpSpPr/>
                <p:nvPr/>
              </p:nvGrpSpPr>
              <p:grpSpPr>
                <a:xfrm>
                  <a:off x="4695480" y="3949560"/>
                  <a:ext cx="165240" cy="82440"/>
                  <a:chOff x="4695480" y="3949560"/>
                  <a:chExt cx="165240" cy="8244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>
                    <a:off x="4695480" y="39495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4780080" y="39499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6" name=""/>
                <p:cNvGrpSpPr/>
                <p:nvPr/>
              </p:nvGrpSpPr>
              <p:grpSpPr>
                <a:xfrm>
                  <a:off x="4898880" y="3873240"/>
                  <a:ext cx="163440" cy="82800"/>
                  <a:chOff x="4898880" y="3873240"/>
                  <a:chExt cx="163440" cy="8280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>
                    <a:off x="4898880" y="387324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4982400" y="387360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9" name=""/>
                <p:cNvGrpSpPr/>
                <p:nvPr/>
              </p:nvGrpSpPr>
              <p:grpSpPr>
                <a:xfrm>
                  <a:off x="7130880" y="3530880"/>
                  <a:ext cx="1735920" cy="447120"/>
                  <a:chOff x="7130880" y="3530880"/>
                  <a:chExt cx="1735920" cy="447120"/>
                </a:xfrm>
              </p:grpSpPr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7130880" y="3530880"/>
                    <a:ext cx="975600" cy="447120"/>
                    <a:chOff x="7130880" y="3530880"/>
                    <a:chExt cx="975600" cy="447120"/>
                  </a:xfrm>
                </p:grpSpPr>
                <p:grpSp>
                  <p:nvGrpSpPr>
                    <p:cNvPr id="811" name=""/>
                    <p:cNvGrpSpPr/>
                    <p:nvPr/>
                  </p:nvGrpSpPr>
                  <p:grpSpPr>
                    <a:xfrm>
                      <a:off x="7130880" y="3585240"/>
                      <a:ext cx="491040" cy="392760"/>
                      <a:chOff x="7130880" y="3585240"/>
                      <a:chExt cx="491040" cy="392760"/>
                    </a:xfrm>
                  </p:grpSpPr>
                  <p:grpSp>
                    <p:nvGrpSpPr>
                      <p:cNvPr id="812" name=""/>
                      <p:cNvGrpSpPr/>
                      <p:nvPr/>
                    </p:nvGrpSpPr>
                    <p:grpSpPr>
                      <a:xfrm>
                        <a:off x="7427520" y="3585240"/>
                        <a:ext cx="194400" cy="277200"/>
                        <a:chOff x="7427520" y="3585240"/>
                        <a:chExt cx="194400" cy="277200"/>
                      </a:xfrm>
                    </p:grpSpPr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 flipH="1" rot="21099600">
                          <a:off x="7444080" y="359532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4" name=""/>
                        <p:cNvSpPr/>
                        <p:nvPr/>
                      </p:nvSpPr>
                      <p:spPr>
                        <a:xfrm flipH="1" rot="21099600">
                          <a:off x="7453800" y="360216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15" name=""/>
                      <p:cNvGrpSpPr/>
                      <p:nvPr/>
                    </p:nvGrpSpPr>
                    <p:grpSpPr>
                      <a:xfrm>
                        <a:off x="7311960" y="3628800"/>
                        <a:ext cx="220320" cy="288720"/>
                        <a:chOff x="7311960" y="3628800"/>
                        <a:chExt cx="220320" cy="288720"/>
                      </a:xfrm>
                    </p:grpSpPr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 flipH="1" rot="20649000">
                          <a:off x="7341480" y="364608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7" name=""/>
                        <p:cNvSpPr/>
                        <p:nvPr/>
                      </p:nvSpPr>
                      <p:spPr>
                        <a:xfrm flipH="1" rot="20649000">
                          <a:off x="7352280" y="365508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18" name=""/>
                      <p:cNvGrpSpPr/>
                      <p:nvPr/>
                    </p:nvGrpSpPr>
                    <p:grpSpPr>
                      <a:xfrm>
                        <a:off x="7130880" y="3679200"/>
                        <a:ext cx="268200" cy="298800"/>
                        <a:chOff x="7130880" y="3679200"/>
                        <a:chExt cx="268200" cy="298800"/>
                      </a:xfrm>
                    </p:grpSpPr>
                    <p:sp>
                      <p:nvSpPr>
                        <p:cNvPr id="819" name=""/>
                        <p:cNvSpPr/>
                        <p:nvPr/>
                      </p:nvSpPr>
                      <p:spPr>
                        <a:xfrm flipH="1" rot="19542600">
                          <a:off x="7184160" y="370368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0" name=""/>
                        <p:cNvSpPr/>
                        <p:nvPr/>
                      </p:nvSpPr>
                      <p:spPr>
                        <a:xfrm flipH="1" rot="19542600">
                          <a:off x="7200720" y="371700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21" name=""/>
                    <p:cNvGrpSpPr/>
                    <p:nvPr/>
                  </p:nvGrpSpPr>
                  <p:grpSpPr>
                    <a:xfrm>
                      <a:off x="7626600" y="3530880"/>
                      <a:ext cx="479880" cy="341280"/>
                      <a:chOff x="7626600" y="3530880"/>
                      <a:chExt cx="479880" cy="341280"/>
                    </a:xfrm>
                  </p:grpSpPr>
                  <p:grpSp>
                    <p:nvGrpSpPr>
                      <p:cNvPr id="822" name=""/>
                      <p:cNvGrpSpPr/>
                      <p:nvPr/>
                    </p:nvGrpSpPr>
                    <p:grpSpPr>
                      <a:xfrm>
                        <a:off x="7626600" y="3530880"/>
                        <a:ext cx="165240" cy="258480"/>
                        <a:chOff x="7626600" y="3530880"/>
                        <a:chExt cx="165240" cy="258480"/>
                      </a:xfrm>
                    </p:grpSpPr>
                    <p:sp>
                      <p:nvSpPr>
                        <p:cNvPr id="823" name=""/>
                        <p:cNvSpPr/>
                        <p:nvPr/>
                      </p:nvSpPr>
                      <p:spPr>
                        <a:xfrm rot="21544800">
                          <a:off x="7628400" y="353196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"/>
                        <p:cNvSpPr/>
                        <p:nvPr/>
                      </p:nvSpPr>
                      <p:spPr>
                        <a:xfrm rot="21544800">
                          <a:off x="7678080" y="353484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25" name=""/>
                      <p:cNvGrpSpPr/>
                      <p:nvPr/>
                    </p:nvGrpSpPr>
                    <p:grpSpPr>
                      <a:xfrm>
                        <a:off x="7724520" y="3556440"/>
                        <a:ext cx="187200" cy="272880"/>
                        <a:chOff x="7724520" y="3556440"/>
                        <a:chExt cx="187200" cy="272880"/>
                      </a:xfrm>
                    </p:grpSpPr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 rot="395400">
                          <a:off x="7737480" y="356472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 rot="395400">
                          <a:off x="7785720" y="357084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28" name=""/>
                      <p:cNvGrpSpPr/>
                      <p:nvPr/>
                    </p:nvGrpSpPr>
                    <p:grpSpPr>
                      <a:xfrm>
                        <a:off x="7858800" y="3574080"/>
                        <a:ext cx="247680" cy="298080"/>
                        <a:chOff x="7858800" y="3574080"/>
                        <a:chExt cx="247680" cy="298080"/>
                      </a:xfrm>
                    </p:grpSpPr>
                    <p:sp>
                      <p:nvSpPr>
                        <p:cNvPr id="829" name=""/>
                        <p:cNvSpPr/>
                        <p:nvPr/>
                      </p:nvSpPr>
                      <p:spPr>
                        <a:xfrm rot="1501800">
                          <a:off x="7902000" y="359676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0" name=""/>
                        <p:cNvSpPr/>
                        <p:nvPr/>
                      </p:nvSpPr>
                      <p:spPr>
                        <a:xfrm rot="1501800">
                          <a:off x="7945200" y="360828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831" name=""/>
                  <p:cNvGrpSpPr/>
                  <p:nvPr/>
                </p:nvGrpSpPr>
                <p:grpSpPr>
                  <a:xfrm>
                    <a:off x="7891200" y="3530880"/>
                    <a:ext cx="975600" cy="446760"/>
                    <a:chOff x="7891200" y="3530880"/>
                    <a:chExt cx="975600" cy="446760"/>
                  </a:xfrm>
                </p:grpSpPr>
                <p:grpSp>
                  <p:nvGrpSpPr>
                    <p:cNvPr id="832" name=""/>
                    <p:cNvGrpSpPr/>
                    <p:nvPr/>
                  </p:nvGrpSpPr>
                  <p:grpSpPr>
                    <a:xfrm>
                      <a:off x="8375760" y="3585240"/>
                      <a:ext cx="491040" cy="392400"/>
                      <a:chOff x="8375760" y="3585240"/>
                      <a:chExt cx="491040" cy="392400"/>
                    </a:xfrm>
                  </p:grpSpPr>
                  <p:grpSp>
                    <p:nvGrpSpPr>
                      <p:cNvPr id="833" name=""/>
                      <p:cNvGrpSpPr/>
                      <p:nvPr/>
                    </p:nvGrpSpPr>
                    <p:grpSpPr>
                      <a:xfrm>
                        <a:off x="8375760" y="3585240"/>
                        <a:ext cx="194400" cy="276840"/>
                        <a:chOff x="8375760" y="3585240"/>
                        <a:chExt cx="194400" cy="276840"/>
                      </a:xfrm>
                    </p:grpSpPr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 rot="500400">
                          <a:off x="8392320" y="359532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 rot="500400">
                          <a:off x="8439480" y="360216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36" name=""/>
                      <p:cNvGrpSpPr/>
                      <p:nvPr/>
                    </p:nvGrpSpPr>
                    <p:grpSpPr>
                      <a:xfrm>
                        <a:off x="8465400" y="3628800"/>
                        <a:ext cx="220320" cy="288720"/>
                        <a:chOff x="8465400" y="3628800"/>
                        <a:chExt cx="220320" cy="288720"/>
                      </a:xfrm>
                    </p:grpSpPr>
                    <p:sp>
                      <p:nvSpPr>
                        <p:cNvPr id="837" name=""/>
                        <p:cNvSpPr/>
                        <p:nvPr/>
                      </p:nvSpPr>
                      <p:spPr>
                        <a:xfrm rot="951000">
                          <a:off x="8494920" y="364608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8" name=""/>
                        <p:cNvSpPr/>
                        <p:nvPr/>
                      </p:nvSpPr>
                      <p:spPr>
                        <a:xfrm rot="951000">
                          <a:off x="8541000" y="365508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39" name=""/>
                      <p:cNvGrpSpPr/>
                      <p:nvPr/>
                    </p:nvGrpSpPr>
                    <p:grpSpPr>
                      <a:xfrm>
                        <a:off x="8598600" y="3679200"/>
                        <a:ext cx="268200" cy="298440"/>
                        <a:chOff x="8598600" y="3679200"/>
                        <a:chExt cx="268200" cy="298440"/>
                      </a:xfrm>
                    </p:grpSpPr>
                    <p:sp>
                      <p:nvSpPr>
                        <p:cNvPr id="840" name=""/>
                        <p:cNvSpPr/>
                        <p:nvPr/>
                      </p:nvSpPr>
                      <p:spPr>
                        <a:xfrm rot="2057400">
                          <a:off x="8652240" y="370368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 rot="2057400">
                          <a:off x="8691840" y="371700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42" name=""/>
                    <p:cNvGrpSpPr/>
                    <p:nvPr/>
                  </p:nvGrpSpPr>
                  <p:grpSpPr>
                    <a:xfrm>
                      <a:off x="7891200" y="3530880"/>
                      <a:ext cx="479880" cy="341280"/>
                      <a:chOff x="7891200" y="3530880"/>
                      <a:chExt cx="479880" cy="341280"/>
                    </a:xfrm>
                  </p:grpSpPr>
                  <p:grpSp>
                    <p:nvGrpSpPr>
                      <p:cNvPr id="843" name=""/>
                      <p:cNvGrpSpPr/>
                      <p:nvPr/>
                    </p:nvGrpSpPr>
                    <p:grpSpPr>
                      <a:xfrm>
                        <a:off x="8206200" y="3530880"/>
                        <a:ext cx="164880" cy="258480"/>
                        <a:chOff x="8206200" y="3530880"/>
                        <a:chExt cx="164880" cy="258480"/>
                      </a:xfrm>
                    </p:grpSpPr>
                    <p:sp>
                      <p:nvSpPr>
                        <p:cNvPr id="844" name=""/>
                        <p:cNvSpPr/>
                        <p:nvPr/>
                      </p:nvSpPr>
                      <p:spPr>
                        <a:xfrm flipH="1" rot="55200">
                          <a:off x="8208000" y="353196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5" name=""/>
                        <p:cNvSpPr/>
                        <p:nvPr/>
                      </p:nvSpPr>
                      <p:spPr>
                        <a:xfrm flipH="1" rot="55200">
                          <a:off x="8214840" y="353484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46" name=""/>
                      <p:cNvGrpSpPr/>
                      <p:nvPr/>
                    </p:nvGrpSpPr>
                    <p:grpSpPr>
                      <a:xfrm>
                        <a:off x="8085960" y="3556440"/>
                        <a:ext cx="187200" cy="272880"/>
                        <a:chOff x="8085960" y="3556440"/>
                        <a:chExt cx="187200" cy="272880"/>
                      </a:xfrm>
                    </p:grpSpPr>
                    <p:sp>
                      <p:nvSpPr>
                        <p:cNvPr id="847" name=""/>
                        <p:cNvSpPr/>
                        <p:nvPr/>
                      </p:nvSpPr>
                      <p:spPr>
                        <a:xfrm flipH="1" rot="21204600">
                          <a:off x="8098920" y="356472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8" name=""/>
                        <p:cNvSpPr/>
                        <p:nvPr/>
                      </p:nvSpPr>
                      <p:spPr>
                        <a:xfrm flipH="1" rot="21204600">
                          <a:off x="8107560" y="357084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49" name=""/>
                      <p:cNvGrpSpPr/>
                      <p:nvPr/>
                    </p:nvGrpSpPr>
                    <p:grpSpPr>
                      <a:xfrm>
                        <a:off x="7891200" y="3574080"/>
                        <a:ext cx="247680" cy="298080"/>
                        <a:chOff x="7891200" y="3574080"/>
                        <a:chExt cx="247680" cy="298080"/>
                      </a:xfrm>
                    </p:grpSpPr>
                    <p:sp>
                      <p:nvSpPr>
                        <p:cNvPr id="850" name=""/>
                        <p:cNvSpPr/>
                        <p:nvPr/>
                      </p:nvSpPr>
                      <p:spPr>
                        <a:xfrm flipH="1" rot="20098200">
                          <a:off x="7934040" y="359676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1" name=""/>
                        <p:cNvSpPr/>
                        <p:nvPr/>
                      </p:nvSpPr>
                      <p:spPr>
                        <a:xfrm flipH="1" rot="20098200">
                          <a:off x="7947360" y="360828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52" name=""/>
                <p:cNvGrpSpPr/>
                <p:nvPr/>
              </p:nvGrpSpPr>
              <p:grpSpPr>
                <a:xfrm>
                  <a:off x="6294240" y="4368960"/>
                  <a:ext cx="1736280" cy="447120"/>
                  <a:chOff x="6294240" y="4368960"/>
                  <a:chExt cx="1736280" cy="447120"/>
                </a:xfrm>
              </p:grpSpPr>
              <p:grpSp>
                <p:nvGrpSpPr>
                  <p:cNvPr id="853" name=""/>
                  <p:cNvGrpSpPr/>
                  <p:nvPr/>
                </p:nvGrpSpPr>
                <p:grpSpPr>
                  <a:xfrm>
                    <a:off x="6294240" y="4368960"/>
                    <a:ext cx="975600" cy="447120"/>
                    <a:chOff x="6294240" y="4368960"/>
                    <a:chExt cx="975600" cy="447120"/>
                  </a:xfrm>
                </p:grpSpPr>
                <p:grpSp>
                  <p:nvGrpSpPr>
                    <p:cNvPr id="854" name=""/>
                    <p:cNvGrpSpPr/>
                    <p:nvPr/>
                  </p:nvGrpSpPr>
                  <p:grpSpPr>
                    <a:xfrm>
                      <a:off x="6294240" y="4423320"/>
                      <a:ext cx="491040" cy="392760"/>
                      <a:chOff x="6294240" y="4423320"/>
                      <a:chExt cx="491040" cy="392760"/>
                    </a:xfrm>
                  </p:grpSpPr>
                  <p:grpSp>
                    <p:nvGrpSpPr>
                      <p:cNvPr id="855" name=""/>
                      <p:cNvGrpSpPr/>
                      <p:nvPr/>
                    </p:nvGrpSpPr>
                    <p:grpSpPr>
                      <a:xfrm>
                        <a:off x="6590880" y="4423320"/>
                        <a:ext cx="194400" cy="277200"/>
                        <a:chOff x="6590880" y="4423320"/>
                        <a:chExt cx="194400" cy="277200"/>
                      </a:xfrm>
                    </p:grpSpPr>
                    <p:sp>
                      <p:nvSpPr>
                        <p:cNvPr id="856" name=""/>
                        <p:cNvSpPr/>
                        <p:nvPr/>
                      </p:nvSpPr>
                      <p:spPr>
                        <a:xfrm flipH="1" rot="21099600">
                          <a:off x="6607440" y="44334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7" name=""/>
                        <p:cNvSpPr/>
                        <p:nvPr/>
                      </p:nvSpPr>
                      <p:spPr>
                        <a:xfrm flipH="1" rot="21099600">
                          <a:off x="6617160" y="444024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58" name=""/>
                      <p:cNvGrpSpPr/>
                      <p:nvPr/>
                    </p:nvGrpSpPr>
                    <p:grpSpPr>
                      <a:xfrm>
                        <a:off x="6475320" y="4466880"/>
                        <a:ext cx="220320" cy="288720"/>
                        <a:chOff x="6475320" y="4466880"/>
                        <a:chExt cx="220320" cy="288720"/>
                      </a:xfrm>
                    </p:grpSpPr>
                    <p:sp>
                      <p:nvSpPr>
                        <p:cNvPr id="859" name=""/>
                        <p:cNvSpPr/>
                        <p:nvPr/>
                      </p:nvSpPr>
                      <p:spPr>
                        <a:xfrm flipH="1" rot="20649000">
                          <a:off x="6504840" y="448416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 flipH="1" rot="20649000">
                          <a:off x="6515640" y="449316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61" name=""/>
                      <p:cNvGrpSpPr/>
                      <p:nvPr/>
                    </p:nvGrpSpPr>
                    <p:grpSpPr>
                      <a:xfrm>
                        <a:off x="6294240" y="4517280"/>
                        <a:ext cx="268200" cy="298800"/>
                        <a:chOff x="6294240" y="4517280"/>
                        <a:chExt cx="268200" cy="298800"/>
                      </a:xfrm>
                    </p:grpSpPr>
                    <p:sp>
                      <p:nvSpPr>
                        <p:cNvPr id="862" name=""/>
                        <p:cNvSpPr/>
                        <p:nvPr/>
                      </p:nvSpPr>
                      <p:spPr>
                        <a:xfrm flipH="1" rot="19542600">
                          <a:off x="6347520" y="454176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3" name=""/>
                        <p:cNvSpPr/>
                        <p:nvPr/>
                      </p:nvSpPr>
                      <p:spPr>
                        <a:xfrm flipH="1" rot="19542600">
                          <a:off x="6364080" y="455508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64" name=""/>
                    <p:cNvGrpSpPr/>
                    <p:nvPr/>
                  </p:nvGrpSpPr>
                  <p:grpSpPr>
                    <a:xfrm>
                      <a:off x="6789960" y="4368960"/>
                      <a:ext cx="479880" cy="341280"/>
                      <a:chOff x="6789960" y="4368960"/>
                      <a:chExt cx="479880" cy="341280"/>
                    </a:xfrm>
                  </p:grpSpPr>
                  <p:grpSp>
                    <p:nvGrpSpPr>
                      <p:cNvPr id="865" name=""/>
                      <p:cNvGrpSpPr/>
                      <p:nvPr/>
                    </p:nvGrpSpPr>
                    <p:grpSpPr>
                      <a:xfrm>
                        <a:off x="6789960" y="4368960"/>
                        <a:ext cx="165240" cy="258480"/>
                        <a:chOff x="6789960" y="4368960"/>
                        <a:chExt cx="165240" cy="258480"/>
                      </a:xfrm>
                    </p:grpSpPr>
                    <p:sp>
                      <p:nvSpPr>
                        <p:cNvPr id="866" name=""/>
                        <p:cNvSpPr/>
                        <p:nvPr/>
                      </p:nvSpPr>
                      <p:spPr>
                        <a:xfrm rot="21544800">
                          <a:off x="6791760" y="43700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7" name=""/>
                        <p:cNvSpPr/>
                        <p:nvPr/>
                      </p:nvSpPr>
                      <p:spPr>
                        <a:xfrm rot="21544800">
                          <a:off x="6841440" y="437292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68" name=""/>
                      <p:cNvGrpSpPr/>
                      <p:nvPr/>
                    </p:nvGrpSpPr>
                    <p:grpSpPr>
                      <a:xfrm>
                        <a:off x="6887880" y="4394520"/>
                        <a:ext cx="187200" cy="272880"/>
                        <a:chOff x="6887880" y="4394520"/>
                        <a:chExt cx="187200" cy="272880"/>
                      </a:xfrm>
                    </p:grpSpPr>
                    <p:sp>
                      <p:nvSpPr>
                        <p:cNvPr id="869" name=""/>
                        <p:cNvSpPr/>
                        <p:nvPr/>
                      </p:nvSpPr>
                      <p:spPr>
                        <a:xfrm rot="395400">
                          <a:off x="6900840" y="440280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0" name=""/>
                        <p:cNvSpPr/>
                        <p:nvPr/>
                      </p:nvSpPr>
                      <p:spPr>
                        <a:xfrm rot="395400">
                          <a:off x="6949080" y="440892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71" name=""/>
                      <p:cNvGrpSpPr/>
                      <p:nvPr/>
                    </p:nvGrpSpPr>
                    <p:grpSpPr>
                      <a:xfrm>
                        <a:off x="7022160" y="4412160"/>
                        <a:ext cx="247680" cy="298080"/>
                        <a:chOff x="7022160" y="4412160"/>
                        <a:chExt cx="247680" cy="298080"/>
                      </a:xfrm>
                    </p:grpSpPr>
                    <p:sp>
                      <p:nvSpPr>
                        <p:cNvPr id="872" name=""/>
                        <p:cNvSpPr/>
                        <p:nvPr/>
                      </p:nvSpPr>
                      <p:spPr>
                        <a:xfrm rot="1501800">
                          <a:off x="7065360" y="4434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3" name=""/>
                        <p:cNvSpPr/>
                        <p:nvPr/>
                      </p:nvSpPr>
                      <p:spPr>
                        <a:xfrm rot="1501800">
                          <a:off x="7108560" y="444636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874" name=""/>
                  <p:cNvGrpSpPr/>
                  <p:nvPr/>
                </p:nvGrpSpPr>
                <p:grpSpPr>
                  <a:xfrm>
                    <a:off x="7054920" y="4368960"/>
                    <a:ext cx="975600" cy="446760"/>
                    <a:chOff x="7054920" y="4368960"/>
                    <a:chExt cx="975600" cy="446760"/>
                  </a:xfrm>
                </p:grpSpPr>
                <p:grpSp>
                  <p:nvGrpSpPr>
                    <p:cNvPr id="875" name=""/>
                    <p:cNvGrpSpPr/>
                    <p:nvPr/>
                  </p:nvGrpSpPr>
                  <p:grpSpPr>
                    <a:xfrm>
                      <a:off x="7539480" y="4423320"/>
                      <a:ext cx="491040" cy="392400"/>
                      <a:chOff x="7539480" y="4423320"/>
                      <a:chExt cx="491040" cy="392400"/>
                    </a:xfrm>
                  </p:grpSpPr>
                  <p:grpSp>
                    <p:nvGrpSpPr>
                      <p:cNvPr id="876" name=""/>
                      <p:cNvGrpSpPr/>
                      <p:nvPr/>
                    </p:nvGrpSpPr>
                    <p:grpSpPr>
                      <a:xfrm>
                        <a:off x="7539480" y="4423320"/>
                        <a:ext cx="194400" cy="276840"/>
                        <a:chOff x="7539480" y="4423320"/>
                        <a:chExt cx="194400" cy="276840"/>
                      </a:xfrm>
                    </p:grpSpPr>
                    <p:sp>
                      <p:nvSpPr>
                        <p:cNvPr id="877" name=""/>
                        <p:cNvSpPr/>
                        <p:nvPr/>
                      </p:nvSpPr>
                      <p:spPr>
                        <a:xfrm rot="500400">
                          <a:off x="7556040" y="44334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8" name=""/>
                        <p:cNvSpPr/>
                        <p:nvPr/>
                      </p:nvSpPr>
                      <p:spPr>
                        <a:xfrm rot="500400">
                          <a:off x="7603200" y="444024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79" name=""/>
                      <p:cNvGrpSpPr/>
                      <p:nvPr/>
                    </p:nvGrpSpPr>
                    <p:grpSpPr>
                      <a:xfrm>
                        <a:off x="7629120" y="4466880"/>
                        <a:ext cx="220320" cy="288720"/>
                        <a:chOff x="7629120" y="4466880"/>
                        <a:chExt cx="220320" cy="288720"/>
                      </a:xfrm>
                    </p:grpSpPr>
                    <p:sp>
                      <p:nvSpPr>
                        <p:cNvPr id="880" name=""/>
                        <p:cNvSpPr/>
                        <p:nvPr/>
                      </p:nvSpPr>
                      <p:spPr>
                        <a:xfrm rot="951000">
                          <a:off x="7658640" y="448416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1" name=""/>
                        <p:cNvSpPr/>
                        <p:nvPr/>
                      </p:nvSpPr>
                      <p:spPr>
                        <a:xfrm rot="951000">
                          <a:off x="7704720" y="449316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82" name=""/>
                      <p:cNvGrpSpPr/>
                      <p:nvPr/>
                    </p:nvGrpSpPr>
                    <p:grpSpPr>
                      <a:xfrm>
                        <a:off x="7762320" y="4517280"/>
                        <a:ext cx="268200" cy="298440"/>
                        <a:chOff x="7762320" y="4517280"/>
                        <a:chExt cx="268200" cy="298440"/>
                      </a:xfrm>
                    </p:grpSpPr>
                    <p:sp>
                      <p:nvSpPr>
                        <p:cNvPr id="883" name=""/>
                        <p:cNvSpPr/>
                        <p:nvPr/>
                      </p:nvSpPr>
                      <p:spPr>
                        <a:xfrm rot="2057400">
                          <a:off x="7815960" y="454176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4" name=""/>
                        <p:cNvSpPr/>
                        <p:nvPr/>
                      </p:nvSpPr>
                      <p:spPr>
                        <a:xfrm rot="2057400">
                          <a:off x="7855560" y="455508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85" name=""/>
                    <p:cNvGrpSpPr/>
                    <p:nvPr/>
                  </p:nvGrpSpPr>
                  <p:grpSpPr>
                    <a:xfrm>
                      <a:off x="7054920" y="4368960"/>
                      <a:ext cx="479880" cy="341280"/>
                      <a:chOff x="7054920" y="4368960"/>
                      <a:chExt cx="479880" cy="341280"/>
                    </a:xfrm>
                  </p:grpSpPr>
                  <p:grpSp>
                    <p:nvGrpSpPr>
                      <p:cNvPr id="886" name=""/>
                      <p:cNvGrpSpPr/>
                      <p:nvPr/>
                    </p:nvGrpSpPr>
                    <p:grpSpPr>
                      <a:xfrm>
                        <a:off x="7369920" y="4368960"/>
                        <a:ext cx="164880" cy="258480"/>
                        <a:chOff x="7369920" y="4368960"/>
                        <a:chExt cx="164880" cy="258480"/>
                      </a:xfrm>
                    </p:grpSpPr>
                    <p:sp>
                      <p:nvSpPr>
                        <p:cNvPr id="887" name=""/>
                        <p:cNvSpPr/>
                        <p:nvPr/>
                      </p:nvSpPr>
                      <p:spPr>
                        <a:xfrm flipH="1" rot="55200">
                          <a:off x="7371720" y="43700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8" name=""/>
                        <p:cNvSpPr/>
                        <p:nvPr/>
                      </p:nvSpPr>
                      <p:spPr>
                        <a:xfrm flipH="1" rot="55200">
                          <a:off x="7378560" y="437292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89" name=""/>
                      <p:cNvGrpSpPr/>
                      <p:nvPr/>
                    </p:nvGrpSpPr>
                    <p:grpSpPr>
                      <a:xfrm>
                        <a:off x="7249680" y="4394520"/>
                        <a:ext cx="187200" cy="272880"/>
                        <a:chOff x="7249680" y="4394520"/>
                        <a:chExt cx="187200" cy="272880"/>
                      </a:xfrm>
                    </p:grpSpPr>
                    <p:sp>
                      <p:nvSpPr>
                        <p:cNvPr id="890" name=""/>
                        <p:cNvSpPr/>
                        <p:nvPr/>
                      </p:nvSpPr>
                      <p:spPr>
                        <a:xfrm flipH="1" rot="21204600">
                          <a:off x="7262640" y="440280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1" name=""/>
                        <p:cNvSpPr/>
                        <p:nvPr/>
                      </p:nvSpPr>
                      <p:spPr>
                        <a:xfrm flipH="1" rot="21204600">
                          <a:off x="7271280" y="440892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92" name=""/>
                      <p:cNvGrpSpPr/>
                      <p:nvPr/>
                    </p:nvGrpSpPr>
                    <p:grpSpPr>
                      <a:xfrm>
                        <a:off x="7054920" y="4412160"/>
                        <a:ext cx="247680" cy="298080"/>
                        <a:chOff x="7054920" y="4412160"/>
                        <a:chExt cx="247680" cy="298080"/>
                      </a:xfrm>
                    </p:grpSpPr>
                    <p:sp>
                      <p:nvSpPr>
                        <p:cNvPr id="893" name=""/>
                        <p:cNvSpPr/>
                        <p:nvPr/>
                      </p:nvSpPr>
                      <p:spPr>
                        <a:xfrm flipH="1" rot="20098200">
                          <a:off x="7097760" y="4434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4" name=""/>
                        <p:cNvSpPr/>
                        <p:nvPr/>
                      </p:nvSpPr>
                      <p:spPr>
                        <a:xfrm flipH="1" rot="20098200">
                          <a:off x="7111080" y="444636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grpSp>
        <p:nvGrpSpPr>
          <p:cNvPr id="895" name=""/>
          <p:cNvGrpSpPr/>
          <p:nvPr/>
        </p:nvGrpSpPr>
        <p:grpSpPr>
          <a:xfrm>
            <a:off x="3924360" y="4790520"/>
            <a:ext cx="581040" cy="731520"/>
            <a:chOff x="3924360" y="4790520"/>
            <a:chExt cx="581040" cy="731520"/>
          </a:xfrm>
        </p:grpSpPr>
        <p:grpSp>
          <p:nvGrpSpPr>
            <p:cNvPr id="896" name=""/>
            <p:cNvGrpSpPr/>
            <p:nvPr/>
          </p:nvGrpSpPr>
          <p:grpSpPr>
            <a:xfrm>
              <a:off x="3924360" y="5294160"/>
              <a:ext cx="488880" cy="227880"/>
              <a:chOff x="3924360" y="5294160"/>
              <a:chExt cx="488880" cy="227880"/>
            </a:xfrm>
          </p:grpSpPr>
          <p:sp>
            <p:nvSpPr>
              <p:cNvPr id="897" name=""/>
              <p:cNvSpPr/>
              <p:nvPr/>
            </p:nvSpPr>
            <p:spPr>
              <a:xfrm>
                <a:off x="3924360" y="5339520"/>
                <a:ext cx="488880" cy="182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990960" y="5316480"/>
                <a:ext cx="37764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035240" y="5294160"/>
                <a:ext cx="266760" cy="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 rot="21451200">
              <a:off x="4157280" y="4797360"/>
              <a:ext cx="336600" cy="53316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1" name="" descr=""/>
          <p:cNvPicPr/>
          <p:nvPr/>
        </p:nvPicPr>
        <p:blipFill>
          <a:blip r:embed="rId2"/>
          <a:stretch/>
        </p:blipFill>
        <p:spPr>
          <a:xfrm>
            <a:off x="3635280" y="2924280"/>
            <a:ext cx="1123920" cy="185400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4435920" y="501336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36320" y="2852640"/>
            <a:ext cx="26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v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 = 5, </a:t>
            </a: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t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9288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№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120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 Турист движется по шоссе со скоростью  </a:t>
            </a:r>
            <a:br>
              <a:rPr sz="2400"/>
            </a:br>
            <a:r>
              <a:rPr b="1" i="1" lang="en-US" sz="2400" spc="-1" strike="noStrike">
                <a:solidFill>
                  <a:srgbClr val="006600"/>
                </a:solidFill>
                <a:latin typeface="Georgia"/>
              </a:rPr>
              <a:t>v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 км/ч. Сейчас он находится в точке О. Если он движется в положительном направлении, то его скорость считают положительной, а в отрицательном направлении – отрицательной.  Значение </a:t>
            </a:r>
            <a:r>
              <a:rPr b="1" i="1" lang="en-US" sz="2400" spc="-1" strike="noStrike">
                <a:solidFill>
                  <a:srgbClr val="006600"/>
                </a:solidFill>
                <a:latin typeface="Georgia"/>
              </a:rPr>
              <a:t>t = -4 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означает «4 ч наза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2205000"/>
            <a:ext cx="914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Где будет находиться турист через 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t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 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 flipH="1">
            <a:off x="3563640" y="2924280"/>
            <a:ext cx="1150920" cy="1854000"/>
          </a:xfrm>
          <a:prstGeom prst="rect">
            <a:avLst/>
          </a:prstGeom>
          <a:ln w="0">
            <a:noFill/>
          </a:ln>
        </p:spPr>
      </p:pic>
      <p:grpSp>
        <p:nvGrpSpPr>
          <p:cNvPr id="907" name=""/>
          <p:cNvGrpSpPr/>
          <p:nvPr/>
        </p:nvGrpSpPr>
        <p:grpSpPr>
          <a:xfrm>
            <a:off x="324000" y="5877000"/>
            <a:ext cx="8351640" cy="593640"/>
            <a:chOff x="324000" y="5877000"/>
            <a:chExt cx="8351640" cy="593640"/>
          </a:xfrm>
        </p:grpSpPr>
        <p:sp>
          <p:nvSpPr>
            <p:cNvPr id="908" name=""/>
            <p:cNvSpPr/>
            <p:nvPr/>
          </p:nvSpPr>
          <p:spPr>
            <a:xfrm>
              <a:off x="324000" y="5950080"/>
              <a:ext cx="835164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97164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58800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55600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72436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93236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4800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4036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5164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76364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96720" y="59500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404360" y="59500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-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12360" y="59500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-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133440" y="595008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-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436720" y="59500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37080" y="59500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717800" y="5950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925800" y="5950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301800" y="59500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6948360" y="4797360"/>
            <a:ext cx="1656000" cy="914400"/>
          </a:xfrm>
          <a:custGeom>
            <a:avLst/>
            <a:gdLst>
              <a:gd name="textAreaLeft" fmla="*/ 378000 w 1656000"/>
              <a:gd name="textAreaRight" fmla="*/ 1278000 w 16560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0880" y="2852640"/>
            <a:ext cx="279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v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 = -5, </a:t>
            </a: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t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24000" y="4724280"/>
            <a:ext cx="1655640" cy="914400"/>
          </a:xfrm>
          <a:custGeom>
            <a:avLst/>
            <a:gdLst>
              <a:gd name="textAreaLeft" fmla="*/ 378000 w 1655640"/>
              <a:gd name="textAreaRight" fmla="*/ 1277640 w 16556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80880" y="2997360"/>
            <a:ext cx="27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v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 = 5, </a:t>
            </a: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t = 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-</a:t>
            </a: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5549E-006 L 0.66302 -0.10335 E">
                                      <p:cBhvr>
                                        <p:cTn id="121" dur="50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5276 0.07353 E">
                                      <p:cBhvr>
                                        <p:cTn id="129" dur="20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6629400" y="3200400"/>
            <a:ext cx="1054080" cy="3657600"/>
          </a:xfrm>
          <a:custGeom>
            <a:avLst/>
            <a:gdLst/>
            <a:ahLst/>
            <a:rect l="l" t="t" r="r" b="b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57200" y="3200400"/>
            <a:ext cx="1054080" cy="3352680"/>
          </a:xfrm>
          <a:custGeom>
            <a:avLst/>
            <a:gdLst/>
            <a:ahLst/>
            <a:rect l="l" t="t" r="r" b="b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429000" y="3200400"/>
            <a:ext cx="1054080" cy="3352680"/>
          </a:xfrm>
          <a:custGeom>
            <a:avLst/>
            <a:gdLst/>
            <a:ahLst/>
            <a:rect l="l" t="t" r="r" b="b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2921040"/>
            <a:ext cx="9220320" cy="304920"/>
          </a:xfrm>
          <a:custGeom>
            <a:avLst/>
            <a:gdLst/>
            <a:ahLst/>
            <a:rect l="l" t="t" r="r" b="b"/>
            <a:pathLst>
              <a:path w="5808" h="192">
                <a:moveTo>
                  <a:pt x="0" y="48"/>
                </a:moveTo>
                <a:lnTo>
                  <a:pt x="5808" y="0"/>
                </a:lnTo>
                <a:lnTo>
                  <a:pt x="5808" y="192"/>
                </a:lnTo>
                <a:lnTo>
                  <a:pt x="0" y="192"/>
                </a:lnTo>
                <a:lnTo>
                  <a:pt x="0" y="4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-2916360" y="6006960"/>
            <a:ext cx="12960000" cy="2821680"/>
            <a:chOff x="-2916360" y="6006960"/>
            <a:chExt cx="12960000" cy="2821680"/>
          </a:xfrm>
        </p:grpSpPr>
        <p:grpSp>
          <p:nvGrpSpPr>
            <p:cNvPr id="936" name=""/>
            <p:cNvGrpSpPr/>
            <p:nvPr/>
          </p:nvGrpSpPr>
          <p:grpSpPr>
            <a:xfrm>
              <a:off x="-2871720" y="6006960"/>
              <a:ext cx="12880080" cy="576000"/>
              <a:chOff x="-2871720" y="6006960"/>
              <a:chExt cx="12880080" cy="576000"/>
            </a:xfrm>
          </p:grpSpPr>
          <p:sp>
            <p:nvSpPr>
              <p:cNvPr id="937" name=""/>
              <p:cNvSpPr/>
              <p:nvPr/>
            </p:nvSpPr>
            <p:spPr>
              <a:xfrm flipH="1" rot="27600">
                <a:off x="-2870280" y="6019560"/>
                <a:ext cx="3246480" cy="42156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 rot="27600">
                <a:off x="344160" y="6062400"/>
                <a:ext cx="3246480" cy="42156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 rot="27600">
                <a:off x="3544200" y="6105240"/>
                <a:ext cx="3247200" cy="42156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 rot="27600">
                <a:off x="6759720" y="6148080"/>
                <a:ext cx="3246480" cy="42156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-2916360" y="6353640"/>
              <a:ext cx="12960000" cy="24750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4212720" y="5420520"/>
            <a:ext cx="5631480" cy="2048760"/>
            <a:chOff x="4212720" y="5420520"/>
            <a:chExt cx="5631480" cy="2048760"/>
          </a:xfrm>
        </p:grpSpPr>
        <p:grpSp>
          <p:nvGrpSpPr>
            <p:cNvPr id="943" name=""/>
            <p:cNvGrpSpPr/>
            <p:nvPr/>
          </p:nvGrpSpPr>
          <p:grpSpPr>
            <a:xfrm>
              <a:off x="6193800" y="5649120"/>
              <a:ext cx="3378960" cy="1820160"/>
              <a:chOff x="6193800" y="5649120"/>
              <a:chExt cx="3378960" cy="182016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6193800" y="5649120"/>
                <a:ext cx="2339640" cy="1442880"/>
                <a:chOff x="6193800" y="5649120"/>
                <a:chExt cx="2339640" cy="1442880"/>
              </a:xfrm>
            </p:grpSpPr>
            <p:sp>
              <p:nvSpPr>
                <p:cNvPr id="945" name=""/>
                <p:cNvSpPr/>
                <p:nvPr/>
              </p:nvSpPr>
              <p:spPr>
                <a:xfrm rot="1058400">
                  <a:off x="6265800" y="596232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rot="1058400">
                  <a:off x="6398280" y="6340680"/>
                  <a:ext cx="321120" cy="15084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rot="1058400">
                  <a:off x="6445800" y="63608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rot="1058400">
                  <a:off x="6482160" y="637488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rot="1058400">
                  <a:off x="6518520" y="63889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0" name=""/>
              <p:cNvGrpSpPr/>
              <p:nvPr/>
            </p:nvGrpSpPr>
            <p:grpSpPr>
              <a:xfrm>
                <a:off x="6456600" y="5739480"/>
                <a:ext cx="2339640" cy="1442880"/>
                <a:chOff x="6456600" y="5739480"/>
                <a:chExt cx="2339640" cy="1442880"/>
              </a:xfrm>
            </p:grpSpPr>
            <p:sp>
              <p:nvSpPr>
                <p:cNvPr id="951" name=""/>
                <p:cNvSpPr/>
                <p:nvPr/>
              </p:nvSpPr>
              <p:spPr>
                <a:xfrm rot="1058400">
                  <a:off x="6528600" y="605268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rot="1058400">
                  <a:off x="6661080" y="6431040"/>
                  <a:ext cx="321120" cy="15084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rot="1058400">
                  <a:off x="6708600" y="64512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rot="1058400">
                  <a:off x="6744960" y="64652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rot="1058400">
                  <a:off x="6781320" y="64792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6737760" y="5815080"/>
                <a:ext cx="2339280" cy="1442520"/>
                <a:chOff x="6737760" y="5815080"/>
                <a:chExt cx="2339280" cy="1442520"/>
              </a:xfrm>
            </p:grpSpPr>
            <p:sp>
              <p:nvSpPr>
                <p:cNvPr id="957" name=""/>
                <p:cNvSpPr/>
                <p:nvPr/>
              </p:nvSpPr>
              <p:spPr>
                <a:xfrm rot="1058400">
                  <a:off x="6809760" y="6128280"/>
                  <a:ext cx="219528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rot="1058400">
                  <a:off x="6942240" y="6506640"/>
                  <a:ext cx="321120" cy="15084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rot="1058400">
                  <a:off x="6989760" y="65268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rot="1058400">
                  <a:off x="7025760" y="65408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rot="1058400">
                  <a:off x="7062480" y="65548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6982560" y="5890680"/>
                <a:ext cx="2339640" cy="1442880"/>
                <a:chOff x="6982560" y="5890680"/>
                <a:chExt cx="2339640" cy="1442880"/>
              </a:xfrm>
            </p:grpSpPr>
            <p:sp>
              <p:nvSpPr>
                <p:cNvPr id="963" name=""/>
                <p:cNvSpPr/>
                <p:nvPr/>
              </p:nvSpPr>
              <p:spPr>
                <a:xfrm rot="1058400">
                  <a:off x="7054560" y="620388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rot="1058400">
                  <a:off x="7187040" y="6582240"/>
                  <a:ext cx="321120" cy="150840"/>
                </a:xfrm>
                <a:prstGeom prst="ellips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rot="1058400">
                  <a:off x="7234560" y="66024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rot="1058400">
                  <a:off x="7270920" y="66164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rot="1058400">
                  <a:off x="7307280" y="66304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7231680" y="5951520"/>
                <a:ext cx="2341080" cy="1517760"/>
                <a:chOff x="7231680" y="5951520"/>
                <a:chExt cx="2341080" cy="1517760"/>
              </a:xfrm>
            </p:grpSpPr>
            <p:sp>
              <p:nvSpPr>
                <p:cNvPr id="969" name=""/>
                <p:cNvSpPr/>
                <p:nvPr/>
              </p:nvSpPr>
              <p:spPr>
                <a:xfrm rot="1201200">
                  <a:off x="7304760" y="6302160"/>
                  <a:ext cx="219420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rot="1201200">
                  <a:off x="7436520" y="6647040"/>
                  <a:ext cx="320760" cy="150840"/>
                </a:xfrm>
                <a:prstGeom prst="ellipse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rot="1201200">
                  <a:off x="7483680" y="666684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rot="1201200">
                  <a:off x="7519680" y="66816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rot="1201200">
                  <a:off x="7556400" y="66952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4" name=""/>
              <p:cNvSpPr/>
              <p:nvPr/>
            </p:nvSpPr>
            <p:spPr>
              <a:xfrm>
                <a:off x="7819920" y="6200280"/>
                <a:ext cx="1200240" cy="54360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951600" y="6292800"/>
                <a:ext cx="1200240" cy="54360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6465240" y="5420520"/>
              <a:ext cx="3378960" cy="1820160"/>
              <a:chOff x="6465240" y="5420520"/>
              <a:chExt cx="3378960" cy="1820160"/>
            </a:xfrm>
          </p:grpSpPr>
          <p:grpSp>
            <p:nvGrpSpPr>
              <p:cNvPr id="977" name=""/>
              <p:cNvGrpSpPr/>
              <p:nvPr/>
            </p:nvGrpSpPr>
            <p:grpSpPr>
              <a:xfrm>
                <a:off x="6465240" y="5420520"/>
                <a:ext cx="2339640" cy="1442880"/>
                <a:chOff x="6465240" y="5420520"/>
                <a:chExt cx="2339640" cy="1442880"/>
              </a:xfrm>
            </p:grpSpPr>
            <p:sp>
              <p:nvSpPr>
                <p:cNvPr id="978" name=""/>
                <p:cNvSpPr/>
                <p:nvPr/>
              </p:nvSpPr>
              <p:spPr>
                <a:xfrm rot="1058400">
                  <a:off x="6537240" y="573372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058400">
                  <a:off x="6669720" y="6112080"/>
                  <a:ext cx="321120" cy="150840"/>
                </a:xfrm>
                <a:prstGeom prst="ellipse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1058400">
                  <a:off x="6717240" y="61322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rot="1058400">
                  <a:off x="6753600" y="614628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1058400">
                  <a:off x="6789960" y="61603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6728040" y="5510880"/>
                <a:ext cx="2339640" cy="1442880"/>
                <a:chOff x="6728040" y="5510880"/>
                <a:chExt cx="2339640" cy="1442880"/>
              </a:xfrm>
            </p:grpSpPr>
            <p:sp>
              <p:nvSpPr>
                <p:cNvPr id="984" name=""/>
                <p:cNvSpPr/>
                <p:nvPr/>
              </p:nvSpPr>
              <p:spPr>
                <a:xfrm rot="1058400">
                  <a:off x="6800040" y="582408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1058400">
                  <a:off x="6932520" y="6202440"/>
                  <a:ext cx="321120" cy="150840"/>
                </a:xfrm>
                <a:prstGeom prst="ellipse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rot="1058400">
                  <a:off x="6980040" y="62226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rot="1058400">
                  <a:off x="7016400" y="62366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1058400">
                  <a:off x="7052760" y="62506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7009200" y="5586480"/>
                <a:ext cx="2339280" cy="1442520"/>
                <a:chOff x="7009200" y="5586480"/>
                <a:chExt cx="2339280" cy="1442520"/>
              </a:xfrm>
            </p:grpSpPr>
            <p:sp>
              <p:nvSpPr>
                <p:cNvPr id="990" name=""/>
                <p:cNvSpPr/>
                <p:nvPr/>
              </p:nvSpPr>
              <p:spPr>
                <a:xfrm rot="1058400">
                  <a:off x="7081200" y="5899680"/>
                  <a:ext cx="219528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058400">
                  <a:off x="7213680" y="6278040"/>
                  <a:ext cx="321120" cy="150840"/>
                </a:xfrm>
                <a:prstGeom prst="ellipse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rot="1058400">
                  <a:off x="7261200" y="62982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rot="1058400">
                  <a:off x="7297200" y="63122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058400">
                  <a:off x="7333920" y="63262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7254000" y="5662080"/>
                <a:ext cx="2339640" cy="1442880"/>
                <a:chOff x="7254000" y="5662080"/>
                <a:chExt cx="2339640" cy="1442880"/>
              </a:xfrm>
            </p:grpSpPr>
            <p:sp>
              <p:nvSpPr>
                <p:cNvPr id="996" name=""/>
                <p:cNvSpPr/>
                <p:nvPr/>
              </p:nvSpPr>
              <p:spPr>
                <a:xfrm rot="1058400">
                  <a:off x="7326000" y="597528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1058400">
                  <a:off x="7458480" y="6353640"/>
                  <a:ext cx="321120" cy="150840"/>
                </a:xfrm>
                <a:prstGeom prst="ellipse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rot="1058400">
                  <a:off x="7506000" y="63738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1058400">
                  <a:off x="7542360" y="63878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1058400">
                  <a:off x="7578720" y="64018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7503120" y="5722920"/>
                <a:ext cx="2341080" cy="1517760"/>
                <a:chOff x="7503120" y="5722920"/>
                <a:chExt cx="2341080" cy="1517760"/>
              </a:xfrm>
            </p:grpSpPr>
            <p:sp>
              <p:nvSpPr>
                <p:cNvPr id="1002" name=""/>
                <p:cNvSpPr/>
                <p:nvPr/>
              </p:nvSpPr>
              <p:spPr>
                <a:xfrm rot="1201200">
                  <a:off x="7576200" y="6073560"/>
                  <a:ext cx="219420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201200">
                  <a:off x="7707960" y="6418440"/>
                  <a:ext cx="320760" cy="150840"/>
                </a:xfrm>
                <a:prstGeom prst="ellips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rot="1201200">
                  <a:off x="7755120" y="643824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rot="1201200">
                  <a:off x="7791120" y="64530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201200">
                  <a:off x="7827840" y="64666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7" name=""/>
              <p:cNvSpPr/>
              <p:nvPr/>
            </p:nvSpPr>
            <p:spPr>
              <a:xfrm>
                <a:off x="8091360" y="5971680"/>
                <a:ext cx="1200240" cy="54360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223040" y="6064200"/>
                <a:ext cx="1200240" cy="54360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4212720" y="5649120"/>
              <a:ext cx="3378960" cy="1820160"/>
              <a:chOff x="4212720" y="5649120"/>
              <a:chExt cx="3378960" cy="1820160"/>
            </a:xfrm>
          </p:grpSpPr>
          <p:grpSp>
            <p:nvGrpSpPr>
              <p:cNvPr id="1010" name=""/>
              <p:cNvGrpSpPr/>
              <p:nvPr/>
            </p:nvGrpSpPr>
            <p:grpSpPr>
              <a:xfrm>
                <a:off x="4212720" y="5649120"/>
                <a:ext cx="2339640" cy="1442880"/>
                <a:chOff x="4212720" y="5649120"/>
                <a:chExt cx="2339640" cy="1442880"/>
              </a:xfrm>
            </p:grpSpPr>
            <p:sp>
              <p:nvSpPr>
                <p:cNvPr id="1011" name=""/>
                <p:cNvSpPr/>
                <p:nvPr/>
              </p:nvSpPr>
              <p:spPr>
                <a:xfrm rot="1058400">
                  <a:off x="4284720" y="596232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058400">
                  <a:off x="4417200" y="6340680"/>
                  <a:ext cx="321120" cy="150840"/>
                </a:xfrm>
                <a:prstGeom prst="ellips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rot="1058400">
                  <a:off x="4464720" y="63608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rot="1058400">
                  <a:off x="4501080" y="637488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rot="1058400">
                  <a:off x="4537440" y="63889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4475520" y="5739480"/>
                <a:ext cx="2339640" cy="1442880"/>
                <a:chOff x="4475520" y="5739480"/>
                <a:chExt cx="2339640" cy="1442880"/>
              </a:xfrm>
            </p:grpSpPr>
            <p:sp>
              <p:nvSpPr>
                <p:cNvPr id="1017" name=""/>
                <p:cNvSpPr/>
                <p:nvPr/>
              </p:nvSpPr>
              <p:spPr>
                <a:xfrm rot="1058400">
                  <a:off x="4547520" y="605268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rot="1058400">
                  <a:off x="4680000" y="6431040"/>
                  <a:ext cx="321120" cy="150840"/>
                </a:xfrm>
                <a:prstGeom prst="ellipse">
                  <a:avLst/>
                </a:pr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rot="1058400">
                  <a:off x="4727520" y="64512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rot="1058400">
                  <a:off x="4763880" y="64652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rot="1058400">
                  <a:off x="4800240" y="64792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2" name=""/>
              <p:cNvGrpSpPr/>
              <p:nvPr/>
            </p:nvGrpSpPr>
            <p:grpSpPr>
              <a:xfrm>
                <a:off x="4756680" y="5815080"/>
                <a:ext cx="2339280" cy="1442520"/>
                <a:chOff x="4756680" y="5815080"/>
                <a:chExt cx="2339280" cy="1442520"/>
              </a:xfrm>
            </p:grpSpPr>
            <p:sp>
              <p:nvSpPr>
                <p:cNvPr id="1023" name=""/>
                <p:cNvSpPr/>
                <p:nvPr/>
              </p:nvSpPr>
              <p:spPr>
                <a:xfrm rot="1058400">
                  <a:off x="4828680" y="6128280"/>
                  <a:ext cx="219528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rot="1058400">
                  <a:off x="4961160" y="6506640"/>
                  <a:ext cx="321120" cy="150840"/>
                </a:xfrm>
                <a:prstGeom prst="ellipse">
                  <a:avLst/>
                </a:prstGeom>
                <a:blipFill rotWithShape="0">
                  <a:blip r:embed="rId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rot="1058400">
                  <a:off x="5008680" y="65268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rot="1058400">
                  <a:off x="5044680" y="65408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rot="1058400">
                  <a:off x="5081400" y="65548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5001480" y="5890680"/>
                <a:ext cx="2339640" cy="1442880"/>
                <a:chOff x="5001480" y="5890680"/>
                <a:chExt cx="2339640" cy="1442880"/>
              </a:xfrm>
            </p:grpSpPr>
            <p:sp>
              <p:nvSpPr>
                <p:cNvPr id="1029" name=""/>
                <p:cNvSpPr/>
                <p:nvPr/>
              </p:nvSpPr>
              <p:spPr>
                <a:xfrm rot="1058400">
                  <a:off x="5073480" y="6203880"/>
                  <a:ext cx="219564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rot="1058400">
                  <a:off x="5205960" y="6582240"/>
                  <a:ext cx="321120" cy="150840"/>
                </a:xfrm>
                <a:prstGeom prst="ellipse">
                  <a:avLst/>
                </a:prstGeom>
                <a:blipFill rotWithShape="0">
                  <a:blip r:embed="rId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rot="1058400">
                  <a:off x="5253480" y="66024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rot="1058400">
                  <a:off x="5289840" y="66164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rot="1058400">
                  <a:off x="5326200" y="66304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5250600" y="5951520"/>
                <a:ext cx="2341080" cy="1517760"/>
                <a:chOff x="5250600" y="5951520"/>
                <a:chExt cx="2341080" cy="1517760"/>
              </a:xfrm>
            </p:grpSpPr>
            <p:sp>
              <p:nvSpPr>
                <p:cNvPr id="1035" name=""/>
                <p:cNvSpPr/>
                <p:nvPr/>
              </p:nvSpPr>
              <p:spPr>
                <a:xfrm rot="1201200">
                  <a:off x="5323680" y="6302160"/>
                  <a:ext cx="2194200" cy="81576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 rot="1201200">
                  <a:off x="5455440" y="6647040"/>
                  <a:ext cx="320760" cy="150840"/>
                </a:xfrm>
                <a:prstGeom prst="ellipse">
                  <a:avLst/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rot="1201200">
                  <a:off x="5502600" y="666684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 rot="1201200">
                  <a:off x="5538600" y="66816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rot="1201200">
                  <a:off x="5575320" y="66952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"/>
              <p:cNvSpPr/>
              <p:nvPr/>
            </p:nvSpPr>
            <p:spPr>
              <a:xfrm>
                <a:off x="5838840" y="6200280"/>
                <a:ext cx="1200240" cy="54360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970520" y="6292800"/>
                <a:ext cx="1200240" cy="54360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4484160" y="5496480"/>
              <a:ext cx="3378960" cy="1820520"/>
              <a:chOff x="4484160" y="5496480"/>
              <a:chExt cx="3378960" cy="1820520"/>
            </a:xfrm>
          </p:grpSpPr>
          <p:grpSp>
            <p:nvGrpSpPr>
              <p:cNvPr id="1043" name=""/>
              <p:cNvGrpSpPr/>
              <p:nvPr/>
            </p:nvGrpSpPr>
            <p:grpSpPr>
              <a:xfrm>
                <a:off x="4484160" y="5496480"/>
                <a:ext cx="2339640" cy="1443240"/>
                <a:chOff x="4484160" y="5496480"/>
                <a:chExt cx="2339640" cy="1443240"/>
              </a:xfrm>
            </p:grpSpPr>
            <p:sp>
              <p:nvSpPr>
                <p:cNvPr id="1044" name=""/>
                <p:cNvSpPr/>
                <p:nvPr/>
              </p:nvSpPr>
              <p:spPr>
                <a:xfrm rot="1058400">
                  <a:off x="4556160" y="5809680"/>
                  <a:ext cx="2195640" cy="81612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rot="1058400">
                  <a:off x="4688640" y="6188400"/>
                  <a:ext cx="321120" cy="150840"/>
                </a:xfrm>
                <a:prstGeom prst="ellipse">
                  <a:avLst/>
                </a:prstGeom>
                <a:blipFill rotWithShape="0">
                  <a:blip r:embed="rId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rot="1058400">
                  <a:off x="4735800" y="620856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rot="1058400">
                  <a:off x="4772160" y="622260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rot="1058400">
                  <a:off x="4808880" y="623664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9" name=""/>
              <p:cNvGrpSpPr/>
              <p:nvPr/>
            </p:nvGrpSpPr>
            <p:grpSpPr>
              <a:xfrm>
                <a:off x="4746960" y="5586840"/>
                <a:ext cx="2339640" cy="1443240"/>
                <a:chOff x="4746960" y="5586840"/>
                <a:chExt cx="2339640" cy="1443240"/>
              </a:xfrm>
            </p:grpSpPr>
            <p:sp>
              <p:nvSpPr>
                <p:cNvPr id="1050" name=""/>
                <p:cNvSpPr/>
                <p:nvPr/>
              </p:nvSpPr>
              <p:spPr>
                <a:xfrm rot="1058400">
                  <a:off x="4818960" y="5900040"/>
                  <a:ext cx="2195640" cy="81612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rot="1058400">
                  <a:off x="4951440" y="6278760"/>
                  <a:ext cx="321120" cy="150840"/>
                </a:xfrm>
                <a:prstGeom prst="ellipse">
                  <a:avLst/>
                </a:prstGeom>
                <a:blipFill rotWithShape="0">
                  <a:blip r:embed="rId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rot="1058400">
                  <a:off x="4998600" y="62989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rot="1058400">
                  <a:off x="5034960" y="631296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rot="1058400">
                  <a:off x="5071680" y="63270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5028120" y="5662440"/>
                <a:ext cx="2339280" cy="1442880"/>
                <a:chOff x="5028120" y="5662440"/>
                <a:chExt cx="2339280" cy="1442880"/>
              </a:xfrm>
            </p:grpSpPr>
            <p:sp>
              <p:nvSpPr>
                <p:cNvPr id="1056" name=""/>
                <p:cNvSpPr/>
                <p:nvPr/>
              </p:nvSpPr>
              <p:spPr>
                <a:xfrm rot="1058400">
                  <a:off x="5100120" y="5975640"/>
                  <a:ext cx="2195280" cy="81612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rot="1058400">
                  <a:off x="5232600" y="6354360"/>
                  <a:ext cx="321120" cy="150840"/>
                </a:xfrm>
                <a:prstGeom prst="ellipse">
                  <a:avLst/>
                </a:prstGeom>
                <a:blipFill rotWithShape="0">
                  <a:blip r:embed="rId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rot="1058400">
                  <a:off x="5279760" y="63745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rot="1058400">
                  <a:off x="5315760" y="638856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rot="1058400">
                  <a:off x="5352840" y="64026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5272920" y="5738040"/>
                <a:ext cx="2339640" cy="1443240"/>
                <a:chOff x="5272920" y="5738040"/>
                <a:chExt cx="2339640" cy="1443240"/>
              </a:xfrm>
            </p:grpSpPr>
            <p:sp>
              <p:nvSpPr>
                <p:cNvPr id="1062" name=""/>
                <p:cNvSpPr/>
                <p:nvPr/>
              </p:nvSpPr>
              <p:spPr>
                <a:xfrm rot="1058400">
                  <a:off x="5344920" y="6051240"/>
                  <a:ext cx="2195640" cy="81612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rot="1058400">
                  <a:off x="5477400" y="6429960"/>
                  <a:ext cx="321120" cy="150840"/>
                </a:xfrm>
                <a:prstGeom prst="ellipse">
                  <a:avLst/>
                </a:prstGeom>
                <a:blipFill rotWithShape="0">
                  <a:blip r:embed="rId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rot="1058400">
                  <a:off x="5524560" y="64501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rot="1058400">
                  <a:off x="5560920" y="646416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rot="1058400">
                  <a:off x="5597640" y="6478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5522040" y="5798880"/>
                <a:ext cx="2341080" cy="1518120"/>
                <a:chOff x="5522040" y="5798880"/>
                <a:chExt cx="2341080" cy="1518120"/>
              </a:xfrm>
            </p:grpSpPr>
            <p:sp>
              <p:nvSpPr>
                <p:cNvPr id="1068" name=""/>
                <p:cNvSpPr/>
                <p:nvPr/>
              </p:nvSpPr>
              <p:spPr>
                <a:xfrm rot="1201200">
                  <a:off x="5595120" y="6149520"/>
                  <a:ext cx="2194200" cy="81612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rot="1201200">
                  <a:off x="5726880" y="6494760"/>
                  <a:ext cx="320760" cy="150840"/>
                </a:xfrm>
                <a:prstGeom prst="ellipse">
                  <a:avLst/>
                </a:prstGeom>
                <a:blipFill rotWithShape="0">
                  <a:blip r:embed="rId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rot="1201200">
                  <a:off x="5774040" y="651456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rot="1201200">
                  <a:off x="5810040" y="652932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rot="1201200">
                  <a:off x="5846760" y="65430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3" name=""/>
              <p:cNvSpPr/>
              <p:nvPr/>
            </p:nvSpPr>
            <p:spPr>
              <a:xfrm>
                <a:off x="6110280" y="6048000"/>
                <a:ext cx="1200240" cy="54396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241960" y="6140520"/>
                <a:ext cx="1200240" cy="54396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5" name=""/>
          <p:cNvSpPr/>
          <p:nvPr/>
        </p:nvSpPr>
        <p:spPr>
          <a:xfrm>
            <a:off x="250920" y="3141720"/>
            <a:ext cx="288720" cy="3276720"/>
          </a:xfrm>
          <a:custGeom>
            <a:avLst/>
            <a:gdLst/>
            <a:ahLst/>
            <a:rect l="l" t="t" r="r" b="b"/>
            <a:pathLst>
              <a:path w="480" h="4176">
                <a:moveTo>
                  <a:pt x="48" y="4128"/>
                </a:moveTo>
                <a:lnTo>
                  <a:pt x="0" y="96"/>
                </a:lnTo>
                <a:lnTo>
                  <a:pt x="48" y="48"/>
                </a:lnTo>
                <a:lnTo>
                  <a:pt x="192" y="0"/>
                </a:lnTo>
                <a:lnTo>
                  <a:pt x="288" y="0"/>
                </a:lnTo>
                <a:lnTo>
                  <a:pt x="384" y="48"/>
                </a:lnTo>
                <a:lnTo>
                  <a:pt x="432" y="96"/>
                </a:lnTo>
                <a:lnTo>
                  <a:pt x="480" y="4128"/>
                </a:lnTo>
                <a:lnTo>
                  <a:pt x="288" y="4176"/>
                </a:lnTo>
                <a:lnTo>
                  <a:pt x="192" y="4176"/>
                </a:lnTo>
                <a:lnTo>
                  <a:pt x="48" y="4128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0920" y="6093000"/>
            <a:ext cx="21744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50920" y="4797360"/>
            <a:ext cx="21744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404640"/>
            <a:ext cx="9144000" cy="23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Georgia"/>
              </a:rPr>
              <a:t>Уровень воды во время павод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Georgia"/>
              </a:rPr>
              <a:t>поднимается на 2 см в час. Как измен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Georgia"/>
              </a:rPr>
              <a:t>уровень воды в реке за сутки в пер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Georgia"/>
              </a:rPr>
              <a:t>подъе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900000" y="4365720"/>
            <a:ext cx="216000" cy="1839960"/>
          </a:xfrm>
          <a:prstGeom prst="upArrow">
            <a:avLst>
              <a:gd name="adj1" fmla="val 50000"/>
              <a:gd name="adj2" fmla="val 2129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1258920" y="5661000"/>
            <a:ext cx="5473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+2) * 24 = 48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111E-006 L -0.00295 -0.2257 E">
                                      <p:cBhvr>
                                        <p:cTn id="221" dur="2000" fill="hold"/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96296E-006 L -0.00087 -0.2375 E">
                                      <p:cBhvr>
                                        <p:cTn id="223" dur="2000" fill="hold"/>
                                        <p:tgtEl>
                                          <p:spTgt spid="9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05:19:50Z</dcterms:created>
  <dc:creator>MAMA</dc:creator>
  <dc:description/>
  <dc:language>en-US</dc:language>
  <cp:lastModifiedBy>Your User Name</cp:lastModifiedBy>
  <dcterms:modified xsi:type="dcterms:W3CDTF">2010-02-23T17:25:18Z</dcterms:modified>
  <cp:revision>10</cp:revision>
  <dc:subject/>
  <dc:title>Слайд 1</dc:title>
</cp:coreProperties>
</file>