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058-38E2-433B-BEE9-6ACE9533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652-8DD5-4FB2-BB19-6164ADB1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E7B-6E1A-4D76-8789-FC2621A8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E99-1053-4EDC-8F24-C8FE00E4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69B-4FDC-4AB6-8199-F7B60CA3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BB2-9C2F-4C5D-BEA6-5A46DE2D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9F7-A976-4B61-B8EF-35831CC5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4FA-7023-4F3B-B54D-966D3FD1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048-EF03-4A1D-93C5-F1DE1D58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2F5-5481-4C17-A0CF-BA403F8C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10F-B552-4C4D-A8C4-EBFE393E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957-72C9-4135-8FAD-2539C02F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85EA-274F-46F3-82A1-975F6FA6F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 по отраслям 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омерны ли действ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дминистраци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тдел кадров кондитерской фабрики обратился 13- летний Андрей. Он подал заявление с просьбой принять его на работу в свободное от учебы время. Родители Андрея согласны, чтобы их сын работал. Отдел кадров отказал мальчику в приеме на рабо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жданин А. был осужден за совершение преступления к лишению свободы. По решению суда назначенное наказание он будет отбывать условно. Во время течения испытательного срока были назначены выборы в местные органы власти А. решил зарегистрироваться кандидатом в депутаты, однако избирком ему в этом отказал. Законны ли действия избирательной коми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овершеннолетний Н. – работник ЗАО, без уважительных причин не прошел ежегодный медицинский осмотр, в связи с чем он был отстранен от работы. За время отстранения зарплата не начислялась. Н. считает, что и отстранение от работы из – за того, что  он не прошел медосмотр, и невыплата ему зарплаты является нарушением трудового законода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 ли Н.? Ответ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етской площадке был припаркован автомобиль. Дети, играя, помяли мячом крыло автомобиля. Хозяин машины предъявил счет за ремонт маш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омерны ли его действия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 время развода  жена известного писателя потребовала рассматривать все книги, написанные ее мужем за время их брака, в качестве совместной собственности, обосновывая это тем, что созданы они были при её моральной поддерж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ое решение примет суд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жданка П. обратилась к администрации предприятия по месту работы мужа с заявлением, в котором просила не выдавать супругу заработанную зарплату, так как он тратит её на приобретение для себя вещей, что отрицательно сказывается на материальном положении семьи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омерна ли просьба П.Может ли она быть выполнена на основе зако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администрации школы обратилась группа учащихся 11 классов с предложением организовать в школе детское религиозное объединение, куда на добровольной основе смог бы вступить любой ученик школы. Целью деятельности объединения будет приобщение учащихся школы к православным ценностям и традициям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вы должны быть, с точки зрения закона, действия администрации. Ответ обосну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вгений Р. когда ему было 16 лет вступил в брак с Надеждой А.На момент вступления в брак Евгений находился на попечительстве своей т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анется ли Е. на попечительстве после вступления в бра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согласия работодателя токарь Карпушин проводил разработку новой методики обработки деталей. При испытании новой методики станок не выдержал нагрузки (хотя при работе не были превышены максимально допущенные заводом- изготовителем показатели) и сломался. Ремонт обошелся работодателю в 150 тыс. рублей. Работодатель обратился в суд с требованием взыскать с Карпушина стоимость ремонта ста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решение примет су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жданин М. разработал проект о мерах по повышению культурного уровня граждан Ро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жет ли гражданин М. самостоятельно вынести подготовленный законопроект на обсуждение Государственной Ду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н может добиться рассмотрения своего законопроек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рган ЗАГСА обратился молодой человек с заявлением о расторжении брака. Работники ЗАГСА, выяснив, что у гражданина есть несовершенная дочка, отказались принять у него заявление. Гражданин заявил, что тем самым они нарушили его пра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ы ли работники ЗАГСА?. Свой ответ обосну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жданин Т. обвиняется в совершении преступления. Следователь требует, чтобы гражданин Т.доказал свою невинов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 ли следователь? Свой ответ обосну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- летний подросток решил стать предпринимателем. С этой целью он пришел в регистрационную палату по месту жительства с заявлением, паспортом и фотографией. Однако ему сказали, что не хватает ещё одного доку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ещё должен представить 16 – летний подросток для того, чтобы его зарегистрировали как предпринимателя, и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. не доволен оплатой, которую владелец частного предприятия ( он трудится на нем 2 недели) произвел с ним. Л. заявил владельцу, что обратится в суд с жалобой. Тот ответил, что что между ним и Л. не был заключен трудовой договор, то официально трудовые отношения не возникли, а следовательно суд не примет и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ешите ситуацию, опираясь на Трудовой кодекс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–летний З. в момент ограбления магазина был задержан охранником и препровожден в отделение полиции. Следователь, который хотел его допросить, З. ответил, что он отказывается давать показания на основании статьи, закрепленной Конституцией Р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праве ли З. отказываться от дачи показаний?. Какую статью подразумевает З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жителями Крайнего Севера (приравненных к ним местностей) ТК РФ обязывает работодателя заключать трудовые договоры на неопределенный с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те 2 вывода на основе анализа приведенных данных. Опираясь на свои знания, укажите одну из возможных причин заключения трудового договора с жителями Крайнего Севера на неопределенный с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ец интернет- магазина заключил срочный трудовой договор с двумя 15- летними учащимися профучилища. В соответствии с договором каждый из них должен был выполнять работы по упаковке покупок клиентов магазина в течение учебного года 4 дня в неделю с 12 до 23 часов с обеденным перерывом один час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жите 3 нарушения, допущенные при заключении трудового дого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ъясните ситуацию с точки зрения закон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бенка покусала соседская собака. Он вернулся домой в порванной куртке и с серьёзной травмой руки. Когда родители решили предъявить претензии соседу, тот сообщил, что невиноват, т. к. их ребенок слишком сильно размахивал руками, вот собака и среагировала на резкие дви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анализируйте ситуацию с точки зрения зак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ий гражданин нашел на дороге сотовый телефон. Как и следовало сделать по закону он заявил об этом в полицию. Телефон он бережно хранил дома и не пользовался им. Хозяин телефона объявился через 8 месяцев и потребовал отдать ему телеф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омерны ли действия работодател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жданке Обуховой было отказано в приеме на работу секретарем – референтом на том основании, что ей уже исполнилось 50 лет, а фирма предпочитает иметь дело с молодыми и перспективными работниками. Обухова обратилась в су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ы основания обращения Обуховой в су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цируйте действия Майор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– летний учащийся школы Сергей Майоров, воспользовавшись невнимательностью сотрудников магазина « Перекресток», похитил с прилавка товары на общую сумму 470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какому виду ответственности он будет привлече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е правонарушение совершили ребят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- летний Павел Г. пригласил своих 15 – летних друзей Николая и Андрея в парк. Там распили принесенные Павлом спиртные напитки. После этого они стали громко кричать, выражаться нецензурными словами, оскорблять людей, которые делали им заме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какому виду ответственности относится данное правонарушение? Будет ли мера наказания одинаковой для все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й отраслью права регулируются данные правоот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ОО «Интеллект» заключило договор купли – продажи с АО «Медио – центр» на приобретение партии мультимедийных проекторов, по которому АО «Медио – центр» берет на себя также обслуживание данной тех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акому виду относятся указанные субъекты правоотношен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жданин К. был вызван к следователю для дачи свидетельских показаний по уголовному делу, возбужденному в отношении его сына. Гражданин К. отказался давать показ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тветствует ли его поведение нормам права? Свой ответ обосну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13:58:17Z</dcterms:created>
  <dc:creator>User</dc:creator>
  <dc:description/>
  <dc:language>en-US</dc:language>
  <cp:lastModifiedBy>User</cp:lastModifiedBy>
  <dcterms:modified xsi:type="dcterms:W3CDTF">2014-04-13T18:17:24Z</dcterms:modified>
  <cp:revision>3</cp:revision>
  <dc:subject/>
  <dc:title>Задания по отраслям права</dc:title>
</cp:coreProperties>
</file>