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60A4B-8719-43D9-BDDC-7188EE931C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47B-C049-4499-8785-4ED5DC20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5D2-7CEA-46FB-8D6D-897E2DE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5EA-BC79-4BB3-9DD7-E4E452C0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C03-ACB5-4FA8-BBFE-1004DAF9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888-B7F2-44FB-B06F-57DA7C1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324-AC0D-4043-985C-6C2E0B21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DAF-843C-45B6-A589-49993327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466-A374-43C0-B8E2-3E4B35F1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8720"/>
            <a:ext cx="9064440" cy="59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DB6-D442-499F-93D7-4C7BD630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F90-BD54-454A-B552-E9C739A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196-43EE-472F-890B-2EF1BEBB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8EB-BFDF-4B3E-9506-3D315647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64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F7078-57D8-4244-B7AF-4078476040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78920"/>
            <a:ext cx="90694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езентац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00000" y="539280"/>
            <a:ext cx="68770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цы 9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й школы №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ентьевой Дар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33"/>
                </a:solidFill>
                <a:latin typeface="Arial"/>
              </a:rPr>
              <a:t>«Спортсмены-олимпийцы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360" y="4140360"/>
            <a:ext cx="52196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4500720" cy="540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000" y="533520"/>
            <a:ext cx="78087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c2300"/>
                </a:solidFill>
                <a:latin typeface="Georgia"/>
              </a:rPr>
              <a:t>ЕВГЕНИЙ ПЛЮЩЕН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c2300"/>
                </a:solidFill>
                <a:latin typeface="Georgia"/>
              </a:rPr>
              <a:t>Дости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3280" y="2049480"/>
            <a:ext cx="4425840" cy="4425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 fontScale="84000"/>
          </a:bodyPr>
          <a:p>
            <a:pPr marL="358560" indent="-2703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Arial"/>
              </a:rPr>
              <a:t>Олимпийский чемпион 20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560" indent="-2703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Arial"/>
              </a:rPr>
              <a:t>Двукратный медалист Олимпиад( 2002 и 2010 год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560" indent="-2703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Arial"/>
              </a:rPr>
              <a:t>Трёхкратный чемпион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560" indent="-2703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Arial"/>
              </a:rPr>
              <a:t>Семикратный чемпион Ев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560" indent="-2703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Arial"/>
              </a:rPr>
              <a:t>Девятикратный чемпион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6666"/>
                </a:solidFill>
                <a:latin typeface="Georgia"/>
              </a:rPr>
              <a:t>Мастер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995040"/>
            <a:ext cx="4356000" cy="6902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Georgia"/>
              </a:rPr>
              <a:t>Евгений Плющенко стал первым в истории фигуристом, показавшим комбинацию четверной тулуп —тройной тулуп- тройной риттбергер. Первый среди мужчин-фигуристов, исполнивший вращение бильманн, каскад тройной аксель-тройной фли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48240" y="1565280"/>
            <a:ext cx="3732120" cy="27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23040" y="4065480"/>
            <a:ext cx="2857680" cy="3314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59280" y="4319640"/>
            <a:ext cx="25192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Georgia"/>
              </a:rPr>
              <a:t>О Евг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79280"/>
            <a:ext cx="45007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гений Плющенко родился в пгт. Солнечном Хабаровского края. Когда ему было 3 года, семья переехала в Волгоград. В возрасте 4-х лет начал заниматься фигурным катанием, к которому его приобщила мать. В первые годы занятий стал выполнять вращение бильманн. К 1993 Плющенко освоил все тройные прыжки (в том числе тройной аксель). Из-за закрытия волгоградской ледовой арены, в которой тренировался Евгений, ему пришлось в 11 лет без родителей переехать в Санкт-Петербург, мать последовала на следующий г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35600" y="1440000"/>
            <a:ext cx="1904760" cy="2981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0360" y="1407960"/>
            <a:ext cx="216072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енером Плющенко стал Алексей Мишин. Будучи убеждённым в таланте Евгения, он на протяжении трёх лет оплачивал его петербургскую квартиру, в то время как Евгений тренировался в группе с Алексеем Урмановым и Алексеем Ягуди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4680000"/>
            <a:ext cx="360036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В 1998 г. окончил среднюю школу № 91 Петроградского района. Закончи ДЮСШ по фигурному катанию г. Санкт-Петербур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439040" y="5040360"/>
            <a:ext cx="2281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9440" y="63000"/>
            <a:ext cx="90694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Georgia"/>
              </a:rPr>
              <a:t>Олимпиа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0360" y="1260360"/>
            <a:ext cx="3419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02 год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— Олимпиада в Солт-Лейк Си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Евгений Плющенко становится вторым, проигрывая соотечественнику Алексею Ягу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0360" y="2879640"/>
            <a:ext cx="2879640" cy="270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80000" y="1260360"/>
            <a:ext cx="25192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06 год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— Олимпиада в Турине. Триумфальная победа Евгения Плющенк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0360" y="126036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22760" y="2879640"/>
            <a:ext cx="311760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20000" y="1260360"/>
            <a:ext cx="1440" cy="450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20000" y="1224000"/>
            <a:ext cx="287964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10 год —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лимпиада в Ванкувере. Евгений Плющенко блестяще выступил, но стал вторым, что поразило всю элиту фигурного катания и мирового 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99280" y="3060720"/>
            <a:ext cx="270036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00360" y="594036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20000" y="5759280"/>
            <a:ext cx="1440" cy="180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260360"/>
            <a:ext cx="100807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289080"/>
            <a:ext cx="906948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Факт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1619280"/>
            <a:ext cx="809928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январе 2010 года Евгений выиграл чемпионат Европы 2010 в Таллине, установив новый мировой рекорд, на этот раз учитываемый ИСУ, по оценке за короткую программу — 91,30 и побив тем предыдущий рекорд (90,66 баллов), установленный им же на Олимпиаде 200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9280" y="3419640"/>
            <a:ext cx="50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60360" y="833400"/>
            <a:ext cx="792000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ейчас Евгений Плющенко полностью восстановился от травмы мениска и готов к новому спортивному сезоны 2012-2013. Ждем новых титулов, достижений и рекорд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20720" y="4746600"/>
            <a:ext cx="3959280" cy="2273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53000" y="4127400"/>
            <a:ext cx="39877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6:42:29Z</dcterms:created>
  <dc:creator/>
  <dc:description/>
  <dc:language>en-US</dc:language>
  <cp:lastModifiedBy/>
  <cp:revision>1</cp:revision>
  <dc:subject/>
  <dc:title/>
</cp:coreProperties>
</file>