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CE4-9F0F-4D9A-95F6-C7426BAE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C49-2CE2-40EB-A687-F5B08A2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A1722-A323-4BFE-9988-8D64705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F2D3E-BB89-4E34-91C6-55326DAB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6C024-F688-45E0-B89D-D2AEF2A0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260C-2447-49FA-B06D-67A7DBD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F27C8-5F1B-4CAE-9A26-E13C1BE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2BCE1-D43F-4BDC-B8A5-866A5E7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04BFB-4E0B-4297-985D-E06C1E1A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AF400-281A-42BF-8013-75C491C2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23CBF-E3C0-4877-8D5E-894BF7DB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498-4EBF-45B8-AF1A-FAA6D9CD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B31-C8B1-4BE9-B22C-D6E99E53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446C-F283-4299-B6DC-B59983A4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8CCA-0014-43D4-AFA9-EBA43B9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E99C-809F-4FCA-8BEA-13F69299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3C6E-987D-4E21-94E2-418A2138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2A7-4A46-4FD5-881F-354ED6D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E11B-A96D-4301-98C2-477DDAF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FFD0-7625-4451-BFF8-BA2BB47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AA1-5F0C-42F9-B170-FD31320A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828F-25EA-409C-BE83-DB3C8F41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A07A-366C-4862-B2CA-D3BD67E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7F2-10EA-426C-AB61-DDFBCE7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70D3-818A-4CFA-A86A-99E9B7F0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05D-5596-4A4A-9A89-D8CE8624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C5C3-0A62-40B2-9BF1-8849E058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BE2E-CBC8-4A42-9C11-B378D8F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CBC2-5D60-4B98-9DA7-0E78BFF0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807B-43EC-4FE7-9389-868D55B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04B5-2926-4F0F-A98E-BB170B71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2A3-4DB8-4CA2-A60F-D7E03457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874A-57F0-4817-807F-FB2B014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D68A-88D1-4A17-B721-BDA47C0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B8E0-E05A-4B45-A229-DED654A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A235-A718-4C49-BBA5-C1E4DA2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FC7E-943E-4590-85E2-B25AFC90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5C17-7088-4352-8913-2F5E6A12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6677-FDDD-4A6A-9CE4-E3DECC33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43BC-993D-4C93-9219-89BDCF6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AC5D-EAAD-4602-BD46-FE8DC940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1AAF-0EA0-4E95-A663-C2A74B0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CDB-31C5-4B76-8A5F-E875DF63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6641-05AE-4DEC-B01A-29CED6B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1280-643E-4391-B2E6-B40E651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EC11-4C00-44AC-9572-236BDC04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FCDA-CBF7-4458-9CBA-380B613C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C349-1B9A-4B0D-BEC7-13C1B35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01C3-6664-40D5-87C2-92D5342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E5F4-4F99-4F9E-B8D7-C7E4468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26B6-FD2F-4C18-B8BC-56F769B8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A3F1-1BE8-4484-B6A4-5D658BEE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A5C4-EEB6-454E-9CE9-59881A13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3A0-0A71-4222-A7FD-8723872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CA32-21C8-4AEF-87EF-81886FFB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E6C6-1E2B-4C12-8905-091154C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86AFC-0F78-44F3-BD41-1DE48E2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A65B3-2FF9-40E6-B714-A0DBA1B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A999F-180F-46C2-8965-867B103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559D-5BAF-431A-B66F-865DA45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2B82B-F0A4-453E-A2BA-A4833320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F796-3D1F-4867-95DA-FF39FCF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8393-0B83-43AC-ADF2-19E8E85A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6BF5-5B40-4B0B-B5B4-BD5D1627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B29-FD4D-478D-BC72-4754FAD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63B24-6059-49DE-9A2B-CB921490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A006-0398-4AC9-A9CE-1517BB02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B8E5-F47E-4298-B89F-200D3A3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BB50F-DBB3-491E-B035-15F077D0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0D0AE-BD33-4DA4-BA39-1E27D88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6813F-667E-48A1-8E9C-F10E95E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1B74-651F-4CA3-82FB-BCBD989A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C33F-08D5-4A7B-9463-C44FD3F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822A-8FCB-468B-B259-D9434365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5296F-BC62-4700-B7FB-30EF655E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207-BCE7-40C9-813D-A7A007C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5F20-C7CE-4559-B002-7D44C2C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1916-A40F-4EC3-9C23-D444924D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56C5-6082-400A-9221-D6B3BF84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6171-EB4F-4663-97F1-C9F2DB5C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12F7-8BB6-47A6-92CD-A5198C0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47532-F5C7-4EE1-8F7A-8DC5B0F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2017-AA6B-469A-8089-44E3E3DE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F284-4560-4441-99B2-FEF4A01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00DA6-EC2F-4017-BC8C-F5DE9080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03A5-0411-425F-B212-B83AC6D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C76-83DE-478D-BEE0-50BFADD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C14DB-F9DD-4618-8F05-2BDFA42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51CFD-0762-47F8-B469-C103689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790F-C619-4AC2-81B9-F9F75F2A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424A7-91F4-43DD-849D-9EE87B3F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7EAA6-2FD8-43D9-AEC4-4F102ABA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A018-D833-4FA0-AF4F-504F209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8866B-6F77-46F7-9A32-EA7C5D8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1607-68C6-47B4-858C-83B2590F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801C9-8C01-4390-AF68-ACD45DA6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75405-81FB-4E45-B43D-527A603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E57-A30D-41AD-B2BD-3B4FC09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5B954-8EB4-4712-A8F5-0DCFC61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DEAE-F164-4C9A-B7BF-5AE84D02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4E8D-AFDB-4BE8-AD75-67E5853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5152-6391-42B6-B21D-D61A269A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1F57-201B-4EEF-BD20-C77EE03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E7C1-E29A-4844-A653-F469491A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B3F6C-70A1-41F8-8565-BB3E2419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A537-B4E3-4AE1-AFED-B9DEE2E0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F87DC-4F60-4F23-A71A-644443E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2E18D-FBD9-45A5-8A3A-CCAC5FE5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0EAE-D07E-4943-A347-FBE21BA2F483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AFF3-63A7-4077-9CDD-3E8BD88F5789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817-A0A2-4EA6-BA98-01F7C4C7F2A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638-7ED9-4D52-A29E-FFFD7E1CEA9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ED15-EBDA-4902-B386-5ED0E490AE2F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E0E-FB4E-4B4B-AC17-6C9AE75D1C06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70E-21DD-4E35-B4E8-4C30EF31C67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23D2-CF13-4024-B5C5-820963A9BCCA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7C0A-770A-44E4-9AC9-15EF290FC1C1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upload.wikimedia.org/wikipedia/commons/thumb/4/4a/Plato-raphael.jpg/220px-Plato-raphael.jpg" TargetMode="External"/><Relationship Id="rId3" Type="http://schemas.openxmlformats.org/officeDocument/2006/relationships/hyperlink" Target="http://ru.wikipedia.org/wiki/&#1048;&#1089;&#1090;&#1086;&#1088;&#1080;&#1103;_&#1083;&#1086;&#1075;&#1080;&#1082;&#1080;" TargetMode="External"/><Relationship Id="rId4" Type="http://schemas.openxmlformats.org/officeDocument/2006/relationships/hyperlink" Target="http://www.chronos.msu.ru/biographies/aristotle.jpg" TargetMode="External"/><Relationship Id="rId5" Type="http://schemas.openxmlformats.org/officeDocument/2006/relationships/hyperlink" Target="http://inf.reshuege.ru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969840" y="1200240"/>
            <a:ext cx="7979040" cy="1293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Логические выражения и операции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4932360" y="566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73af"/>
                </a:solidFill>
                <a:latin typeface="Franklin Gothic Book"/>
              </a:rPr>
              <a:t>Учитель информатики и ИКТ школы 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73af"/>
                </a:solidFill>
                <a:latin typeface="Franklin Gothic Book"/>
              </a:rPr>
              <a:t>Никитенко Наталия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684360" y="1197000"/>
            <a:ext cx="60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4. Строгая дизъюнкция (исключающее или) – сложение по модулю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157a"/>
                </a:solidFill>
                <a:latin typeface="Franklin Gothic Book"/>
              </a:rPr>
              <a:t>Обозначение: 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XOR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 или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84360" y="2637000"/>
          <a:ext cx="3744720" cy="328752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  <a:gridCol w="1368360"/>
              </a:tblGrid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xor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2" name="Rectangle 24" descr=""/>
          <p:cNvPicPr/>
          <p:nvPr/>
        </p:nvPicPr>
        <p:blipFill>
          <a:blip r:embed="rId1"/>
          <a:stretch/>
        </p:blipFill>
        <p:spPr>
          <a:xfrm>
            <a:off x="268200" y="255600"/>
            <a:ext cx="8674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53" name="Группа 35"/>
          <p:cNvGrpSpPr/>
          <p:nvPr/>
        </p:nvGrpSpPr>
        <p:grpSpPr>
          <a:xfrm>
            <a:off x="5651640" y="3068640"/>
            <a:ext cx="2952720" cy="1936800"/>
            <a:chOff x="5651640" y="3068640"/>
            <a:chExt cx="2952720" cy="1936800"/>
          </a:xfrm>
        </p:grpSpPr>
        <p:sp>
          <p:nvSpPr>
            <p:cNvPr id="454" name="Oval 4"/>
            <p:cNvSpPr/>
            <p:nvPr/>
          </p:nvSpPr>
          <p:spPr>
            <a:xfrm>
              <a:off x="6612480" y="3068640"/>
              <a:ext cx="1991880" cy="1936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Franklin Gothic Boo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>
              <a:off x="5651640" y="3068640"/>
              <a:ext cx="2062080" cy="1936800"/>
            </a:xfrm>
            <a:prstGeom prst="ellipse">
              <a:avLst/>
            </a:prstGeom>
            <a:solidFill>
              <a:srgbClr val="51d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Franklin Gothic Book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"/>
            <p:cNvSpPr/>
            <p:nvPr/>
          </p:nvSpPr>
          <p:spPr>
            <a:xfrm>
              <a:off x="6636240" y="3151080"/>
              <a:ext cx="1101240" cy="177804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701" h="1120">
                  <a:moveTo>
                    <a:pt x="348" y="10"/>
                  </a:moveTo>
                  <a:cubicBezTo>
                    <a:pt x="315" y="0"/>
                    <a:pt x="205" y="117"/>
                    <a:pt x="153" y="181"/>
                  </a:cubicBezTo>
                  <a:cubicBezTo>
                    <a:pt x="101" y="245"/>
                    <a:pt x="58" y="309"/>
                    <a:pt x="36" y="394"/>
                  </a:cubicBezTo>
                  <a:cubicBezTo>
                    <a:pt x="14" y="479"/>
                    <a:pt x="0" y="602"/>
                    <a:pt x="18" y="693"/>
                  </a:cubicBezTo>
                  <a:cubicBezTo>
                    <a:pt x="36" y="784"/>
                    <a:pt x="88" y="868"/>
                    <a:pt x="142" y="939"/>
                  </a:cubicBezTo>
                  <a:cubicBezTo>
                    <a:pt x="196" y="1010"/>
                    <a:pt x="217" y="1040"/>
                    <a:pt x="342" y="1120"/>
                  </a:cubicBezTo>
                  <a:cubicBezTo>
                    <a:pt x="476" y="1029"/>
                    <a:pt x="529" y="982"/>
                    <a:pt x="584" y="907"/>
                  </a:cubicBezTo>
                  <a:cubicBezTo>
                    <a:pt x="642" y="827"/>
                    <a:pt x="675" y="727"/>
                    <a:pt x="688" y="642"/>
                  </a:cubicBezTo>
                  <a:cubicBezTo>
                    <a:pt x="701" y="557"/>
                    <a:pt x="686" y="472"/>
                    <a:pt x="662" y="394"/>
                  </a:cubicBezTo>
                  <a:cubicBezTo>
                    <a:pt x="638" y="316"/>
                    <a:pt x="596" y="239"/>
                    <a:pt x="543" y="175"/>
                  </a:cubicBezTo>
                  <a:cubicBezTo>
                    <a:pt x="490" y="111"/>
                    <a:pt x="389" y="44"/>
                    <a:pt x="348" y="10"/>
                  </a:cubicBezTo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Блок-схема: ИЛИ 10"/>
          <p:cNvSpPr/>
          <p:nvPr/>
        </p:nvSpPr>
        <p:spPr>
          <a:xfrm>
            <a:off x="3635280" y="1773360"/>
            <a:ext cx="432000" cy="431640"/>
          </a:xfrm>
          <a:prstGeom prst="flowChartOr">
            <a:avLst/>
          </a:prstGeom>
          <a:solidFill>
            <a:srgbClr val="f273af"/>
          </a:solidFill>
          <a:ln w="399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611280" y="1268280"/>
            <a:ext cx="7694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5. импликация (логическое следование) выражается союзами ЕСЛИ …, ТО;  КОГДА …, ТО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157a"/>
                </a:solidFill>
                <a:latin typeface="Franklin Gothic Book"/>
              </a:rPr>
              <a:t>Обозначение: 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знак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30" descr=""/>
          <p:cNvPicPr/>
          <p:nvPr/>
        </p:nvPicPr>
        <p:blipFill>
          <a:blip r:embed="rId1"/>
          <a:stretch/>
        </p:blipFill>
        <p:spPr>
          <a:xfrm>
            <a:off x="255600" y="255600"/>
            <a:ext cx="88948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60" name="Text Box 32"/>
          <p:cNvGrpSpPr/>
          <p:nvPr/>
        </p:nvGrpSpPr>
        <p:grpSpPr>
          <a:xfrm>
            <a:off x="5608800" y="3071880"/>
            <a:ext cx="3554280" cy="1055520"/>
            <a:chOff x="5608800" y="3071880"/>
            <a:chExt cx="3554280" cy="1055520"/>
          </a:xfrm>
        </p:grpSpPr>
        <p:pic>
          <p:nvPicPr>
            <p:cNvPr id="461" name="Text Box 32" descr=""/>
            <p:cNvPicPr/>
            <p:nvPr/>
          </p:nvPicPr>
          <p:blipFill>
            <a:blip r:embed="rId2"/>
            <a:stretch/>
          </p:blipFill>
          <p:spPr>
            <a:xfrm>
              <a:off x="5608800" y="3071880"/>
              <a:ext cx="35542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867280" y="3333600"/>
              <a:ext cx="30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576e"/>
                  </a:solidFill>
                  <a:latin typeface="Franklin Gothic Book"/>
                  <a:ea typeface="Times New Roman"/>
                </a:rPr>
                <a:t>А </a:t>
              </a:r>
              <a:r>
                <a:rPr b="0" lang="ru-RU" sz="2800" spc="-1" strike="noStrike">
                  <a:solidFill>
                    <a:srgbClr val="00576e"/>
                  </a:solidFill>
                  <a:latin typeface="Symbol"/>
                  <a:ea typeface="Symbol"/>
                </a:rPr>
                <a:t></a:t>
              </a:r>
              <a:r>
                <a:rPr b="0" lang="ru-RU" sz="2800" spc="-1" strike="noStrike">
                  <a:solidFill>
                    <a:srgbClr val="00576e"/>
                  </a:solidFill>
                  <a:latin typeface="Franklin Gothic Book"/>
                  <a:ea typeface="Times New Roman"/>
                </a:rPr>
                <a:t> В </a:t>
              </a:r>
              <a:r>
                <a:rPr b="0" lang="ru-RU" sz="2800" spc="-1" strike="noStrike">
                  <a:solidFill>
                    <a:srgbClr val="00576e"/>
                  </a:solidFill>
                  <a:latin typeface="Symbol"/>
                  <a:ea typeface="Symbol"/>
                </a:rPr>
                <a:t></a:t>
              </a:r>
              <a:r>
                <a:rPr b="0" lang="ru-RU" sz="2800" spc="-1" strike="noStrike">
                  <a:solidFill>
                    <a:srgbClr val="00576e"/>
                  </a:solidFill>
                  <a:latin typeface="Franklin Gothic Book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576e"/>
                  </a:solidFill>
                  <a:latin typeface="Symbol"/>
                  <a:ea typeface="Symbol"/>
                </a:rPr>
                <a:t></a:t>
              </a:r>
              <a:r>
                <a:rPr b="0" lang="ru-RU" sz="2800" spc="-1" strike="noStrike">
                  <a:solidFill>
                    <a:srgbClr val="00576e"/>
                  </a:solidFill>
                  <a:latin typeface="Franklin Gothic Book"/>
                  <a:ea typeface="Times New Roman"/>
                </a:rPr>
                <a:t> А \/ 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3" name=""/>
          <p:cNvGraphicFramePr/>
          <p:nvPr/>
        </p:nvGraphicFramePr>
        <p:xfrm>
          <a:off x="611280" y="2637000"/>
          <a:ext cx="4968720" cy="289548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снов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ледств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611280" y="1125360"/>
            <a:ext cx="8137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6. Эквивалентность (условное высказывание) – выражается союз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ТОГДА И ТОЛЬКО ТОГДА, КОГДА …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157a"/>
                </a:solidFill>
                <a:latin typeface="Franklin Gothic Book"/>
              </a:rPr>
              <a:t>Обозначение: 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~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, А↔В, А≡В, А=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4360" y="2637000"/>
          <a:ext cx="4537080" cy="2590560"/>
        </p:xfrm>
        <a:graphic>
          <a:graphicData uri="http://schemas.openxmlformats.org/drawingml/2006/table">
            <a:tbl>
              <a:tblPr/>
              <a:tblGrid>
                <a:gridCol w="1439640"/>
                <a:gridCol w="1513080"/>
                <a:gridCol w="15843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6" name="Rectangle 22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8126280" cy="1262160"/>
          </a:xfrm>
          <a:prstGeom prst="rect">
            <a:avLst/>
          </a:prstGeom>
          <a:ln w="0">
            <a:noFill/>
          </a:ln>
        </p:spPr>
      </p:pic>
      <p:grpSp>
        <p:nvGrpSpPr>
          <p:cNvPr id="467" name="Text Box 32"/>
          <p:cNvGrpSpPr/>
          <p:nvPr/>
        </p:nvGrpSpPr>
        <p:grpSpPr>
          <a:xfrm>
            <a:off x="5187960" y="3181320"/>
            <a:ext cx="3962520" cy="1123560"/>
            <a:chOff x="5187960" y="3181320"/>
            <a:chExt cx="3962520" cy="1123560"/>
          </a:xfrm>
        </p:grpSpPr>
        <p:pic>
          <p:nvPicPr>
            <p:cNvPr id="468" name="Text Box 32" descr=""/>
            <p:cNvPicPr/>
            <p:nvPr/>
          </p:nvPicPr>
          <p:blipFill>
            <a:blip r:embed="rId2"/>
            <a:stretch/>
          </p:blipFill>
          <p:spPr>
            <a:xfrm>
              <a:off x="5187960" y="3181320"/>
              <a:ext cx="39625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364000" y="3357720"/>
              <a:ext cx="360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А </a:t>
              </a:r>
              <a:r>
                <a:rPr b="0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 В </a:t>
              </a:r>
              <a:r>
                <a:rPr b="0" lang="en-US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= (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А</a:t>
              </a:r>
              <a:r>
                <a:rPr b="0" lang="ru-RU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/</a:t>
              </a:r>
              <a:r>
                <a:rPr b="0" lang="ru-RU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\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В</a:t>
              </a:r>
              <a:r>
                <a:rPr b="0" lang="en-US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) </a:t>
              </a:r>
              <a:r>
                <a:rPr b="0" lang="ru-RU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\</a:t>
              </a: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/</a:t>
              </a:r>
              <a:r>
                <a:rPr b="0" lang="ru-RU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(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Ā </a:t>
              </a: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/</a:t>
              </a:r>
              <a:r>
                <a:rPr b="0" lang="ru-RU" sz="16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\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В</a:t>
              </a:r>
              <a:r>
                <a:rPr b="0" lang="en-US" sz="28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Прямая соединительная линия 7"/>
          <p:cNvSpPr/>
          <p:nvPr/>
        </p:nvSpPr>
        <p:spPr>
          <a:xfrm>
            <a:off x="8459640" y="3429000"/>
            <a:ext cx="216000" cy="0"/>
          </a:xfrm>
          <a:prstGeom prst="line">
            <a:avLst/>
          </a:prstGeom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971640" y="1413000"/>
            <a:ext cx="733428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Приоритет логических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ea157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()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Операции в скоб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ea157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157a"/>
                </a:solidFill>
                <a:latin typeface="Franklin Gothic Book"/>
              </a:rPr>
              <a:t>НЕ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ea157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логическое 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ea157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Логическ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ea157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мпл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ea157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Эквивале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Rectangle 21" descr=""/>
          <p:cNvPicPr/>
          <p:nvPr/>
        </p:nvPicPr>
        <p:blipFill>
          <a:blip r:embed="rId1"/>
          <a:stretch/>
        </p:blipFill>
        <p:spPr>
          <a:xfrm>
            <a:off x="268200" y="255600"/>
            <a:ext cx="8747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969840" y="1200240"/>
            <a:ext cx="7979040" cy="12938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Решение задач ЕГЭ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2"/>
          <p:cNvSpPr/>
          <p:nvPr/>
        </p:nvSpPr>
        <p:spPr>
          <a:xfrm>
            <a:off x="539640" y="333360"/>
            <a:ext cx="824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50b3d"/>
                </a:solidFill>
                <a:latin typeface="Franklin Gothic Book"/>
              </a:rPr>
              <a:t>2. Дан фрагмент таблицы истинности выражения 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50b3d"/>
                </a:solidFill>
                <a:latin typeface="Franklin Gothic Book"/>
              </a:rPr>
              <a:t>Какое выражение соответствует F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684360" y="1628640"/>
          <a:ext cx="3251160" cy="2400480"/>
        </p:xfrm>
        <a:graphic>
          <a:graphicData uri="http://schemas.openxmlformats.org/drawingml/2006/table">
            <a:tbl>
              <a:tblPr/>
              <a:tblGrid>
                <a:gridCol w="812520"/>
                <a:gridCol w="812880"/>
                <a:gridCol w="812880"/>
                <a:gridCol w="812880"/>
              </a:tblGrid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77" name="TextBox 2"/>
          <p:cNvSpPr/>
          <p:nvPr/>
        </p:nvSpPr>
        <p:spPr>
          <a:xfrm>
            <a:off x="1116000" y="58770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0b3d"/>
                </a:solidFill>
                <a:latin typeface="Franklin Gothic Book"/>
              </a:rPr>
              <a:t>Ответ: </a:t>
            </a:r>
            <a:r>
              <a:rPr b="0" lang="en-US" sz="1800" spc="-1" strike="noStrike">
                <a:solidFill>
                  <a:srgbClr val="750b3d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750b3d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1500120" y="434304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0b3d"/>
                </a:solidFill>
                <a:latin typeface="Franklin Gothic Book"/>
              </a:rPr>
              <a:t>1</a:t>
            </a:r>
            <a:r>
              <a:rPr b="0" lang="es-ES" sz="2000" spc="-1" strike="noStrike">
                <a:solidFill>
                  <a:srgbClr val="750b3d"/>
                </a:solidFill>
                <a:latin typeface="Franklin Gothic Book"/>
              </a:rPr>
              <a:t>) (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X≡Y)</a:t>
            </a:r>
            <a:r>
              <a:rPr b="0" lang="ru-RU" sz="2000" spc="-1" strike="noStrike">
                <a:solidFill>
                  <a:srgbClr val="750b3d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(Z</a:t>
            </a:r>
            <a:r>
              <a:rPr b="0" lang="ru-RU" sz="2000" spc="-1" strike="noStrike">
                <a:solidFill>
                  <a:srgbClr val="750b3d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0b3d"/>
                </a:solidFill>
                <a:latin typeface="Franklin Gothic Book"/>
              </a:rPr>
              <a:t>2</a:t>
            </a:r>
            <a:r>
              <a:rPr b="0" lang="es-ES" sz="2000" spc="-1" strike="noStrike">
                <a:solidFill>
                  <a:srgbClr val="750b3d"/>
                </a:solidFill>
                <a:latin typeface="Franklin Gothic Book"/>
              </a:rPr>
              <a:t>) (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X≡Y)V(Z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50b3d"/>
                </a:solidFill>
                <a:latin typeface="Franklin Gothic Book"/>
              </a:rPr>
              <a:t>3) (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X≡Y)</a:t>
            </a:r>
            <a:r>
              <a:rPr b="0" lang="ru-RU" sz="2000" spc="-1" strike="noStrike">
                <a:solidFill>
                  <a:srgbClr val="750b3d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(Z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50b3d"/>
                </a:solidFill>
                <a:latin typeface="Franklin Gothic Book"/>
              </a:rPr>
              <a:t>4) (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X≡Y)V(Z</a:t>
            </a:r>
            <a:r>
              <a:rPr b="0" lang="ru-RU" sz="2000" spc="-1" strike="noStrike">
                <a:solidFill>
                  <a:srgbClr val="750b3d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50b3d"/>
                </a:solidFill>
                <a:latin typeface="Franklin Gothic Book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0"/>
          <p:cNvSpPr/>
          <p:nvPr/>
        </p:nvSpPr>
        <p:spPr>
          <a:xfrm>
            <a:off x="4500720" y="1125360"/>
            <a:ext cx="4392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в приведенной задаче в столбце F все единицы. Можно предположить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это функция операции ИЛ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 и 3 вариант не рассматрив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Рассмотрим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4 вариант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о закону исключения констант в варианте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Z^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=Z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, в 1 и 2 строке таблицы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Z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=0, а операция эквиваленции также равна 0, так как у нас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=Y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Вариант 4 не подход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В варианте 2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ZV1=1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, это значит, что при любом значении аргументов в левой части выражения, у нас при дизъюнкции получится значение функции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таким образом, правильный ответ 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"/>
          <p:cNvSpPr/>
          <p:nvPr/>
        </p:nvSpPr>
        <p:spPr>
          <a:xfrm flipH="1">
            <a:off x="7019640" y="3933720"/>
            <a:ext cx="144360" cy="216000"/>
          </a:xfrm>
          <a:prstGeom prst="line">
            <a:avLst/>
          </a:prstGeom>
          <a:ln w="316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2"/>
          <p:cNvSpPr/>
          <p:nvPr/>
        </p:nvSpPr>
        <p:spPr>
          <a:xfrm>
            <a:off x="684360" y="404640"/>
            <a:ext cx="75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50b3d"/>
                </a:solidFill>
                <a:latin typeface="Franklin Gothic Book"/>
              </a:rPr>
              <a:t>2. Дан фрагмент таблицы истинности выражения F. Какое выражение соответствует F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403280" y="1413000"/>
          <a:ext cx="6500880" cy="240012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880"/>
                <a:gridCol w="812520"/>
                <a:gridCol w="811440"/>
                <a:gridCol w="812520"/>
                <a:gridCol w="812880"/>
                <a:gridCol w="812880"/>
              </a:tblGrid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9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83" name="TextBox 8"/>
          <p:cNvSpPr/>
          <p:nvPr/>
        </p:nvSpPr>
        <p:spPr>
          <a:xfrm>
            <a:off x="1763640" y="4005360"/>
            <a:ext cx="4896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Какое выражение соответствует 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х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1 </a:t>
            </a:r>
            <a:r>
              <a:rPr b="0" lang="fr-CA" sz="1800" spc="-1" strike="noStrike">
                <a:solidFill>
                  <a:srgbClr val="2c3f71"/>
                </a:solidFill>
                <a:latin typeface="Franklin Gothic Medium"/>
              </a:rPr>
              <a:t>→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(x2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3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4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2 </a:t>
            </a:r>
            <a:r>
              <a:rPr b="0" lang="fr-CA" sz="1800" spc="-1" strike="noStrike">
                <a:solidFill>
                  <a:srgbClr val="2c3f71"/>
                </a:solidFill>
                <a:latin typeface="Franklin Gothic Medium"/>
              </a:rPr>
              <a:t>→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(x1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3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4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3 </a:t>
            </a:r>
            <a:r>
              <a:rPr b="0" lang="fr-CA" sz="1800" spc="-1" strike="noStrike">
                <a:solidFill>
                  <a:srgbClr val="2c3f71"/>
                </a:solidFill>
                <a:latin typeface="Franklin Gothic Medium"/>
              </a:rPr>
              <a:t>→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(x1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2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4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4 </a:t>
            </a:r>
            <a:r>
              <a:rPr b="0" lang="fr-CA" sz="1800" spc="-1" strike="noStrike">
                <a:solidFill>
                  <a:srgbClr val="2c3f71"/>
                </a:solidFill>
                <a:latin typeface="Franklin Gothic Medium"/>
              </a:rPr>
              <a:t>→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(x1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2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3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2"/>
          <p:cNvSpPr/>
          <p:nvPr/>
        </p:nvSpPr>
        <p:spPr>
          <a:xfrm>
            <a:off x="1187280" y="476280"/>
            <a:ext cx="75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50b3d"/>
                </a:solidFill>
                <a:latin typeface="Franklin Gothic Book"/>
              </a:rPr>
              <a:t>2.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9"/>
          <p:cNvSpPr/>
          <p:nvPr/>
        </p:nvSpPr>
        <p:spPr>
          <a:xfrm>
            <a:off x="1116000" y="1268280"/>
            <a:ext cx="720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Логическое следование (импликация) А→В равна 0 тогда и только тогда, когда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A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(посылка) истинна, а B (следствие) л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В нашем задании посылки х2 и х4 равны 1. Можно не рассматривать варианты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1 и 3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алее рассмотрим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вариант 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 Здесь  аргументы конъюнкции х4 и х5 истинны, следовательно, все следствие в результате дизъюнкции будет  истинно. Можно далее этот вариант не рассматривать, так как импликация (следствие) будет исти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В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варианте 4 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осле операции конъюнкции во всех трех случаях получается ложь и при дизъюнкции этих выражений также получается О. Следовательно, правильный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ответ  4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"/>
          <p:cNvSpPr/>
          <p:nvPr/>
        </p:nvSpPr>
        <p:spPr>
          <a:xfrm>
            <a:off x="1187280" y="589608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Ответ: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2"/>
          <p:cNvSpPr/>
          <p:nvPr/>
        </p:nvSpPr>
        <p:spPr>
          <a:xfrm>
            <a:off x="900000" y="333360"/>
            <a:ext cx="7885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50b3d"/>
                </a:solidFill>
                <a:latin typeface="Franklin Gothic Book"/>
              </a:rPr>
              <a:t>2. Дано логическое выражение, зависящее от 4 логических переменны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1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¬x2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(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2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¬x3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 x4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Сколько существует различных наборов значений перемен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ри которых выражение истин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) 1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	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2) 14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	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3) 15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	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4)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1187280" y="6100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Ответ: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1403280" y="25257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1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¬x2 =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2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¬x3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4 =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10"/>
          <p:cNvGrpSpPr/>
          <p:nvPr/>
        </p:nvGrpSpPr>
        <p:grpSpPr>
          <a:xfrm>
            <a:off x="1332000" y="2492280"/>
            <a:ext cx="214200" cy="785880"/>
            <a:chOff x="1332000" y="2492280"/>
            <a:chExt cx="214200" cy="785880"/>
          </a:xfrm>
        </p:grpSpPr>
        <p:sp>
          <p:nvSpPr>
            <p:cNvPr id="491" name="Прямая соединительная линия 11"/>
            <p:cNvSpPr/>
            <p:nvPr/>
          </p:nvSpPr>
          <p:spPr>
            <a:xfrm flipH="1">
              <a:off x="1332000" y="2492640"/>
              <a:ext cx="216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Прямая соединительная линия 12"/>
            <p:cNvSpPr/>
            <p:nvPr/>
          </p:nvSpPr>
          <p:spPr>
            <a:xfrm>
              <a:off x="1333080" y="2492280"/>
              <a:ext cx="213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Прямая соединительная линия 13"/>
            <p:cNvSpPr/>
            <p:nvPr/>
          </p:nvSpPr>
          <p:spPr>
            <a:xfrm>
              <a:off x="1333080" y="3277080"/>
              <a:ext cx="213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Box 2"/>
          <p:cNvSpPr/>
          <p:nvPr/>
        </p:nvSpPr>
        <p:spPr>
          <a:xfrm>
            <a:off x="900000" y="328464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Выражение истинно, если  два  выражения, входящие в него истинны. В первом выражении х1 при конъюнкции должен быть  истинным, если предположить, что х2 истинно, то конъюнкция будет ложной, поэтому х2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1 =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  и х2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Конъюнкция  во втором выражении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¬x3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4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олжна быть истинной, так как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=0 (и тогда все выражение окажется ложным). Это возможно только при 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x4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=1 и х</a:t>
            </a:r>
            <a:r>
              <a:rPr b="0" lang="es-ES" sz="1800" spc="-1" strike="noStrike">
                <a:solidFill>
                  <a:srgbClr val="2c3f71"/>
                </a:solidFill>
                <a:latin typeface="Franklin Gothic Medium"/>
              </a:rPr>
              <a:t>3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=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Итак, существует только один набор значений переме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15"/>
          <p:cNvSpPr/>
          <p:nvPr/>
        </p:nvSpPr>
        <p:spPr>
          <a:xfrm>
            <a:off x="5724360" y="3789360"/>
            <a:ext cx="2016360" cy="214200"/>
          </a:xfrm>
          <a:prstGeom prst="rect">
            <a:avLst/>
          </a:prstGeom>
          <a:solidFill>
            <a:srgbClr val="7bf61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6"/>
          <p:cNvSpPr/>
          <p:nvPr/>
        </p:nvSpPr>
        <p:spPr>
          <a:xfrm>
            <a:off x="971640" y="4005360"/>
            <a:ext cx="5904000" cy="2156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"/>
          <p:cNvSpPr/>
          <p:nvPr/>
        </p:nvSpPr>
        <p:spPr>
          <a:xfrm>
            <a:off x="826920" y="333360"/>
            <a:ext cx="80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18.  определите наибольшее число X, при котором истинно логическое высказы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F =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(X *Х – 45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gt; 0)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10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gt; (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Х+10) *(X  --  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4"/>
          <p:cNvSpPr/>
          <p:nvPr/>
        </p:nvSpPr>
        <p:spPr>
          <a:xfrm>
            <a:off x="971640" y="3789360"/>
            <a:ext cx="863640" cy="214200"/>
          </a:xfrm>
          <a:prstGeom prst="rect">
            <a:avLst/>
          </a:prstGeom>
          <a:solidFill>
            <a:srgbClr val="7bf61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Прямая со стрелкой 5"/>
          <p:cNvCxnSpPr/>
          <p:nvPr/>
        </p:nvCxnSpPr>
        <p:spPr>
          <a:xfrm>
            <a:off x="1042920" y="4003200"/>
            <a:ext cx="68587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TextBox 13"/>
          <p:cNvSpPr/>
          <p:nvPr/>
        </p:nvSpPr>
        <p:spPr>
          <a:xfrm>
            <a:off x="7972560" y="38606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"/>
              <p:cNvSpPr txBox="1"/>
              <p:nvPr/>
            </p:nvSpPr>
            <p:spPr>
              <a:xfrm>
                <a:off x="5435640" y="4076640"/>
                <a:ext cx="5713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Овал 9"/>
          <p:cNvSpPr/>
          <p:nvPr/>
        </p:nvSpPr>
        <p:spPr>
          <a:xfrm>
            <a:off x="6757920" y="3932280"/>
            <a:ext cx="142920" cy="142920"/>
          </a:xfrm>
          <a:prstGeom prst="ellipse">
            <a:avLst/>
          </a:prstGeom>
          <a:solidFill>
            <a:srgbClr val="d6ecff"/>
          </a:solidFill>
          <a:ln w="399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10"/>
          <p:cNvSpPr/>
          <p:nvPr/>
        </p:nvSpPr>
        <p:spPr>
          <a:xfrm>
            <a:off x="5686560" y="3932280"/>
            <a:ext cx="142920" cy="142920"/>
          </a:xfrm>
          <a:prstGeom prst="ellipse">
            <a:avLst/>
          </a:prstGeom>
          <a:solidFill>
            <a:srgbClr val="7fd13b"/>
          </a:solidFill>
          <a:ln w="399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6"/>
              <p:cNvSpPr txBox="1"/>
              <p:nvPr/>
            </p:nvSpPr>
            <p:spPr>
              <a:xfrm>
                <a:off x="6662880" y="426096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TextBox 12"/>
          <p:cNvSpPr/>
          <p:nvPr/>
        </p:nvSpPr>
        <p:spPr>
          <a:xfrm>
            <a:off x="1476360" y="1700280"/>
            <a:ext cx="65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(X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45&gt;0)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(100&gt;(X+1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*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– 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(X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45&gt;0)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(100&gt;(X+1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*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– 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Решая квадратные уравнения 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45&gt;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(100&gt;(X+1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*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– 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&gt;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6.7  и   15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lt;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Х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lt;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Конъюнкция истинна на участке пересечения значений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3"/>
          <p:cNvSpPr/>
          <p:nvPr/>
        </p:nvSpPr>
        <p:spPr>
          <a:xfrm>
            <a:off x="1116000" y="522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Наибольшее целое из полученного интервала Х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lt;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значит Х=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1763640" y="3933720"/>
            <a:ext cx="142920" cy="142920"/>
          </a:xfrm>
          <a:prstGeom prst="ellipse">
            <a:avLst/>
          </a:prstGeom>
          <a:solidFill>
            <a:srgbClr val="d6ecff"/>
          </a:solidFill>
          <a:ln w="399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585800" y="4221000"/>
                <a:ext cx="547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468360" y="3429000"/>
            <a:ext cx="8280360" cy="39333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Философ Платон (428—347). Сочинения Платона содержат важный вклад в развитие 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философской логик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Платон ставит три вопро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то собственно можно считать истиной и лож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акова природа связи между посылками в рассуждениях и заключени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акова сущность понят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4140360" y="404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Философская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4" descr="http://upload.wikimedia.org/wikipedia/commons/thumb/4/4a/Plato-raphael.jpg/220px-Plato-raphael.jpg"/>
          <p:cNvPicPr/>
          <p:nvPr/>
        </p:nvPicPr>
        <p:blipFill>
          <a:blip r:embed="rId1"/>
          <a:stretch/>
        </p:blipFill>
        <p:spPr>
          <a:xfrm>
            <a:off x="611280" y="260280"/>
            <a:ext cx="28573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2"/>
          <p:cNvSpPr/>
          <p:nvPr/>
        </p:nvSpPr>
        <p:spPr>
          <a:xfrm>
            <a:off x="971640" y="620640"/>
            <a:ext cx="717228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18. Для какого имени истинно высказы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(первая буква согласная  → вторая буква имени согласная)</a:t>
            </a: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 </a:t>
            </a:r>
            <a:r>
              <a:rPr b="1" i="1" lang="en-US" sz="1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(предпоследняя буква гласная → последняя буква гласна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Аглая                                                      3. Т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Владимир                                              4. Ф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ва сложных высказывания объединены конъюнкцией, значит оба они должны быть истинными. Рассмотрим первое сложное высказывание. Пойдем от обратного:  импликация ложна только, если посылка истинна, а следствие ложно. Имена Тамара и Фома в результате первой импликации дают ложь,  а имя Владимир – истину. Во втором выражении операция импликации с именем Владимир получается ложной. Значит 2, 3 и 4 вариант не подхо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Остается одно имя Аглая. В первом выражении импликация истинна, так как посылка ложная,  а следствие истинно. Во втором выражении импликация истинна, потому что посылка  и следствие истин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Ответ: 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"/>
          <p:cNvGraphicFramePr/>
          <p:nvPr/>
        </p:nvGraphicFramePr>
        <p:xfrm>
          <a:off x="324000" y="1125360"/>
          <a:ext cx="8572320" cy="5459760"/>
        </p:xfrm>
        <a:graphic>
          <a:graphicData uri="http://schemas.openxmlformats.org/drawingml/2006/table">
            <a:tbl>
              <a:tblPr/>
              <a:tblGrid>
                <a:gridCol w="3000240"/>
                <a:gridCol w="2773440"/>
                <a:gridCol w="2798640"/>
              </a:tblGrid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8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b0105c"/>
                          </a:solidFill>
                          <a:latin typeface="Franklin Gothic Medium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8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b0105c"/>
                          </a:solidFill>
                          <a:latin typeface="Franklin Gothic Medium"/>
                        </a:rPr>
                        <a:t>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8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двойного отрицания</a:t>
                      </a: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ctr">
                      <a:noAutofit/>
                    </a:bodyPr>
                    <a:p>
                      <a:pPr marL="717480" indent="-717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исключения треть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исключения конст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 1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;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 0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0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;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1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повт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погло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A + B) =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 =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перемест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· B = 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 = 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сочет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) 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)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распредел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+ 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+ B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A + 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)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b0105c"/>
                          </a:solidFill>
                          <a:latin typeface="Calibri"/>
                          <a:ea typeface="Calibri"/>
                        </a:rPr>
                        <a:t>правило де Морг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5508720" y="1628640"/>
                <a:ext cx="934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3924360" y="2133720"/>
                <a:ext cx="13539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·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6804000" y="2205000"/>
                <a:ext cx="1150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3708360" y="6021360"/>
                <a:ext cx="1789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 · 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"/>
              <p:cNvSpPr txBox="1"/>
              <p:nvPr/>
            </p:nvSpPr>
            <p:spPr>
              <a:xfrm>
                <a:off x="6659640" y="6021360"/>
                <a:ext cx="1873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·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755640" y="1413000"/>
            <a:ext cx="756144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3f71"/>
                </a:solidFill>
                <a:latin typeface="Franklin Gothic Medium"/>
              </a:rPr>
              <a:t>Для упрощения нахождения значений логических выражений их преобразуют с помощью законов алгебры логики (минимизирую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3f71"/>
                </a:solidFill>
                <a:latin typeface="Franklin Gothic Medium"/>
              </a:rPr>
              <a:t>Форма, которой соответствует минимальное число операций над логическими переменными, называется минимизацией логических фун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Rectang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553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615960" y="1017720"/>
            <a:ext cx="8051760" cy="141444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4" descr=""/>
          <p:cNvPicPr/>
          <p:nvPr/>
        </p:nvPicPr>
        <p:blipFill>
          <a:blip r:embed="rId2"/>
          <a:stretch/>
        </p:blipFill>
        <p:spPr>
          <a:xfrm>
            <a:off x="542880" y="334800"/>
            <a:ext cx="8399520" cy="9144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3"/>
          <p:cNvSpPr/>
          <p:nvPr/>
        </p:nvSpPr>
        <p:spPr>
          <a:xfrm>
            <a:off x="755640" y="227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Решение – 1 спосо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остроим  таблицу истинности для данной форм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826920" y="2997360"/>
          <a:ext cx="7272360" cy="2303280"/>
        </p:xfrm>
        <a:graphic>
          <a:graphicData uri="http://schemas.openxmlformats.org/drawingml/2006/table">
            <a:tbl>
              <a:tblPr/>
              <a:tblGrid>
                <a:gridCol w="1806840"/>
                <a:gridCol w="1073160"/>
                <a:gridCol w="1008000"/>
                <a:gridCol w="936720"/>
                <a:gridCol w="1185840"/>
                <a:gridCol w="126180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Промеж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/\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 А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X &l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 &lt; X &l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 &lt; X &l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 &lt; X &lt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X 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23" name="TextBox 5"/>
          <p:cNvSpPr/>
          <p:nvPr/>
        </p:nvSpPr>
        <p:spPr>
          <a:xfrm>
            <a:off x="826920" y="530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Из таблицы видно, что отрезок А должен помещаться внутри интервала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[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32,52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]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и ,возможно, заходит во 2 и 4 промеж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Таких вариантов ответов 2: 3 и 4 вариа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Отрезок [27, 53] 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линнее, это правильный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ый прямоугольник 6"/>
          <p:cNvSpPr/>
          <p:nvPr/>
        </p:nvSpPr>
        <p:spPr>
          <a:xfrm>
            <a:off x="826920" y="4149720"/>
            <a:ext cx="7201080" cy="358920"/>
          </a:xfrm>
          <a:prstGeom prst="roundRect">
            <a:avLst>
              <a:gd name="adj" fmla="val 19218"/>
            </a:avLst>
          </a:prstGeom>
          <a:noFill/>
          <a:ln w="540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соседними углами 16"/>
          <p:cNvSpPr/>
          <p:nvPr/>
        </p:nvSpPr>
        <p:spPr>
          <a:xfrm>
            <a:off x="5364000" y="2205000"/>
            <a:ext cx="2428920" cy="214200"/>
          </a:xfrm>
          <a:custGeom>
            <a:avLst/>
            <a:gdLst>
              <a:gd name="textAreaLeft" fmla="*/ 10440 w 2428920"/>
              <a:gd name="textAreaRight" fmla="*/ 2418480 w 2428920"/>
              <a:gd name="textAreaTop" fmla="*/ 10440 h 214200"/>
              <a:gd name="textAreaBottom" fmla="*/ 214560 h 214200"/>
            </a:gdLst>
            <a:ahLst/>
            <a:rect l="textAreaLeft" t="textAreaTop" r="textAreaRight" b="textAreaBottom"/>
            <a:pathLst>
              <a:path w="2428875" h="214312">
                <a:moveTo>
                  <a:pt x="35719" y="0"/>
                </a:moveTo>
                <a:lnTo>
                  <a:pt x="2393156" y="0"/>
                </a:lnTo>
                <a:lnTo>
                  <a:pt x="2393156" y="0"/>
                </a:lnTo>
                <a:arcTo wR="35719" hR="35719" stAng="-5400000" swAng="5400000"/>
                <a:lnTo>
                  <a:pt x="2428875" y="214312"/>
                </a:lnTo>
                <a:lnTo>
                  <a:pt x="0" y="214312"/>
                </a:lnTo>
                <a:lnTo>
                  <a:pt x="0" y="35719"/>
                </a:lnTo>
                <a:lnTo>
                  <a:pt x="0" y="35719"/>
                </a:lnTo>
                <a:arcTo wR="35719" hR="35719" stAng="10800000" swAng="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Rectangle 4" descr=""/>
          <p:cNvPicPr/>
          <p:nvPr/>
        </p:nvPicPr>
        <p:blipFill>
          <a:blip r:embed="rId1"/>
          <a:stretch/>
        </p:blipFill>
        <p:spPr>
          <a:xfrm>
            <a:off x="542880" y="396720"/>
            <a:ext cx="8399520" cy="8524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684360" y="112536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5a50"/>
                </a:solidFill>
                <a:latin typeface="Franklin Gothic Book"/>
              </a:rPr>
              <a:t>Преобразуем выражение: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 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P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 → 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А) ) /\ ( 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A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 → 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Q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 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=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(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P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V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А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)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/\ ( 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A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V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(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Q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с двумя скругленными соседними углами 4"/>
          <p:cNvSpPr/>
          <p:nvPr/>
        </p:nvSpPr>
        <p:spPr>
          <a:xfrm rot="10800000">
            <a:off x="2987280" y="2420640"/>
            <a:ext cx="3529080" cy="287280"/>
          </a:xfrm>
          <a:custGeom>
            <a:avLst/>
            <a:gdLst>
              <a:gd name="textAreaLeft" fmla="*/ 13680 w 3529080"/>
              <a:gd name="textAreaRight" fmla="*/ 3515400 w 3529080"/>
              <a:gd name="textAreaTop" fmla="*/ 14040 h 287280"/>
              <a:gd name="textAreaBottom" fmla="*/ 287640 h 287280"/>
            </a:gdLst>
            <a:ahLst/>
            <a:rect l="textAreaLeft" t="textAreaTop" r="textAreaRight" b="textAreaBottom"/>
            <a:pathLst>
              <a:path w="3529013" h="287337">
                <a:moveTo>
                  <a:pt x="47890" y="0"/>
                </a:moveTo>
                <a:lnTo>
                  <a:pt x="3481123" y="0"/>
                </a:lnTo>
                <a:lnTo>
                  <a:pt x="3481123" y="0"/>
                </a:lnTo>
                <a:arcTo wR="47890" hR="47890" stAng="-5400000" swAng="5400000"/>
                <a:lnTo>
                  <a:pt x="3529013" y="287337"/>
                </a:lnTo>
                <a:lnTo>
                  <a:pt x="0" y="287337"/>
                </a:lnTo>
                <a:lnTo>
                  <a:pt x="0" y="47890"/>
                </a:lnTo>
                <a:lnTo>
                  <a:pt x="0" y="47890"/>
                </a:lnTo>
                <a:arcTo wR="47890" hR="47890" stAng="10800000" swAng="5400000"/>
                <a:close/>
              </a:path>
            </a:pathLst>
          </a:custGeom>
          <a:solidFill>
            <a:srgbClr val="94f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с двумя скругленными соседними углами 5"/>
          <p:cNvSpPr/>
          <p:nvPr/>
        </p:nvSpPr>
        <p:spPr>
          <a:xfrm>
            <a:off x="1763640" y="2205000"/>
            <a:ext cx="2428920" cy="214200"/>
          </a:xfrm>
          <a:custGeom>
            <a:avLst/>
            <a:gdLst>
              <a:gd name="textAreaLeft" fmla="*/ 10440 w 2428920"/>
              <a:gd name="textAreaRight" fmla="*/ 2418480 w 2428920"/>
              <a:gd name="textAreaTop" fmla="*/ 10440 h 214200"/>
              <a:gd name="textAreaBottom" fmla="*/ 214560 h 214200"/>
            </a:gdLst>
            <a:ahLst/>
            <a:rect l="textAreaLeft" t="textAreaTop" r="textAreaRight" b="textAreaBottom"/>
            <a:pathLst>
              <a:path w="2428875" h="214312">
                <a:moveTo>
                  <a:pt x="35719" y="0"/>
                </a:moveTo>
                <a:lnTo>
                  <a:pt x="2393156" y="0"/>
                </a:lnTo>
                <a:lnTo>
                  <a:pt x="2393156" y="0"/>
                </a:lnTo>
                <a:arcTo wR="35719" hR="35719" stAng="-5400000" swAng="5400000"/>
                <a:lnTo>
                  <a:pt x="2428875" y="214312"/>
                </a:lnTo>
                <a:lnTo>
                  <a:pt x="0" y="214312"/>
                </a:lnTo>
                <a:lnTo>
                  <a:pt x="0" y="35719"/>
                </a:lnTo>
                <a:lnTo>
                  <a:pt x="0" y="35719"/>
                </a:lnTo>
                <a:arcTo wR="35719" hR="35719" stAng="10800000" swAng="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Прямая со стрелкой 9"/>
          <p:cNvCxnSpPr/>
          <p:nvPr/>
        </p:nvCxnSpPr>
        <p:spPr>
          <a:xfrm>
            <a:off x="773280" y="2417760"/>
            <a:ext cx="6930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1" name="Овал 10"/>
          <p:cNvSpPr/>
          <p:nvPr/>
        </p:nvSpPr>
        <p:spPr>
          <a:xfrm>
            <a:off x="5345280" y="2347920"/>
            <a:ext cx="142560" cy="1429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1"/>
          <p:cNvSpPr/>
          <p:nvPr/>
        </p:nvSpPr>
        <p:spPr>
          <a:xfrm>
            <a:off x="2916360" y="2347920"/>
            <a:ext cx="142920" cy="1429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2701800" y="24908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202360" y="24908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3916440" y="24908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"/>
          <p:cNvSpPr/>
          <p:nvPr/>
        </p:nvSpPr>
        <p:spPr>
          <a:xfrm>
            <a:off x="6202440" y="24908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16"/>
          <p:cNvSpPr/>
          <p:nvPr/>
        </p:nvSpPr>
        <p:spPr>
          <a:xfrm>
            <a:off x="4130640" y="2347920"/>
            <a:ext cx="142920" cy="1429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17"/>
          <p:cNvSpPr/>
          <p:nvPr/>
        </p:nvSpPr>
        <p:spPr>
          <a:xfrm>
            <a:off x="6416640" y="2347920"/>
            <a:ext cx="142920" cy="1429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"/>
          <p:cNvSpPr/>
          <p:nvPr/>
        </p:nvSpPr>
        <p:spPr>
          <a:xfrm>
            <a:off x="7488360" y="24192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7"/>
          <p:cNvSpPr/>
          <p:nvPr/>
        </p:nvSpPr>
        <p:spPr>
          <a:xfrm>
            <a:off x="6285240" y="1773360"/>
            <a:ext cx="7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8"/>
          <p:cNvSpPr/>
          <p:nvPr/>
        </p:nvSpPr>
        <p:spPr>
          <a:xfrm>
            <a:off x="2684880" y="1773360"/>
            <a:ext cx="7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9"/>
          <p:cNvSpPr/>
          <p:nvPr/>
        </p:nvSpPr>
        <p:spPr>
          <a:xfrm>
            <a:off x="44085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0"/>
          <p:cNvSpPr/>
          <p:nvPr/>
        </p:nvSpPr>
        <p:spPr>
          <a:xfrm>
            <a:off x="826920" y="3213000"/>
            <a:ext cx="777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Роль  отрезка А состоит в том, чтобы значение выражения было истинным, поэтому для остальных значений х выражение А может быть любым. Не А ложно вне отрезка при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х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lt;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12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и при х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&gt;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7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 Значит, нужно найти отрезок, который полностью помещается внутри отрезка [12, 72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Самый длинный из таких отрезков  [27, 53] –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вариант 3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2"/>
          <p:cNvSpPr/>
          <p:nvPr/>
        </p:nvSpPr>
        <p:spPr>
          <a:xfrm>
            <a:off x="684360" y="476280"/>
            <a:ext cx="77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18. На числовой прямой даны два отрезка: P = [2, 42] и Q = [22, 62]. Выберите такой отрезок A, что формула    ( (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P) → (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Q) ) → (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тождественно истинна, то есть принимает значение 1 при любом значении переменной 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[3,14]        2) [23,32]          3) [45,54]           4) [15,4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Решение – 1 спосо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остроим  таблицу истинности для данной форму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26920" y="2708280"/>
          <a:ext cx="7848720" cy="2303280"/>
        </p:xfrm>
        <a:graphic>
          <a:graphicData uri="http://schemas.openxmlformats.org/drawingml/2006/table">
            <a:tbl>
              <a:tblPr/>
              <a:tblGrid>
                <a:gridCol w="1806840"/>
                <a:gridCol w="1073160"/>
                <a:gridCol w="1008000"/>
                <a:gridCol w="792000"/>
                <a:gridCol w="1008360"/>
                <a:gridCol w="1187280"/>
                <a:gridCol w="97308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Промеж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</a:t>
                      </a:r>
                      <a:r>
                        <a:rPr b="1" i="1" lang="ru-RU" sz="2400" spc="-1" strike="noStrike">
                          <a:solidFill>
                            <a:srgbClr val="2c3f71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x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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X &lt;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 &lt; X &lt; 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2 &lt; X &lt; 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42 &lt; X &lt;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X &gt; 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46" name="Скругленный прямоугольник 21"/>
          <p:cNvSpPr/>
          <p:nvPr/>
        </p:nvSpPr>
        <p:spPr>
          <a:xfrm>
            <a:off x="900000" y="3860640"/>
            <a:ext cx="7704360" cy="360360"/>
          </a:xfrm>
          <a:prstGeom prst="roundRect">
            <a:avLst>
              <a:gd name="adj" fmla="val 19218"/>
            </a:avLst>
          </a:prstGeom>
          <a:noFill/>
          <a:ln w="540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3"/>
          <p:cNvSpPr/>
          <p:nvPr/>
        </p:nvSpPr>
        <p:spPr>
          <a:xfrm>
            <a:off x="755640" y="508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о таблице видно, что отрезок А должен целиком помещается внутри отрезка [22,42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Правильный ответ –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с двумя скругленными соседними углами 25"/>
          <p:cNvSpPr/>
          <p:nvPr/>
        </p:nvSpPr>
        <p:spPr>
          <a:xfrm rot="10800000">
            <a:off x="2124000" y="5013000"/>
            <a:ext cx="2448000" cy="214200"/>
          </a:xfrm>
          <a:custGeom>
            <a:avLst/>
            <a:gdLst>
              <a:gd name="textAreaLeft" fmla="*/ 10440 w 2448000"/>
              <a:gd name="textAreaRight" fmla="*/ 2437560 w 2448000"/>
              <a:gd name="textAreaTop" fmla="*/ 10440 h 214200"/>
              <a:gd name="textAreaBottom" fmla="*/ 214560 h 214200"/>
            </a:gdLst>
            <a:ahLst/>
            <a:rect l="textAreaLeft" t="textAreaTop" r="textAreaRight" b="textAreaBottom"/>
            <a:pathLst>
              <a:path w="2447925" h="214313">
                <a:moveTo>
                  <a:pt x="35720" y="0"/>
                </a:moveTo>
                <a:lnTo>
                  <a:pt x="2412205" y="0"/>
                </a:lnTo>
                <a:lnTo>
                  <a:pt x="2412205" y="0"/>
                </a:lnTo>
                <a:arcTo wR="35720" hR="35720" stAng="-5400000" swAng="5400000"/>
                <a:lnTo>
                  <a:pt x="2447925" y="214313"/>
                </a:lnTo>
                <a:lnTo>
                  <a:pt x="0" y="214313"/>
                </a:lnTo>
                <a:lnTo>
                  <a:pt x="0" y="35720"/>
                </a:lnTo>
                <a:lnTo>
                  <a:pt x="0" y="35720"/>
                </a:lnTo>
                <a:arcTo wR="35720" hR="35720" stAng="10800000" swAng="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с двумя скругленными соседними углами 20"/>
          <p:cNvSpPr/>
          <p:nvPr/>
        </p:nvSpPr>
        <p:spPr>
          <a:xfrm rot="10800000">
            <a:off x="900000" y="5013000"/>
            <a:ext cx="2448000" cy="214200"/>
          </a:xfrm>
          <a:custGeom>
            <a:avLst/>
            <a:gdLst>
              <a:gd name="textAreaLeft" fmla="*/ 10440 w 2448000"/>
              <a:gd name="textAreaRight" fmla="*/ 2437560 w 2448000"/>
              <a:gd name="textAreaTop" fmla="*/ 10440 h 214200"/>
              <a:gd name="textAreaBottom" fmla="*/ 214560 h 214200"/>
            </a:gdLst>
            <a:ahLst/>
            <a:rect l="textAreaLeft" t="textAreaTop" r="textAreaRight" b="textAreaBottom"/>
            <a:pathLst>
              <a:path w="2447925" h="214313">
                <a:moveTo>
                  <a:pt x="35720" y="0"/>
                </a:moveTo>
                <a:lnTo>
                  <a:pt x="2412205" y="0"/>
                </a:lnTo>
                <a:lnTo>
                  <a:pt x="2412205" y="0"/>
                </a:lnTo>
                <a:arcTo wR="35720" hR="35720" stAng="-5400000" swAng="5400000"/>
                <a:lnTo>
                  <a:pt x="2447925" y="214313"/>
                </a:lnTo>
                <a:lnTo>
                  <a:pt x="0" y="214313"/>
                </a:lnTo>
                <a:lnTo>
                  <a:pt x="0" y="35720"/>
                </a:lnTo>
                <a:lnTo>
                  <a:pt x="0" y="35720"/>
                </a:lnTo>
                <a:arcTo wR="35720" hR="35720" stAng="10800000" swAng="5400000"/>
                <a:close/>
              </a:path>
            </a:pathLst>
          </a:custGeom>
          <a:solidFill>
            <a:srgbClr val="94f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684360" y="476280"/>
            <a:ext cx="77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18. Решение – способ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755640" y="126828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Преобразуем выражение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 (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P) → (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Q) ) → (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А) и получ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P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V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(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Q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V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(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Это выражение должно быть истинно для любого x, поэтому область истинности выражения должна охватывать всю числовую ось, значит области истинности всех слагаемых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олжны перекрыть всю числовую ось. Область 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P состоит из двух полуосей, (–∞, 2) и (42, ∞), а область x </a:t>
            </a:r>
            <a:r>
              <a:rPr b="0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 Q выходит за пределы (–∞,22) и (62 , ∞).  Это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означает, что отрезок не А может быть ложным только внутри отрезка [22, 42]; соответственно, выражение A может быть истинно только на этом отрез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оэтому правильный ответ — это отрезок, целиком помещающийся 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внутри отрезка [22,42]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с двумя скругленными соседними углами 7"/>
          <p:cNvSpPr/>
          <p:nvPr/>
        </p:nvSpPr>
        <p:spPr>
          <a:xfrm rot="10800000">
            <a:off x="5796000" y="5013000"/>
            <a:ext cx="2286000" cy="214200"/>
          </a:xfrm>
          <a:custGeom>
            <a:avLst/>
            <a:gdLst>
              <a:gd name="textAreaLeft" fmla="*/ 10440 w 2286000"/>
              <a:gd name="textAreaRight" fmla="*/ 2275560 w 2286000"/>
              <a:gd name="textAreaTop" fmla="*/ 10440 h 214200"/>
              <a:gd name="textAreaBottom" fmla="*/ 214560 h 214200"/>
            </a:gdLst>
            <a:ahLst/>
            <a:rect l="textAreaLeft" t="textAreaTop" r="textAreaRight" b="textAreaBottom"/>
            <a:pathLst>
              <a:path w="2286000" h="214313">
                <a:moveTo>
                  <a:pt x="35720" y="0"/>
                </a:moveTo>
                <a:lnTo>
                  <a:pt x="2250280" y="0"/>
                </a:lnTo>
                <a:lnTo>
                  <a:pt x="2250280" y="0"/>
                </a:lnTo>
                <a:arcTo wR="35720" hR="35720" stAng="-5400000" swAng="5400000"/>
                <a:lnTo>
                  <a:pt x="2286000" y="214313"/>
                </a:lnTo>
                <a:lnTo>
                  <a:pt x="0" y="214313"/>
                </a:lnTo>
                <a:lnTo>
                  <a:pt x="0" y="35720"/>
                </a:lnTo>
                <a:lnTo>
                  <a:pt x="0" y="35720"/>
                </a:lnTo>
                <a:arcTo wR="35720" hR="35720" stAng="10800000" swAng="5400000"/>
                <a:close/>
              </a:path>
            </a:pathLst>
          </a:custGeom>
          <a:solidFill>
            <a:srgbClr val="94f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Прямая со стрелкой 9"/>
          <p:cNvCxnSpPr/>
          <p:nvPr/>
        </p:nvCxnSpPr>
        <p:spPr>
          <a:xfrm>
            <a:off x="1116000" y="5229360"/>
            <a:ext cx="6930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4" name="Овал 11"/>
          <p:cNvSpPr/>
          <p:nvPr/>
        </p:nvSpPr>
        <p:spPr>
          <a:xfrm>
            <a:off x="3259080" y="5159520"/>
            <a:ext cx="142920" cy="142560"/>
          </a:xfrm>
          <a:prstGeom prst="ellipse">
            <a:avLst/>
          </a:prstGeom>
          <a:noFill/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7831080" y="52308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5"/>
          <p:cNvSpPr/>
          <p:nvPr/>
        </p:nvSpPr>
        <p:spPr>
          <a:xfrm>
            <a:off x="305928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6"/>
          <p:cNvSpPr/>
          <p:nvPr/>
        </p:nvSpPr>
        <p:spPr>
          <a:xfrm>
            <a:off x="6588000" y="5516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7"/>
          <p:cNvSpPr/>
          <p:nvPr/>
        </p:nvSpPr>
        <p:spPr>
          <a:xfrm>
            <a:off x="550872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9"/>
          <p:cNvSpPr/>
          <p:nvPr/>
        </p:nvSpPr>
        <p:spPr>
          <a:xfrm>
            <a:off x="428472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с двумя скругленными соседними углами 26"/>
          <p:cNvSpPr/>
          <p:nvPr/>
        </p:nvSpPr>
        <p:spPr>
          <a:xfrm rot="10800000">
            <a:off x="6804000" y="5013360"/>
            <a:ext cx="1224000" cy="216000"/>
          </a:xfrm>
          <a:custGeom>
            <a:avLst/>
            <a:gdLst>
              <a:gd name="textAreaLeft" fmla="*/ 10440 w 1224000"/>
              <a:gd name="textAreaRight" fmla="*/ 1213560 w 1224000"/>
              <a:gd name="textAreaTop" fmla="*/ 10440 h 216000"/>
              <a:gd name="textAreaBottom" fmla="*/ 216360 h 216000"/>
            </a:gdLst>
            <a:ahLst/>
            <a:rect l="textAreaLeft" t="textAreaTop" r="textAreaRight" b="textAreaBottom"/>
            <a:pathLst>
              <a:path w="1223963" h="215900">
                <a:moveTo>
                  <a:pt x="35984" y="0"/>
                </a:moveTo>
                <a:lnTo>
                  <a:pt x="1187979" y="0"/>
                </a:lnTo>
                <a:lnTo>
                  <a:pt x="1187979" y="0"/>
                </a:lnTo>
                <a:arcTo wR="35984" hR="35984" stAng="-5400000" swAng="5400000"/>
                <a:lnTo>
                  <a:pt x="1223963" y="215900"/>
                </a:lnTo>
                <a:lnTo>
                  <a:pt x="0" y="215900"/>
                </a:lnTo>
                <a:lnTo>
                  <a:pt x="0" y="35984"/>
                </a:lnTo>
                <a:lnTo>
                  <a:pt x="0" y="35984"/>
                </a:lnTo>
                <a:arcTo wR="35984" hR="35984" stAng="10800000" swAng="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7"/>
          <p:cNvSpPr/>
          <p:nvPr/>
        </p:nvSpPr>
        <p:spPr>
          <a:xfrm>
            <a:off x="226836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8"/>
          <p:cNvSpPr/>
          <p:nvPr/>
        </p:nvSpPr>
        <p:spPr>
          <a:xfrm>
            <a:off x="5796000" y="465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9"/>
          <p:cNvSpPr/>
          <p:nvPr/>
        </p:nvSpPr>
        <p:spPr>
          <a:xfrm>
            <a:off x="3539520" y="46530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7000920" y="465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x </a:t>
            </a:r>
            <a:r>
              <a:rPr b="1" i="1" lang="ru-RU" sz="1800" spc="-1" strike="noStrike">
                <a:solidFill>
                  <a:srgbClr val="2c3f71"/>
                </a:solidFill>
                <a:latin typeface="Symbol"/>
                <a:ea typeface="Symbol"/>
              </a:rPr>
              <a:t>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вал 13"/>
          <p:cNvSpPr/>
          <p:nvPr/>
        </p:nvSpPr>
        <p:spPr>
          <a:xfrm>
            <a:off x="6759720" y="5159520"/>
            <a:ext cx="142560" cy="142560"/>
          </a:xfrm>
          <a:prstGeom prst="ellipse">
            <a:avLst/>
          </a:prstGeom>
          <a:noFill/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с двумя скругленными соседними углами 22"/>
          <p:cNvSpPr/>
          <p:nvPr/>
        </p:nvSpPr>
        <p:spPr>
          <a:xfrm rot="10800000">
            <a:off x="4571640" y="5229000"/>
            <a:ext cx="1152360" cy="215640"/>
          </a:xfrm>
          <a:custGeom>
            <a:avLst/>
            <a:gdLst>
              <a:gd name="textAreaLeft" fmla="*/ 10440 w 1152360"/>
              <a:gd name="textAreaRight" fmla="*/ 1141920 w 1152360"/>
              <a:gd name="textAreaTop" fmla="*/ 10440 h 215640"/>
              <a:gd name="textAreaBottom" fmla="*/ 216000 h 215640"/>
            </a:gdLst>
            <a:ahLst/>
            <a:rect l="textAreaLeft" t="textAreaTop" r="textAreaRight" b="textAreaBottom"/>
            <a:pathLst>
              <a:path w="1152525" h="215900">
                <a:moveTo>
                  <a:pt x="35984" y="0"/>
                </a:moveTo>
                <a:lnTo>
                  <a:pt x="1116541" y="0"/>
                </a:lnTo>
                <a:lnTo>
                  <a:pt x="1116541" y="0"/>
                </a:lnTo>
                <a:arcTo wR="35984" hR="35984" stAng="-5400000" swAng="5400000"/>
                <a:lnTo>
                  <a:pt x="1152525" y="215900"/>
                </a:lnTo>
                <a:lnTo>
                  <a:pt x="0" y="215900"/>
                </a:lnTo>
                <a:lnTo>
                  <a:pt x="0" y="35984"/>
                </a:lnTo>
                <a:lnTo>
                  <a:pt x="0" y="35984"/>
                </a:lnTo>
                <a:arcTo wR="35984" hR="35984" stAng="10800000" swAng="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2"/>
          <p:cNvSpPr/>
          <p:nvPr/>
        </p:nvSpPr>
        <p:spPr>
          <a:xfrm>
            <a:off x="4473720" y="5159520"/>
            <a:ext cx="142560" cy="142560"/>
          </a:xfrm>
          <a:prstGeom prst="ellipse">
            <a:avLst/>
          </a:prstGeom>
          <a:noFill/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0"/>
          <p:cNvSpPr/>
          <p:nvPr/>
        </p:nvSpPr>
        <p:spPr>
          <a:xfrm>
            <a:off x="5688000" y="5159520"/>
            <a:ext cx="142920" cy="142560"/>
          </a:xfrm>
          <a:prstGeom prst="ellipse">
            <a:avLst/>
          </a:prstGeom>
          <a:noFill/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1"/>
          <p:cNvSpPr/>
          <p:nvPr/>
        </p:nvSpPr>
        <p:spPr>
          <a:xfrm>
            <a:off x="826920" y="6021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Верный ответ —2 (отрезок </a:t>
            </a:r>
            <a:r>
              <a:rPr b="1" lang="en-US" sz="1800" spc="-1" strike="noStrike">
                <a:solidFill>
                  <a:srgbClr val="2c3f71"/>
                </a:solidFill>
                <a:latin typeface="Franklin Gothic Medium"/>
              </a:rPr>
              <a:t>[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23</a:t>
            </a:r>
            <a:r>
              <a:rPr b="1" lang="en-US" sz="1800" spc="-1" strike="noStrike">
                <a:solidFill>
                  <a:srgbClr val="2c3f71"/>
                </a:solidFill>
                <a:latin typeface="Franklin Gothic Medium"/>
              </a:rPr>
              <a:t>,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32</a:t>
            </a:r>
            <a:r>
              <a:rPr b="1" lang="en-US" sz="1800" spc="-1" strike="noStrike">
                <a:solidFill>
                  <a:srgbClr val="2c3f71"/>
                </a:solidFill>
                <a:latin typeface="Franklin Gothic Medium"/>
              </a:rPr>
              <a:t>]</a:t>
            </a:r>
            <a:r>
              <a:rPr b="1" lang="ru-RU" sz="1800" spc="-1" strike="noStrike">
                <a:solidFill>
                  <a:srgbClr val="2c3f71"/>
                </a:solidFill>
                <a:latin typeface="Franklin Gothic Mediu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Rectangle 2" descr=""/>
          <p:cNvPicPr/>
          <p:nvPr/>
        </p:nvPicPr>
        <p:blipFill>
          <a:blip r:embed="rId1"/>
          <a:stretch/>
        </p:blipFill>
        <p:spPr>
          <a:xfrm>
            <a:off x="969840" y="1200240"/>
            <a:ext cx="7979040" cy="168912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Логические выражения и операции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2"/>
          <p:cNvSpPr/>
          <p:nvPr/>
        </p:nvSpPr>
        <p:spPr>
          <a:xfrm>
            <a:off x="684360" y="476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1 задание: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 Символом F обозначено одно из указанных ниже логических выражений от трёх аргументов: X, Y, Z. Дан фрагмент таблицы истинности выражения F: Какое выражение соответствует 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0"/>
          <p:cNvSpPr/>
          <p:nvPr/>
        </p:nvSpPr>
        <p:spPr>
          <a:xfrm>
            <a:off x="4284720" y="162864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1)  (Z →Y) ∧ ¬X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2)  (Z → Y) ∨ X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3)  (Z → Y) ∧ X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4)  (Z → Y) →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755640" y="1628640"/>
          <a:ext cx="2592360" cy="180036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9440"/>
                <a:gridCol w="647640"/>
              </a:tblGrid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5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75" name="TextBox 2"/>
          <p:cNvSpPr/>
          <p:nvPr/>
        </p:nvSpPr>
        <p:spPr>
          <a:xfrm>
            <a:off x="684360" y="3357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2 задание: 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Какое выражение соответствует 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684360" y="4292640"/>
          <a:ext cx="2592360" cy="180036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9440"/>
                <a:gridCol w="647640"/>
              </a:tblGrid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77" name="TextBox 55"/>
          <p:cNvSpPr/>
          <p:nvPr/>
        </p:nvSpPr>
        <p:spPr>
          <a:xfrm>
            <a:off x="4284720" y="4221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1)  (X ∨ Y) ∧ (Z ∨ 0)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2)  (X ∧ Y) ∨ (Z ∨ 1)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3)  (X ∧ Y) ∧ ¬Z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4)  (X ∨ Y) ∨ ¬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2"/>
          <p:cNvSpPr/>
          <p:nvPr/>
        </p:nvSpPr>
        <p:spPr>
          <a:xfrm>
            <a:off x="684360" y="476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3 задание:  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Дан фрагмент таблицы истинности выражения F: Какое выражение соответствует 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0"/>
          <p:cNvSpPr/>
          <p:nvPr/>
        </p:nvSpPr>
        <p:spPr>
          <a:xfrm>
            <a:off x="4572000" y="141300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1)  х1∨х2∨х3∨¬х4∨ ¬х5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2) ¬х1∨х2∨¬х3∨х4∨¬х5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3)  х1∧¬х2∧х3∧¬х4∧ х5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4)   ¬х1∧х2∧х3∧х4∧¬х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55640" y="1341360"/>
          <a:ext cx="3384720" cy="1973520"/>
        </p:xfrm>
        <a:graphic>
          <a:graphicData uri="http://schemas.openxmlformats.org/drawingml/2006/table">
            <a:tbl>
              <a:tblPr/>
              <a:tblGrid>
                <a:gridCol w="563400"/>
                <a:gridCol w="565200"/>
                <a:gridCol w="563760"/>
                <a:gridCol w="563400"/>
                <a:gridCol w="552600"/>
                <a:gridCol w="57636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81" name="TextBox 2"/>
          <p:cNvSpPr/>
          <p:nvPr/>
        </p:nvSpPr>
        <p:spPr>
          <a:xfrm>
            <a:off x="684360" y="3500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fa326"/>
                </a:solidFill>
                <a:latin typeface="Franklin Gothic Book"/>
              </a:rPr>
              <a:t>4</a:t>
            </a: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 задание: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Какое выражение соответствует 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55640" y="4076640"/>
          <a:ext cx="3384720" cy="1973160"/>
        </p:xfrm>
        <a:graphic>
          <a:graphicData uri="http://schemas.openxmlformats.org/drawingml/2006/table">
            <a:tbl>
              <a:tblPr/>
              <a:tblGrid>
                <a:gridCol w="563400"/>
                <a:gridCol w="565200"/>
                <a:gridCol w="563760"/>
                <a:gridCol w="563400"/>
                <a:gridCol w="565200"/>
                <a:gridCol w="56376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83" name="TextBox 9"/>
          <p:cNvSpPr/>
          <p:nvPr/>
        </p:nvSpPr>
        <p:spPr>
          <a:xfrm>
            <a:off x="4572000" y="414972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1)  х1∨х2∨х3∨¬х4∨¬х5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2)  х1∨¬х2∨¬х3∨х4∨х5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3)  х1∧¬х2∧х3∧¬х4∧ х5 </a:t>
            </a:r>
            <a:br>
              <a:rPr sz="2800"/>
            </a:b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4)   ¬х1∧х2∧х3∧х4∧¬х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6"/>
          <p:cNvSpPr/>
          <p:nvPr/>
        </p:nvSpPr>
        <p:spPr>
          <a:xfrm>
            <a:off x="468360" y="3573360"/>
            <a:ext cx="8280360" cy="30801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Логика Аристотеля, в частности его теория 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силлогизм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, имела огромное влияние на западную мысль. Его труды по логике, называемые 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Органон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, представляют самое раннее исследование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формальной логик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и началом традиции, преемственность которой прослеживается до сов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4140360" y="404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Формальная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5" descr="http://www.chronos.msu.ru/biographies/aristotle.jpg"/>
          <p:cNvPicPr/>
          <p:nvPr/>
        </p:nvPicPr>
        <p:blipFill>
          <a:blip r:embed="rId1"/>
          <a:stretch/>
        </p:blipFill>
        <p:spPr>
          <a:xfrm>
            <a:off x="539640" y="260280"/>
            <a:ext cx="25434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1187280" y="47628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5 задание: 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Дан фрагмент таблицы истинности выражения 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403280" y="1413000"/>
          <a:ext cx="6500880" cy="240012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880"/>
                <a:gridCol w="812520"/>
                <a:gridCol w="811440"/>
                <a:gridCol w="812520"/>
                <a:gridCol w="812880"/>
                <a:gridCol w="812880"/>
              </a:tblGrid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ru-RU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X</a:t>
                      </a:r>
                      <a:r>
                        <a:rPr b="1" i="1" lang="en-US" sz="2400" spc="-1" strike="noStrike" baseline="-25000">
                          <a:solidFill>
                            <a:srgbClr val="ffffff"/>
                          </a:solidFill>
                          <a:latin typeface="Franklin Gothic Medium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9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586" name="TextBox 8"/>
          <p:cNvSpPr/>
          <p:nvPr/>
        </p:nvSpPr>
        <p:spPr>
          <a:xfrm>
            <a:off x="1403280" y="4005360"/>
            <a:ext cx="741672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Какое выражение соответствует 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(x1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3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4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r>
              <a:rPr b="0" lang="fr-CA" sz="2800" spc="-1" strike="noStrike">
                <a:solidFill>
                  <a:srgbClr val="2c3f71"/>
                </a:solidFill>
                <a:latin typeface="Franklin Gothic Medium"/>
              </a:rPr>
              <a:t> → 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x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(x1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2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4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r>
              <a:rPr b="0" lang="fr-CA" sz="2800" spc="-1" strike="noStrike">
                <a:solidFill>
                  <a:srgbClr val="2c3f71"/>
                </a:solidFill>
                <a:latin typeface="Franklin Gothic Medium"/>
              </a:rPr>
              <a:t> → 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x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(x1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2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3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r>
              <a:rPr b="0" lang="fr-CA" sz="2800" spc="-1" strike="noStrike">
                <a:solidFill>
                  <a:srgbClr val="2c3f71"/>
                </a:solidFill>
                <a:latin typeface="Franklin Gothic Medium"/>
              </a:rPr>
              <a:t> → </a:t>
            </a: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¬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x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arenR"/>
              <a:tabLst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(x2 </a:t>
            </a:r>
            <a:r>
              <a:rPr b="0" lang="ru-RU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3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4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5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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6 </a:t>
            </a:r>
            <a:r>
              <a:rPr b="0" lang="es-ES" sz="2800" spc="-1" strike="noStrike">
                <a:solidFill>
                  <a:srgbClr val="2c3f71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 x7)</a:t>
            </a:r>
            <a:r>
              <a:rPr b="0" lang="fr-CA" sz="2800" spc="-1" strike="noStrike">
                <a:solidFill>
                  <a:srgbClr val="2c3f71"/>
                </a:solidFill>
                <a:latin typeface="Franklin Gothic Medium"/>
              </a:rPr>
              <a:t> → </a:t>
            </a:r>
            <a:r>
              <a:rPr b="0" lang="ru-RU" sz="2800" spc="-1" strike="noStrike">
                <a:solidFill>
                  <a:srgbClr val="2c3f71"/>
                </a:solidFill>
                <a:latin typeface="Franklin Gothic Medium"/>
              </a:rPr>
              <a:t>¬х</a:t>
            </a:r>
            <a:r>
              <a:rPr b="0" lang="es-ES" sz="2800" spc="-1" strike="noStrike">
                <a:solidFill>
                  <a:srgbClr val="2c3f71"/>
                </a:solidFill>
                <a:latin typeface="Franklin Gothic Medium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711440"/>
                <a:tab algn="l" pos="279072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2"/>
          <p:cNvSpPr/>
          <p:nvPr/>
        </p:nvSpPr>
        <p:spPr>
          <a:xfrm>
            <a:off x="1187280" y="47628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6 задание: 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Для какого имени истинно высказы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1258920" y="112536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первая буква согласная  → последняя буква имени согласная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предпоследняя буква гласная → последняя буква согласна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ания                                                  3. Хорва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Испания                                              4. Гр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6"/>
          <p:cNvSpPr/>
          <p:nvPr/>
        </p:nvSpPr>
        <p:spPr>
          <a:xfrm>
            <a:off x="1258920" y="2492280"/>
            <a:ext cx="70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7 задание: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Какое из приведенных названий стран не удовлетворяет  логическому услов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первая буква согласная  → последняя буква согласная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предпоследняя буква гласная → последняя буква согласна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Сенегал                                               3. Че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Индия                                                  4. К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7"/>
          <p:cNvSpPr/>
          <p:nvPr/>
        </p:nvSpPr>
        <p:spPr>
          <a:xfrm>
            <a:off x="1258920" y="4508640"/>
            <a:ext cx="71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8 задание: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Для какого имени ложно высказы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первая буква гласная  → вторая буква гласная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</a:rPr>
              <a:t>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(хотя бы одна из двух последних букв не является гласной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Индия                                                  3. Ал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</a:rPr>
              <a:t>Белоруссия                                         4. Е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2"/>
          <p:cNvSpPr/>
          <p:nvPr/>
        </p:nvSpPr>
        <p:spPr>
          <a:xfrm>
            <a:off x="684360" y="476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Задание 9: 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На числовой прямой даны два отрезка: P = [2, 10] и Q = [6, 14]. Выберите такой отрезок A, что 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( (x ∈ А) → (x ∈ P) ) ∨ (x ∈ Q) тождественно исти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1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[0, 3]</a:t>
            </a:r>
            <a:br>
              <a:rPr sz="1800"/>
            </a:b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2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[3, 11] </a:t>
            </a:r>
            <a:br>
              <a:rPr sz="1800"/>
            </a:b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3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[11, 15]</a:t>
            </a:r>
            <a:br>
              <a:rPr sz="1800"/>
            </a:b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4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[15, 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684360" y="321300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Задание </a:t>
            </a:r>
            <a:r>
              <a:rPr b="1" i="1" lang="en-US" sz="1800" spc="-1" strike="noStrike">
                <a:solidFill>
                  <a:srgbClr val="5fa326"/>
                </a:solidFill>
                <a:latin typeface="Franklin Gothic Book"/>
              </a:rPr>
              <a:t>10</a:t>
            </a:r>
            <a:r>
              <a:rPr b="1" i="1" lang="ru-RU" sz="1800" spc="-1" strike="noStrike">
                <a:solidFill>
                  <a:srgbClr val="5fa326"/>
                </a:solidFill>
                <a:latin typeface="Franklin Gothic Book"/>
              </a:rPr>
              <a:t>: 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На числовой прямой даны три отрезка: P = [10, 40], Q = [5, 15]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R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= [</a:t>
            </a: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3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5, </a:t>
            </a: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50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], Выберите такой отрезок A, что 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( (x ∈ А) → (x ∈ P) ) ∨ ((x ∈ Q)→ (x ∈ R))</a:t>
            </a:r>
            <a:r>
              <a:rPr b="1" i="1" lang="en-US" sz="1800" spc="-1" strike="noStrike">
                <a:solidFill>
                  <a:srgbClr val="2c3f71"/>
                </a:solidFill>
                <a:latin typeface="Franklin Gothic Book"/>
              </a:rPr>
              <a:t> </a:t>
            </a:r>
            <a:r>
              <a:rPr b="1" i="1" lang="ru-RU" sz="1800" spc="-1" strike="noStrike">
                <a:solidFill>
                  <a:srgbClr val="2c3f71"/>
                </a:solidFill>
                <a:latin typeface="Franklin Gothic Book"/>
              </a:rPr>
              <a:t> тождественно исти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1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[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5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,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2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]</a:t>
            </a:r>
            <a:br>
              <a:rPr sz="1800"/>
            </a:b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2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[3, 1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2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] </a:t>
            </a:r>
            <a:br>
              <a:rPr sz="1800"/>
            </a:b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3)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[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3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,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7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]</a:t>
            </a:r>
            <a:br>
              <a:rPr sz="1800"/>
            </a:b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4) 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 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[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12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, 1</a:t>
            </a:r>
            <a:r>
              <a:rPr b="0" lang="en-US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30</a:t>
            </a:r>
            <a:r>
              <a:rPr b="0" lang="ru-RU" sz="1800" spc="-1" strike="noStrike">
                <a:solidFill>
                  <a:srgbClr val="2c3f71"/>
                </a:solidFill>
                <a:latin typeface="Franklin Gothic Medium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"/>
          <p:cNvSpPr/>
          <p:nvPr/>
        </p:nvSpPr>
        <p:spPr>
          <a:xfrm>
            <a:off x="1116000" y="1557360"/>
            <a:ext cx="6048360" cy="19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Franklin Gothic Book"/>
                <a:hlinkClick r:id="rId2"/>
              </a:rPr>
              <a:t>http://upload.wikimedia.org/wikipedia/commons/thumb/4/4a/Plato-raphael.jpg/220px-Plato-raphae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Franklin Gothic Book"/>
                <a:hlinkClick r:id="rId3"/>
              </a:rPr>
              <a:t>http://ru.wikipedia.org/wiki/%D0%98%D1%81%D1%82%D0%BE%D1%80%D0%B8%D1%8F_%D0%BB%D0%BE%D0%B3%D0%B8%D0%BA%D0%B8#.D0.9F.D1.80.D0.B5.D0.B4.D1.8B.D1.81.D1.82.D0.BE.D1.80.D0.B8.D1.8F_.D0.BB.D0.BE.D0.B3.D0.B8.D0.BA.D0.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Franklin Gothic Book"/>
                <a:hlinkClick r:id="rId4"/>
              </a:rPr>
              <a:t>http://www.chronos.msu.ru/biographies/aristotl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8803"/>
                </a:solidFill>
                <a:uFillTx/>
                <a:latin typeface="Franklin Gothic Book"/>
                <a:hlinkClick r:id="rId5"/>
              </a:rPr>
              <a:t>http://inf.reshuege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Лейбниц"/>
          <p:cNvPicPr/>
          <p:nvPr/>
        </p:nvPicPr>
        <p:blipFill>
          <a:blip r:embed="rId1"/>
          <a:stretch/>
        </p:blipFill>
        <p:spPr>
          <a:xfrm>
            <a:off x="684360" y="189000"/>
            <a:ext cx="2658960" cy="31478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324000" y="3645000"/>
            <a:ext cx="8280360" cy="359568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мецкий ученый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Готфрид Лейбниц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1646 - 171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ложил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основы математической логик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140360" y="404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Математическая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7" descr="Буль"/>
          <p:cNvPicPr/>
          <p:nvPr/>
        </p:nvPicPr>
        <p:blipFill>
          <a:blip r:embed="rId1"/>
          <a:stretch/>
        </p:blipFill>
        <p:spPr>
          <a:xfrm>
            <a:off x="826920" y="33336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11280" y="3499920"/>
            <a:ext cx="7921440" cy="22323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нгличанин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Джордж Буль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1815  - 1864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а фундаменте, заложенном Лейбницем, создал новую область науки -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математическую логику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В работах Буля логика обрела свой алфавит, свою орфографию и грамматику. 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3851280" y="40464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Математическая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84360" y="981000"/>
            <a:ext cx="7488000" cy="372888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математической логике не рассматривается конкретное содержание высказывания, важно только, истинно оно или лож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ложно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 (0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или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истинно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 (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4581360"/>
            <a:ext cx="7559640" cy="13737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Логическое выражение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– выражение, содержащее логические величины и знаки логических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1763640" y="3333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Математическая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4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97800" cy="1195560"/>
          </a:xfrm>
          <a:prstGeom prst="rect">
            <a:avLst/>
          </a:prstGeom>
          <a:ln w="0">
            <a:noFill/>
          </a:ln>
        </p:spPr>
      </p:pic>
      <p:sp>
        <p:nvSpPr>
          <p:cNvPr id="418" name="Дуга 26"/>
          <p:cNvSpPr/>
          <p:nvPr/>
        </p:nvSpPr>
        <p:spPr>
          <a:xfrm flipV="1" rot="20088600">
            <a:off x="6876720" y="3933720"/>
            <a:ext cx="287280" cy="71640"/>
          </a:xfrm>
          <a:custGeom>
            <a:avLst/>
            <a:gdLst>
              <a:gd name="textAreaLeft" fmla="*/ 143640 w 287280"/>
              <a:gd name="textAreaRight" fmla="*/ 287640 w 287280"/>
              <a:gd name="textAreaTop" fmla="*/ -360 h 71640"/>
              <a:gd name="textAreaBottom" fmla="*/ 35640 h 71640"/>
            </a:gdLst>
            <a:ahLst/>
            <a:rect l="textAreaLeft" t="textAreaTop" r="textAreaRight" b="textAreaBottom"/>
            <a:pathLst>
              <a:path stroke="0" w="287338" h="71438">
                <a:moveTo>
                  <a:pt x="143669" y="0"/>
                </a:moveTo>
                <a:lnTo>
                  <a:pt x="143669" y="0"/>
                </a:lnTo>
                <a:arcTo wR="143669" hR="35719" stAng="-5400000" swAng="5400000"/>
                <a:lnTo>
                  <a:pt x="143669" y="35719"/>
                </a:lnTo>
                <a:close/>
              </a:path>
              <a:path fill="none" w="287338" h="71438">
                <a:moveTo>
                  <a:pt x="143669" y="0"/>
                </a:moveTo>
                <a:lnTo>
                  <a:pt x="143669" y="0"/>
                </a:lnTo>
                <a:arcTo wR="143669" hR="35719" stAng="-5400000" swAng="5400000"/>
              </a:path>
            </a:pathLst>
          </a:custGeom>
          <a:noFill/>
          <a:ln w="1152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2"/>
          <p:cNvSpPr/>
          <p:nvPr/>
        </p:nvSpPr>
        <p:spPr>
          <a:xfrm>
            <a:off x="684360" y="1197000"/>
            <a:ext cx="4572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Отрицание (инверсия)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ea157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Franklin Gothic Book"/>
              </a:rPr>
              <a:t>Обозначение</a:t>
            </a:r>
            <a:r>
              <a:rPr b="0" lang="ru-RU" sz="1800" spc="-1" strike="noStrike">
                <a:solidFill>
                  <a:srgbClr val="ea157a"/>
                </a:solidFill>
                <a:latin typeface="Franklin Gothic Book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НЕ А, 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А,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Object 6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326880" cy="4302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4859280" y="1773360"/>
            <a:ext cx="3528720" cy="1942200"/>
            <a:chOff x="4859280" y="1773360"/>
            <a:chExt cx="3528720" cy="1942200"/>
          </a:xfrm>
        </p:grpSpPr>
        <p:grpSp>
          <p:nvGrpSpPr>
            <p:cNvPr id="422" name="Group 10"/>
            <p:cNvGrpSpPr/>
            <p:nvPr/>
          </p:nvGrpSpPr>
          <p:grpSpPr>
            <a:xfrm>
              <a:off x="5009760" y="2445480"/>
              <a:ext cx="2957400" cy="1270080"/>
              <a:chOff x="5009760" y="2445480"/>
              <a:chExt cx="2957400" cy="1270080"/>
            </a:xfrm>
          </p:grpSpPr>
          <p:sp>
            <p:nvSpPr>
              <p:cNvPr id="423" name="Rectangle 11"/>
              <p:cNvSpPr/>
              <p:nvPr/>
            </p:nvSpPr>
            <p:spPr>
              <a:xfrm>
                <a:off x="5009760" y="2445480"/>
                <a:ext cx="2957400" cy="1270080"/>
              </a:xfrm>
              <a:prstGeom prst="rect">
                <a:avLst/>
              </a:prstGeom>
              <a:solidFill>
                <a:srgbClr val="5f77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12"/>
              <p:cNvSpPr/>
              <p:nvPr/>
            </p:nvSpPr>
            <p:spPr>
              <a:xfrm>
                <a:off x="5279760" y="2613600"/>
                <a:ext cx="932040" cy="840600"/>
              </a:xfrm>
              <a:prstGeom prst="ellipse">
                <a:avLst/>
              </a:prstGeom>
              <a:solidFill>
                <a:srgbClr val="7fd1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Franklin Gothic Book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1680" y="2696760"/>
                <a:ext cx="450000" cy="672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Text Box 14"/>
            <p:cNvSpPr/>
            <p:nvPr/>
          </p:nvSpPr>
          <p:spPr>
            <a:xfrm>
              <a:off x="4859280" y="1773360"/>
              <a:ext cx="352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a157a"/>
                  </a:solidFill>
                  <a:latin typeface="Franklin Gothic Book"/>
                </a:rPr>
                <a:t>Диаграмма Эйлера -Вен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7" name=""/>
          <p:cNvGraphicFramePr/>
          <p:nvPr/>
        </p:nvGraphicFramePr>
        <p:xfrm>
          <a:off x="826920" y="2421000"/>
          <a:ext cx="2214720" cy="1628640"/>
        </p:xfrm>
        <a:graphic>
          <a:graphicData uri="http://schemas.openxmlformats.org/drawingml/2006/table">
            <a:tbl>
              <a:tblPr/>
              <a:tblGrid>
                <a:gridCol w="928800"/>
                <a:gridCol w="1285920"/>
              </a:tblGrid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Text Box 16"/>
          <p:cNvSpPr/>
          <p:nvPr/>
        </p:nvSpPr>
        <p:spPr>
          <a:xfrm>
            <a:off x="682560" y="4653000"/>
            <a:ext cx="7767720" cy="116928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=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ножество учеников 10 А класса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ножество учеников </a:t>
            </a:r>
            <a:r>
              <a:rPr b="0" lang="ru-RU" sz="2800" spc="-1" strike="noStrike">
                <a:solidFill>
                  <a:srgbClr val="ea157a"/>
                </a:solidFill>
                <a:latin typeface="Franklin Gothic Book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10 А класса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24" descr=""/>
          <p:cNvPicPr/>
          <p:nvPr/>
        </p:nvPicPr>
        <p:blipFill>
          <a:blip r:embed="rId4"/>
          <a:stretch/>
        </p:blipFill>
        <p:spPr>
          <a:xfrm>
            <a:off x="268200" y="255600"/>
            <a:ext cx="84978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611280" y="1197000"/>
            <a:ext cx="8032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2. Логическое умножение</a:t>
            </a: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 (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Конъюнкц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Franklin Gothic Book"/>
              </a:rPr>
              <a:t>Обозначение: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И,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&amp;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, 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684360" y="2565360"/>
          <a:ext cx="3214440" cy="2711520"/>
        </p:xfrm>
        <a:graphic>
          <a:graphicData uri="http://schemas.openxmlformats.org/drawingml/2006/table">
            <a:tbl>
              <a:tblPr/>
              <a:tblGrid>
                <a:gridCol w="928440"/>
                <a:gridCol w="1000080"/>
                <a:gridCol w="1285920"/>
              </a:tblGrid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Rectangle 24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97800" cy="119556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23"/>
          <p:cNvSpPr/>
          <p:nvPr/>
        </p:nvSpPr>
        <p:spPr>
          <a:xfrm>
            <a:off x="5651640" y="1484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Franklin Gothic Book"/>
              </a:rPr>
              <a:t>Диаграмма Эйлера-Ве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Дуга 26"/>
          <p:cNvSpPr/>
          <p:nvPr/>
        </p:nvSpPr>
        <p:spPr>
          <a:xfrm flipV="1" rot="20088600">
            <a:off x="6876720" y="3933720"/>
            <a:ext cx="287280" cy="71640"/>
          </a:xfrm>
          <a:custGeom>
            <a:avLst/>
            <a:gdLst>
              <a:gd name="textAreaLeft" fmla="*/ 143640 w 287280"/>
              <a:gd name="textAreaRight" fmla="*/ 287640 w 287280"/>
              <a:gd name="textAreaTop" fmla="*/ -360 h 71640"/>
              <a:gd name="textAreaBottom" fmla="*/ 35640 h 71640"/>
            </a:gdLst>
            <a:ahLst/>
            <a:rect l="textAreaLeft" t="textAreaTop" r="textAreaRight" b="textAreaBottom"/>
            <a:pathLst>
              <a:path stroke="0" w="287338" h="71438">
                <a:moveTo>
                  <a:pt x="143669" y="0"/>
                </a:moveTo>
                <a:lnTo>
                  <a:pt x="143669" y="0"/>
                </a:lnTo>
                <a:arcTo wR="143669" hR="35719" stAng="-5400000" swAng="5400000"/>
                <a:lnTo>
                  <a:pt x="143669" y="35719"/>
                </a:lnTo>
                <a:close/>
              </a:path>
              <a:path fill="none" w="287338" h="71438">
                <a:moveTo>
                  <a:pt x="143669" y="0"/>
                </a:moveTo>
                <a:lnTo>
                  <a:pt x="143669" y="0"/>
                </a:lnTo>
                <a:arcTo wR="143669" hR="35719" stAng="-5400000" swAng="5400000"/>
              </a:path>
            </a:pathLst>
          </a:custGeom>
          <a:noFill/>
          <a:ln w="1152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Группа 35"/>
          <p:cNvGrpSpPr/>
          <p:nvPr/>
        </p:nvGrpSpPr>
        <p:grpSpPr>
          <a:xfrm>
            <a:off x="5580000" y="2060640"/>
            <a:ext cx="2766960" cy="1936800"/>
            <a:chOff x="5580000" y="2060640"/>
            <a:chExt cx="2766960" cy="1936800"/>
          </a:xfrm>
        </p:grpSpPr>
        <p:sp>
          <p:nvSpPr>
            <p:cNvPr id="436" name="Oval 4"/>
            <p:cNvSpPr/>
            <p:nvPr/>
          </p:nvSpPr>
          <p:spPr>
            <a:xfrm>
              <a:off x="6406920" y="2060640"/>
              <a:ext cx="1940040" cy="193680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Franklin Gothic Boo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5"/>
            <p:cNvSpPr/>
            <p:nvPr/>
          </p:nvSpPr>
          <p:spPr>
            <a:xfrm>
              <a:off x="5580000" y="2060640"/>
              <a:ext cx="1940040" cy="193680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82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Franklin Gothic Book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"/>
            <p:cNvSpPr/>
            <p:nvPr/>
          </p:nvSpPr>
          <p:spPr>
            <a:xfrm>
              <a:off x="6430680" y="2143080"/>
              <a:ext cx="1112760" cy="1778040"/>
            </a:xfrm>
            <a:prstGeom prst="pie">
              <a:avLst/>
            </a:prstGeom>
            <a:solidFill>
              <a:srgbClr val="b4bcc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^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21"/>
          <p:cNvSpPr/>
          <p:nvPr/>
        </p:nvSpPr>
        <p:spPr>
          <a:xfrm>
            <a:off x="3924360" y="4076640"/>
            <a:ext cx="5219640" cy="202248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=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ножество обитателей моря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=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ножество млекопитающих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4067280" y="5516640"/>
            <a:ext cx="4897440" cy="9471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157a"/>
                </a:solidFill>
                <a:latin typeface="Franklin Gothic Book"/>
              </a:rPr>
              <a:t>F=A ^ B=</a:t>
            </a: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ea157a"/>
                </a:solidFill>
                <a:latin typeface="Franklin Gothic Book"/>
              </a:rPr>
              <a:t>{</a:t>
            </a: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кит, акула, дельфин</a:t>
            </a:r>
            <a:r>
              <a:rPr b="1" lang="en-US" sz="2800" spc="-1" strike="noStrike">
                <a:solidFill>
                  <a:srgbClr val="ea157a"/>
                </a:solidFill>
                <a:latin typeface="Franklin Gothic Book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31" descr=""/>
          <p:cNvPicPr/>
          <p:nvPr/>
        </p:nvPicPr>
        <p:blipFill>
          <a:blip r:embed="rId1"/>
          <a:stretch/>
        </p:blipFill>
        <p:spPr>
          <a:xfrm>
            <a:off x="255600" y="255600"/>
            <a:ext cx="889488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900000" y="2781360"/>
          <a:ext cx="3214800" cy="2711520"/>
        </p:xfrm>
        <a:graphic>
          <a:graphicData uri="http://schemas.openxmlformats.org/drawingml/2006/table">
            <a:tbl>
              <a:tblPr/>
              <a:tblGrid>
                <a:gridCol w="928800"/>
                <a:gridCol w="1000080"/>
                <a:gridCol w="1285920"/>
              </a:tblGrid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73a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3" name="Группа 26"/>
          <p:cNvGrpSpPr/>
          <p:nvPr/>
        </p:nvGrpSpPr>
        <p:grpSpPr>
          <a:xfrm>
            <a:off x="5580000" y="2492280"/>
            <a:ext cx="2766960" cy="1936800"/>
            <a:chOff x="5580000" y="2492280"/>
            <a:chExt cx="2766960" cy="1936800"/>
          </a:xfrm>
        </p:grpSpPr>
        <p:sp>
          <p:nvSpPr>
            <p:cNvPr id="444" name="Oval 4"/>
            <p:cNvSpPr/>
            <p:nvPr/>
          </p:nvSpPr>
          <p:spPr>
            <a:xfrm>
              <a:off x="6406920" y="2492280"/>
              <a:ext cx="1940040" cy="19368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5"/>
            <p:cNvSpPr/>
            <p:nvPr/>
          </p:nvSpPr>
          <p:spPr>
            <a:xfrm>
              <a:off x="5580000" y="2492280"/>
              <a:ext cx="1861200" cy="19368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Franklin Gothic Book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44"/>
          <p:cNvSpPr/>
          <p:nvPr/>
        </p:nvSpPr>
        <p:spPr>
          <a:xfrm>
            <a:off x="684360" y="1125360"/>
            <a:ext cx="7200720" cy="14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3. Логическое сложение (Дизъюнк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Franklin Gothic Book"/>
              </a:rPr>
              <a:t>Обозначение: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ИЛИ,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, +,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9"/>
          <p:cNvSpPr/>
          <p:nvPr/>
        </p:nvSpPr>
        <p:spPr>
          <a:xfrm>
            <a:off x="6516720" y="3141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 flipV="1" rot="10800000">
            <a:off x="4356000" y="4645800"/>
            <a:ext cx="4176720" cy="13341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=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ножество учеников 10 А класс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=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ножество учеников 10 Б класс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1"/>
          <p:cNvSpPr/>
          <p:nvPr/>
        </p:nvSpPr>
        <p:spPr>
          <a:xfrm>
            <a:off x="3708360" y="5589720"/>
            <a:ext cx="5111640" cy="947160"/>
          </a:xfrm>
          <a:prstGeom prst="rect">
            <a:avLst/>
          </a:prstGeom>
          <a:noFill/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157a"/>
                </a:solidFill>
                <a:latin typeface="Franklin Gothic Book"/>
              </a:rPr>
              <a:t>F=A V B=</a:t>
            </a: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ea157a"/>
                </a:solidFill>
                <a:latin typeface="Franklin Gothic Book"/>
              </a:rPr>
              <a:t>{</a:t>
            </a:r>
            <a:r>
              <a:rPr b="1" lang="ru-RU" sz="2800" spc="-1" strike="noStrike">
                <a:solidFill>
                  <a:srgbClr val="ea157a"/>
                </a:solidFill>
                <a:latin typeface="Franklin Gothic Book"/>
              </a:rPr>
              <a:t>Множество учеников 10А или 10Б кл.</a:t>
            </a:r>
            <a:r>
              <a:rPr b="1" lang="en-US" sz="2800" spc="-1" strike="noStrike">
                <a:solidFill>
                  <a:srgbClr val="ea157a"/>
                </a:solidFill>
                <a:latin typeface="Franklin Gothic Book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6:14:58Z</dcterms:created>
  <dc:creator>Наталия</dc:creator>
  <dc:description/>
  <dc:language>en-US</dc:language>
  <cp:lastModifiedBy>User</cp:lastModifiedBy>
  <dcterms:modified xsi:type="dcterms:W3CDTF">2015-01-12T16:45:35Z</dcterms:modified>
  <cp:revision>180</cp:revision>
  <dc:subject/>
  <dc:title>Основы логики</dc:title>
</cp:coreProperties>
</file>