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7.jpeg" ContentType="image/jpeg"/>
  <Override PartName="/ppt/media/image24.png" ContentType="image/pn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889-2B0B-4755-B592-27E25320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0FA-7017-4804-819F-D3F6B8CF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F05-0E99-4DAF-B2CA-0C14460B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F3B-B517-4349-8528-E3D9B306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2FEB-92E8-437F-8441-151A1907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1194-DD2F-46B7-9581-03355C98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BC91-4E33-460A-A513-B096EDF8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4264-C927-4E18-ABF2-5B44C81E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ED40-C627-4979-AEC6-AF96019A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4220-C081-4B66-B094-9E7B50F6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1116-B753-4B03-93C3-91D3E75C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1C5-81AF-40BB-83E8-6C142FD5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F9A6-AE54-4A91-9B71-D950E09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A60E-0A72-49EE-8732-83F982F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D26B-861B-4F72-9DB8-F2FE3656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F731-3A3B-406A-9FA4-E71DE971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8B9E-6C83-4154-B6D6-F057FD05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B8E6-69A3-4EED-89CE-65F9D34E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F92F9-7B1D-45C4-9FF9-CD12DB96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F897-A1A2-4372-955C-2CF165D8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C2A8-F889-44B6-8E9C-49577C4D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2A722-D182-43C8-B187-A7A40B5E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3FF-F018-4D8D-9D96-AB658602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5C50-9040-48BC-9900-9987039F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0934-4B32-4BFE-B8E0-5F5CB6E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63F8A-D35A-491B-9977-A30E9F14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8D0F-13A7-45D6-B3AA-FF739220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2105-7278-4B95-B373-5B1D3705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F53B7-F97D-42FD-881B-02018D62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45F35-D0B7-4995-9A56-8670B43D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26C94-FCFF-4644-952C-4F6BE8B2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FAB5-8F48-49FE-8CC5-37BD1DF5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8050-5A47-4378-A784-88A20500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22E-071F-46FA-ABC8-6D1A42AE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9F2EF-896E-4ED3-A71A-C6C80F04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9419-DC1F-4C25-948D-B81BB80C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8489-F6CA-4D04-84D9-4F689A89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C13B5-7670-4ED2-BBF9-5EB75EF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59573-285F-4419-82E8-6D9FC98B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7C8F-4BD7-4863-8BDA-4568AE60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76CD-F914-4C65-8C69-2EAB59FD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3E99-ED61-4EDE-820D-2FE26CC9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F5643-7EF3-4358-A316-EE133DC7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ED76-F924-4F02-A503-26E39880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690-56EE-432C-830B-D5D3BF5B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2F886-A8C4-4940-9BA4-3F4F9CAA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AC55A-08AB-4D06-BD6F-F0C1BDC8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4661F-4FE9-4CDE-A83A-939CE001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C0424-310F-44A6-BE25-E1FB022A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B4D1B-52FF-4A7F-8247-B1669872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961E4-F17B-48BB-9A85-F9DB137C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44B05-4BAC-44BE-AE5C-FD010072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5AD0D-CFD3-4FE5-96FD-C487925E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6B56D-CFE4-4465-9246-8A47A8BC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6DE2-F8AA-4DCC-B254-290D1B87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3ED-46A4-4584-BA88-4294E27C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C5A6-D4B0-4E54-8D7D-164C7711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949B7-2FD2-4011-8993-9190CE15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61872-7F06-4F72-8B93-5D2FF91A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B1EBA-28D0-47A4-9EAC-A56D76D4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1F2CD-DDC3-4500-9844-7BAC8CFE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D84CF-C617-4825-8D52-D9FA02BE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D4C6-E1A2-44FF-BB62-756CF799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BF152-A9A3-403D-A7F9-21324F85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1233F-6F0B-47AE-AC31-26450CA3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485CD-B197-4BF1-99B9-B1938B4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C1F-6362-49AB-8A26-4946FA7A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67230-DBA6-429A-A354-FFC297C5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D07BC-A281-481F-99C6-C13678A2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591A-C576-4698-BD01-0E1AFAC2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08B7E-7C97-4CF6-8E52-93B59243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DC3BF-01D7-47BB-95E1-271CE6D5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A3D7-B332-40F0-8A4F-942DB26A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9599F-60E7-4444-A16E-CD40A264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9469E-5466-43E4-9DE9-DDF32164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04CFF-0E59-451E-9D2F-4EE5437D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761F0-B929-4516-9F55-0EFAB439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F10-7D50-436B-B428-3F41A773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12BE4-4BBF-4B03-9D27-9EA1217F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F7AE9-B410-47EF-9091-5632D6C6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D2866-ACC8-4875-BAB3-4AFEE26F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C6661-B63E-4304-BF07-C15FB710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6D76B-01A5-48D1-8009-811AEF7D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661-052B-43AA-B755-309772EC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4861-939C-41D5-AE33-F45469C8398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AC99-7C57-4BE3-AC0D-B2FF43A4B397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C5C1-F1B5-440F-B68A-4B94CE65B4B3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BC5E-6446-4B26-99BB-5EFDABFC067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FAC4-F2D5-49A0-B66D-7730A99D685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2FC2-F969-472A-A938-DBDC0F75FC4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C8D5-56F0-406B-B298-BEFCFE61D80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jpeg"/><Relationship Id="rId3" Type="http://schemas.openxmlformats.org/officeDocument/2006/relationships/image" Target="../media/image23.jpeg"/><Relationship Id="rId4" Type="http://schemas.openxmlformats.org/officeDocument/2006/relationships/image" Target="../media/image27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8097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39680" y="0"/>
            <a:ext cx="9004320" cy="1487520"/>
          </a:xfrm>
          <a:prstGeom prst="rect">
            <a:avLst/>
          </a:prstGeom>
          <a:ln w="0">
            <a:noFill/>
          </a:ln>
        </p:spPr>
      </p:pic>
      <p:pic>
        <p:nvPicPr>
          <p:cNvPr id="325" name="Содержимое 3" descr="50_10.jpg"/>
          <p:cNvPicPr/>
          <p:nvPr/>
        </p:nvPicPr>
        <p:blipFill>
          <a:blip r:embed="rId2"/>
          <a:stretch/>
        </p:blipFill>
        <p:spPr>
          <a:xfrm>
            <a:off x="1357200" y="2214720"/>
            <a:ext cx="6110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639720" y="212760"/>
            <a:ext cx="8229600" cy="1171440"/>
          </a:xfrm>
          <a:prstGeom prst="rect">
            <a:avLst/>
          </a:prstGeom>
          <a:ln w="0">
            <a:noFill/>
          </a:ln>
        </p:spPr>
      </p:pic>
      <p:pic>
        <p:nvPicPr>
          <p:cNvPr id="327" name="Содержимое 3" descr="7203.jpg"/>
          <p:cNvPicPr/>
          <p:nvPr/>
        </p:nvPicPr>
        <p:blipFill>
          <a:blip r:embed="rId2"/>
          <a:stretch/>
        </p:blipFill>
        <p:spPr>
          <a:xfrm>
            <a:off x="285840" y="2013120"/>
            <a:ext cx="885816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3" descr="634563456.jpg"/>
          <p:cNvPicPr/>
          <p:nvPr/>
        </p:nvPicPr>
        <p:blipFill>
          <a:blip r:embed="rId2"/>
          <a:stretch/>
        </p:blipFill>
        <p:spPr>
          <a:xfrm>
            <a:off x="642960" y="2000160"/>
            <a:ext cx="792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1" name="Содержимое 3" descr="50_9.jpg"/>
          <p:cNvPicPr/>
          <p:nvPr/>
        </p:nvPicPr>
        <p:blipFill>
          <a:blip r:embed="rId2"/>
          <a:stretch/>
        </p:blipFill>
        <p:spPr>
          <a:xfrm>
            <a:off x="571680" y="1714680"/>
            <a:ext cx="73580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3" descr="50_9.jpg"/>
          <p:cNvPicPr/>
          <p:nvPr/>
        </p:nvPicPr>
        <p:blipFill>
          <a:blip r:embed="rId2"/>
          <a:stretch/>
        </p:blipFill>
        <p:spPr>
          <a:xfrm>
            <a:off x="0" y="1428840"/>
            <a:ext cx="4286160" cy="257184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3" descr="634563456.jpg"/>
          <p:cNvPicPr/>
          <p:nvPr/>
        </p:nvPicPr>
        <p:blipFill>
          <a:blip r:embed="rId3"/>
          <a:stretch/>
        </p:blipFill>
        <p:spPr>
          <a:xfrm>
            <a:off x="4286160" y="1428840"/>
            <a:ext cx="4857840" cy="2643120"/>
          </a:xfrm>
          <a:prstGeom prst="rect">
            <a:avLst/>
          </a:prstGeom>
          <a:ln w="0">
            <a:noFill/>
          </a:ln>
        </p:spPr>
      </p:pic>
      <p:pic>
        <p:nvPicPr>
          <p:cNvPr id="335" name="Содержимое 3" descr="674566876.jpg"/>
          <p:cNvPicPr/>
          <p:nvPr/>
        </p:nvPicPr>
        <p:blipFill>
          <a:blip r:embed="rId4"/>
          <a:stretch/>
        </p:blipFill>
        <p:spPr>
          <a:xfrm>
            <a:off x="0" y="3978360"/>
            <a:ext cx="4071960" cy="2879640"/>
          </a:xfrm>
          <a:prstGeom prst="rect">
            <a:avLst/>
          </a:prstGeom>
          <a:ln w="0">
            <a:noFill/>
          </a:ln>
        </p:spPr>
      </p:pic>
      <p:pic>
        <p:nvPicPr>
          <p:cNvPr id="336" name="Содержимое 3" descr="7203.jpg"/>
          <p:cNvPicPr/>
          <p:nvPr/>
        </p:nvPicPr>
        <p:blipFill>
          <a:blip r:embed="rId5"/>
          <a:stretch/>
        </p:blipFill>
        <p:spPr>
          <a:xfrm>
            <a:off x="3929040" y="4005360"/>
            <a:ext cx="5214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pic>
        <p:nvPicPr>
          <p:cNvPr id="306" name="Содержимое 4" descr="tumblr_kvqn59AAyh1qavvwg.jpg"/>
          <p:cNvPicPr/>
          <p:nvPr/>
        </p:nvPicPr>
        <p:blipFill>
          <a:blip r:embed="rId2"/>
          <a:stretch/>
        </p:blipFill>
        <p:spPr>
          <a:xfrm>
            <a:off x="357120" y="3429000"/>
            <a:ext cx="4260960" cy="2540160"/>
          </a:xfrm>
          <a:prstGeom prst="rect">
            <a:avLst/>
          </a:prstGeom>
          <a:ln w="0">
            <a:noFill/>
          </a:ln>
        </p:spPr>
      </p:pic>
      <p:pic>
        <p:nvPicPr>
          <p:cNvPr id="307" name="Содержимое 5" descr="19.JPG"/>
          <p:cNvPicPr/>
          <p:nvPr/>
        </p:nvPicPr>
        <p:blipFill>
          <a:blip r:embed="rId3"/>
          <a:stretch/>
        </p:blipFill>
        <p:spPr>
          <a:xfrm>
            <a:off x="4857840" y="22860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09" name="Содержимое 3" descr="33532.sam2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pic>
        <p:nvPicPr>
          <p:cNvPr id="311" name="Содержимое 4" descr="0_1ed9c_af42f9a8_XL.jpeg"/>
          <p:cNvPicPr/>
          <p:nvPr/>
        </p:nvPicPr>
        <p:blipFill>
          <a:blip r:embed="rId2"/>
          <a:stretch/>
        </p:blipFill>
        <p:spPr>
          <a:xfrm>
            <a:off x="785880" y="1428840"/>
            <a:ext cx="7643880" cy="5429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4" name="Содержимое 3" descr="23028.jpg"/>
          <p:cNvPicPr/>
          <p:nvPr/>
        </p:nvPicPr>
        <p:blipFill>
          <a:blip r:embed="rId2"/>
          <a:stretch/>
        </p:blipFill>
        <p:spPr>
          <a:xfrm>
            <a:off x="1000080" y="1446120"/>
            <a:ext cx="72151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3" descr="img_2314.jpg"/>
          <p:cNvPicPr/>
          <p:nvPr/>
        </p:nvPicPr>
        <p:blipFill>
          <a:blip r:embed="rId2"/>
          <a:stretch/>
        </p:blipFill>
        <p:spPr>
          <a:xfrm>
            <a:off x="928800" y="1428840"/>
            <a:ext cx="7370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8" name="Содержимое 6" descr="tec_2.jpg"/>
          <p:cNvPicPr/>
          <p:nvPr/>
        </p:nvPicPr>
        <p:blipFill>
          <a:blip r:embed="rId2"/>
          <a:stretch/>
        </p:blipFill>
        <p:spPr>
          <a:xfrm>
            <a:off x="0" y="1428840"/>
            <a:ext cx="4071960" cy="54291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Users\1\Desktop\Настя\Новая папка\267004318.jpg"/>
          <p:cNvPicPr/>
          <p:nvPr/>
        </p:nvPicPr>
        <p:blipFill>
          <a:blip r:embed="rId3"/>
          <a:stretch/>
        </p:blipFill>
        <p:spPr>
          <a:xfrm>
            <a:off x="4071960" y="235728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1" name="Содержимое 3" descr="1237978631_pivo1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3" name="Содержимое 3" descr="OZJGbJfIbq97t55qnBHoyRpXo1_500.jpg"/>
          <p:cNvPicPr/>
          <p:nvPr/>
        </p:nvPicPr>
        <p:blipFill>
          <a:blip r:embed="rId2"/>
          <a:stretch/>
        </p:blipFill>
        <p:spPr>
          <a:xfrm>
            <a:off x="714240" y="1428840"/>
            <a:ext cx="77155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45:44Z</dcterms:created>
  <dc:creator>Общая</dc:creator>
  <dc:description/>
  <dc:language>en-US</dc:language>
  <cp:lastModifiedBy>xxx</cp:lastModifiedBy>
  <dcterms:modified xsi:type="dcterms:W3CDTF">2015-01-11T22:12:34Z</dcterms:modified>
  <cp:revision>24</cp:revision>
  <dc:subject/>
  <dc:title>Health.</dc:title>
</cp:coreProperties>
</file>