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298-4EA6-4F97-B5AF-99DAC4CF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C27-B304-4513-8984-FFCE7AB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C49-03A2-4D9E-9F5C-D47C1FDB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369-DA8E-4705-8EBE-DE079D81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319-06C1-4339-9880-11A304A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E05-8468-47CA-AE2F-98BFAD0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C20-6E1B-401F-8624-643671B5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E12-83BD-4B6F-9662-A18DD2FB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C75-9DA9-4125-8F55-2B2D1ED8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53B-3EDE-4C9B-90D6-3B3F54F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914-8A92-4CBD-9FA9-ACA932A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A0D-5CAC-4E64-A08A-F6CD79BB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FBC6-EB11-4483-BE68-0AE6DAB81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c-dic.com/brokgause/Pari-65771.html" TargetMode="External"/><Relationship Id="rId2" Type="http://schemas.openxmlformats.org/officeDocument/2006/relationships/hyperlink" Target="http://enc-dic.com/brokgause/Pari-65771.html" TargetMode="External"/><Relationship Id="rId3" Type="http://schemas.openxmlformats.org/officeDocument/2006/relationships/hyperlink" Target="http://enc-dic.com/brokgause/Pari-65771.html" TargetMode="External"/><Relationship Id="rId4" Type="http://schemas.openxmlformats.org/officeDocument/2006/relationships/hyperlink" Target="http://enc-dic.com/brokgause/Pari-65771.html" TargetMode="External"/><Relationship Id="rId5" Type="http://schemas.openxmlformats.org/officeDocument/2006/relationships/hyperlink" Target="http://enc-dic.com/brokgause/Pari-65771.html" TargetMode="External"/><Relationship Id="rId6" Type="http://schemas.openxmlformats.org/officeDocument/2006/relationships/hyperlink" Target="http://www.classes.ru/all-russian/russian-dictionary-Ushakov-term-43831.ht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рок  русской литературы по рассказу  А.П.Чехова «Пари» (1889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857920"/>
            <a:ext cx="6415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-11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sl.btv.ru/Audio/AudioBooks/russkaya%20klassika/a.p.%20chehov/Antologiya%20rasskazov%20tt.1-8/Chehov-Pari/Chehov4/folder.jpg"/>
          <p:cNvPicPr/>
          <p:nvPr/>
        </p:nvPicPr>
        <p:blipFill>
          <a:blip r:embed="rId1"/>
          <a:stretch/>
        </p:blipFill>
        <p:spPr>
          <a:xfrm>
            <a:off x="3214800" y="1928880"/>
            <a:ext cx="257148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анкир и юрист в момент сп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7120" y="857160"/>
          <a:ext cx="8229600" cy="5703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к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с жизненным опы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ой человек, лет 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5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алованный, нервный,  не знавший счета своим миллионам, легкомысленный,  в восторге от удачно заключенного п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азартные биржевые игры, рискованно спекулирует,  горячий, бесстрашный, самонадеянный, гордый бог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ит деньги, алчный, готов променять свободу на день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5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мертной казни и пожизненному заклю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ет, что «смертная казнь нравственнее и гуманнее заключения. Казнь убивает сразу, а пожизненное заключение медленно»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 смертная казнь, и пожизненное заключение безнравственно, но если бы мне предложили выбрать между казнью и пожизненным заключением, то я, конечно, выбрал бы второе. Жить как-нибудь лучше, чем ника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тавит на 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 2 миллиона – пустя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бровольное заточение гораздо тяжелее обязательн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 своб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ение о том, чем закончится п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сть к юристу, снисхождение, уверенность в том, что тот не выдержит заклю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 срока заключения с 5 до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й палач человечне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т, который убивает вас за несколько минут?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т, который вытягивает из вас жизнь на протяжении многих 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halloween-mask.com/ru09/dark_deliverance_ru16705ih_l.jpg"/>
          <p:cNvPicPr/>
          <p:nvPr/>
        </p:nvPicPr>
        <p:blipFill>
          <a:blip r:embed="rId1"/>
          <a:stretch/>
        </p:blipFill>
        <p:spPr>
          <a:xfrm>
            <a:off x="785880" y="2071800"/>
            <a:ext cx="2343240" cy="312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st1.diets.ru/data/cache/2011aug/08/11/325263_38589-700x500.jpg"/>
          <p:cNvPicPr/>
          <p:nvPr/>
        </p:nvPicPr>
        <p:blipFill>
          <a:blip r:embed="rId2"/>
          <a:stretch/>
        </p:blipFill>
        <p:spPr>
          <a:xfrm>
            <a:off x="5500800" y="2428920"/>
            <a:ext cx="2790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акая еще точка зрения представлена в споре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Все безнравственно…, потому что имеет  одну и ту же цель – отнятие жизни. Государство не Бог. Оно не имеет права отнимать то, что не может вернуть, если захоче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g12.imageshost.ru/img/2011/02/20/image_4d617e9e93588.gif"/>
          <p:cNvPicPr/>
          <p:nvPr/>
        </p:nvPicPr>
        <p:blipFill>
          <a:blip r:embed="rId1"/>
          <a:stretch/>
        </p:blipFill>
        <p:spPr>
          <a:xfrm>
            <a:off x="2639880" y="3425760"/>
            <a:ext cx="3773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okru.ru/uploads/posts/2013-05/1369653600_38437422_85665_1.jpg"/>
          <p:cNvPicPr/>
          <p:nvPr/>
        </p:nvPicPr>
        <p:blipFill>
          <a:blip r:embed="rId1"/>
          <a:srcRect l="11427" t="0" r="11427" b="0"/>
          <a:stretch/>
        </p:blipFill>
        <p:spPr>
          <a:xfrm>
            <a:off x="3714840" y="3000240"/>
            <a:ext cx="1928880" cy="1762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словия догов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71760" y="2142720"/>
            <a:ext cx="25434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узыкальный инстру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ис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ить в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урить таб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00040" y="2071800"/>
            <a:ext cx="314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дзо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ходить за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ог флиге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саду банкир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идеть, слыш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юд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лучать письма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аз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715080" y="1143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1857240" y="12142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4077360" y="200016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Юри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8"/>
          <p:cNvSpPr/>
          <p:nvPr/>
        </p:nvSpPr>
        <p:spPr>
          <a:xfrm flipV="1" rot="10800000">
            <a:off x="3922560" y="535572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нк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низ 12"/>
          <p:cNvSpPr/>
          <p:nvPr/>
        </p:nvSpPr>
        <p:spPr>
          <a:xfrm flipH="1" flipV="1">
            <a:off x="4642560" y="4928400"/>
            <a:ext cx="71640" cy="4287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низ 13"/>
          <p:cNvSpPr/>
          <p:nvPr/>
        </p:nvSpPr>
        <p:spPr>
          <a:xfrm>
            <a:off x="4572000" y="2428920"/>
            <a:ext cx="46080" cy="35712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14"/>
          <p:cNvSpPr/>
          <p:nvPr/>
        </p:nvSpPr>
        <p:spPr>
          <a:xfrm>
            <a:off x="3214800" y="3714840"/>
            <a:ext cx="35712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15"/>
          <p:cNvSpPr/>
          <p:nvPr/>
        </p:nvSpPr>
        <p:spPr>
          <a:xfrm flipH="1" flipV="1">
            <a:off x="5786280" y="3642480"/>
            <a:ext cx="28584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рок за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00 14.11. 1870 – 12.00. 14.11.1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rskom.ru/images/Ok.resh3.jpg"/>
          <p:cNvPicPr/>
          <p:nvPr/>
        </p:nvPicPr>
        <p:blipFill>
          <a:blip r:embed="rId1"/>
          <a:stretch/>
        </p:blipFill>
        <p:spPr>
          <a:xfrm>
            <a:off x="2857680" y="2357280"/>
            <a:ext cx="2835000" cy="296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17840"/>
            <a:ext cx="61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добряете ли вы это пар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Годы заклю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2960" y="928800"/>
          <a:ext cx="8072280" cy="5203800"/>
        </p:xfrm>
        <a:graphic>
          <a:graphicData uri="http://schemas.openxmlformats.org/drawingml/2006/table">
            <a:tbl>
              <a:tblPr/>
              <a:tblGrid>
                <a:gridCol w="2286000"/>
                <a:gridCol w="1785960"/>
                <a:gridCol w="2000160"/>
                <a:gridCol w="200016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заклю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сли, чувства, ощу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ни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6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5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е два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ысли чувства юр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182600"/>
          <a:ext cx="8229600" cy="4135680"/>
        </p:xfrm>
        <a:graphic>
          <a:graphicData uri="http://schemas.openxmlformats.org/drawingml/2006/table">
            <a:tbl>
              <a:tblPr/>
              <a:tblGrid>
                <a:gridCol w="3043080"/>
                <a:gridCol w="518652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заклю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сли, чувства, ощу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дал от одиночества и скуки. Отказался от вина и табака, так как вино возбуждает желания, а это враги узника и нет ничего скучнее, как пить вино и никого не видеть. Табак же портит воздух. А таб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росил вина, ел, пил, лежал на постели, зевал, сердито разговаривал сам с собой. Не раз плака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6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л 6 языков в совершенстве, испытывал счастье от того, что может понимать гение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е дв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 себя как в море среди обломков корабля и, желая спасти себе жизнь, жадно хватался то за один обломок, то за друг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900000" y="1125360"/>
          <a:ext cx="7056720" cy="5259600"/>
        </p:xfrm>
        <a:graphic>
          <a:graphicData uri="http://schemas.openxmlformats.org/drawingml/2006/table">
            <a:tbl>
              <a:tblPr/>
              <a:tblGrid>
                <a:gridCol w="3962520"/>
                <a:gridCol w="30942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заклю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ышались звуки роял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 смолк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ышалась музы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6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е два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и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065240"/>
          <a:ext cx="8229600" cy="5230800"/>
        </p:xfrm>
        <a:graphic>
          <a:graphicData uri="http://schemas.openxmlformats.org/drawingml/2006/table">
            <a:tbl>
              <a:tblPr/>
              <a:tblGrid>
                <a:gridCol w="3745080"/>
                <a:gridCol w="44845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заклю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ни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ниги легкого содержания: романы со сложной любовной интригой, уголовные и фантастические рассказы, комедии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итал только классик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ниг не читал, но по ночам садился писать, писал долго и под утро разрывал все написанное на клочки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6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учал языки, философию, историю, науки, так что банкир не успевал выписывать книги (за 4 года прочел около 600 томов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итал Евангелие неподвижно целый год, историю религий и богослови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е два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итал без разбора (естественные науки, Байрон, Шекспир, химия, медицинский учебник, роман, философский или богословский трактат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анализируйте, как меняются увлечения юриста в течение 15 лет. Какой год можно считать переломным? Почему?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ая сторона жизни выходит для него на первый пла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Цел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познакомить с рассказом А.П.Чехова «Пари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раскрыть тему и идею произвед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продолжить обучение анализу художественного произвед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развивать умения разрешения проблемной ситуаци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развивать умение работать в группах и высказывать свою точку зр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воспитывать стремление к духовно-нравственному совершенствованию лич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Характеристика  банкира спустя 15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19280" y="1197000"/>
          <a:ext cx="5616720" cy="4776840"/>
        </p:xfrm>
        <a:graphic>
          <a:graphicData uri="http://schemas.openxmlformats.org/drawingml/2006/table">
            <a:tbl>
              <a:tblPr/>
              <a:tblGrid>
                <a:gridCol w="1873080"/>
                <a:gridCol w="3743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нк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ы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нкир средней руки, трепещет при всяком повышении или понижении бума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ш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м занят в последнюю ночь перед окончанием срока пар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и было прихотью сытого миллионера. Думает, что «должен заплатить 2 миллиона. … все погибло: я окончательно разорен». Не знал, чего у него больше – денег или долгов? Мысли о необходимости убийства юриста (1 грех), отведение подозрения от себя на сторожа (2 грех), подозревает юриста в алчности «видит во сне миллионы» (3 грех). Вновь мысль о возможности лишения человека жизни другим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Характеристика   юриста спустя 15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47640" y="1628640"/>
          <a:ext cx="7128000" cy="3816360"/>
        </p:xfrm>
        <a:graphic>
          <a:graphicData uri="http://schemas.openxmlformats.org/drawingml/2006/table">
            <a:tbl>
              <a:tblPr/>
              <a:tblGrid>
                <a:gridCol w="2386080"/>
                <a:gridCol w="4741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л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столе, на двух креслах, на ковре, возле стола, лежали раскрытые книг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ш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ился сидеть неподвижно, не похож на обыкновенных людей, скелет, обтянутый кожей, длинные женские кудри, косматая борода, цвет лица желтый с землистым оттенком, щеки впалые, спина длинная и узкая, рука тонка и худа, в волосах седина, старчески изможденное лиц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м занят в последнюю ночь перед окончанием срока пар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т сидя, спокой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980000" y="5659920"/>
            <a:ext cx="58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Какие изменения произошли в героях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ва пис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1 письмо «Дорогой мой тюремщик!» (6 год заключ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Что звучит в этом письм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иро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Какие земные качества еще звучат в юрист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Просьба о выстреле в саду, если его признают владеющим в совершенстве 6 языками. Стремление к тщеславию, признанию себя равным гения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2 письмо «Завтра в 12 часов я получаю свободу…» (накануне освобожд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Что звучит в письме сейча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отказ от земных благ, страс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Какие важные философские и нравственные  категории проявляютс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Совесть, Бог, мудрость, которую дали «ВАШИ КНИГИ». В то же время осознание своего превосходства по уму, презрение к свободе, жизни, здоровью, земным благам. Всё мираж, призрак.  Все смертны.  Все путают правду – ложь, красоту-безобрази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27280" y="4941720"/>
            <a:ext cx="2112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980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то дали годы заключения юристу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зошло ли что-то в сознании банкира? Изменил ли он свое отношение к юристу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то, по-вашему, выиграл пар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ром ли прошли годы заключения?  Только ли для юриста стали они полезны?  Вред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ую оценку сделали сами герои, судя по концу расска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ет ли однозначный ответ спору сам автор, А.П.Чех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Жизненный путь банк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2881080" cy="208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1080" y="17733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ренный хозяин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782520" y="2133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нь – лучш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013080" y="256536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ание доказ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н пр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165440" y="32130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арт, ри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797800" y="37893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нкрот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924720" y="42926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ание смерти юри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919240" y="4797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пытка поку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189440" y="5300640"/>
            <a:ext cx="2442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ховное обнищ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828360" y="57340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98900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4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314172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80360" y="3645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659280" y="422100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48360" y="4724280"/>
            <a:ext cx="503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08360" y="522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763640" y="57340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Жизненный путь  юр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901080" y="623736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одой,  желание дене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259280" y="5734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, но жиз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477440" y="53006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7973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ение книг и изучение язы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972720" y="43657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ое стар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12360" y="386064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етение духовн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1333440" y="33577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аз от дене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044000" y="2205000"/>
            <a:ext cx="267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рение ко всем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щущение бренности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сти бы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764360" y="1341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6165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5229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4292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3284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20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1036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бразы-символ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535560" cy="2649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4587" t="2690" r="12661" b="3822"/>
          <a:stretch/>
        </p:blipFill>
        <p:spPr>
          <a:xfrm>
            <a:off x="6156360" y="907920"/>
            <a:ext cx="1990800" cy="3052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036960" cy="2278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073320" cy="2306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3218040" cy="2415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79080" y="1000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ч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4143240" y="213372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ёмная комн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145640" y="34480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м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14160" y="609300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жжённая  спи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974160" y="630864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ухшая спи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сновная ид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можно определить основную идею произведени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лавный вопрос заключается не в том, кто выиграл пари или проиграл, а в вопросе о назначении человека в этом мире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ли дать однозначный  ответ на проблемный вопрос, поставленный в нача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ли сказать, что аскетичный образ жизни возвышает челове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же юрист отрицает всех и вся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чьей стороне вы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илось ли ваше мнение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истинное назначение человек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сегодня решается вопрос о смертной казни и пожизненном заключении в нашей стране? В мир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3516" t="20428" r="3667" b="11691"/>
          <a:stretch/>
        </p:blipFill>
        <p:spPr>
          <a:xfrm>
            <a:off x="3564000" y="3097080"/>
            <a:ext cx="4248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исьменная творческая работа «В этом пари я на стороне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исьменная творческая работа «Я выступаю за смертную казнь, потому что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исьменная творческая работа «Я выступаю за  пожизненное заключение, потому что…»           (с опорой на высказывания,  статьи известных людей нашего времени и  предшественников о вопросе смертной казн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2016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Любите ли вы спорить? О чё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Татьяна\Downloads\spor3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циклопедия Брокгауза и Ефрона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nc-dic.com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brokgause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Pari-6577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рь Ушакова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classes.ru/all-russian/russian-dictionary-Ushakov-term-43831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инки на Яндекс. http://images.yandex.ru/yandsearch?text=картин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П.Чехов. Сборник рассказов. – М.: Просвещение, 198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ПАРИ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фр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люченное между двумя спорящими условие, по которому проигравший должен выполнить какое-н. обязательство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, по которому каждая из сторон, его заключающих, обязывается уплатить в пользу другой определенную сумму денег, передать вещь или совершить известное действие, если окажется правильным утверждение другой стороны относительно наступления или не наступления определенного, но неизвестного пока сторонам события.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Энциклопедический словарь Ф.А. Брокгауза и И.А. Ефро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люченное между двумя спорящими лицами условие о каком-н. обязательстве, падающем на того из них, кто окажется неправым. держать пари (заключать такое условие, биться об заклад). 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Толковый словарь Ушаков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42880" y="1500120"/>
            <a:ext cx="45435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синонимы можете подобрать к  слову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па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Как вам кажется, в чем будет заключаться пари в рассказ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4.bp.blogspot.com/-rmao-LveGwI/TfF_NeBjppI/AAAAAAAAAc0/q0vir34ev6k/s1600/4999.jpg"/>
          <p:cNvPicPr/>
          <p:nvPr/>
        </p:nvPicPr>
        <p:blipFill>
          <a:blip r:embed="rId1"/>
          <a:stretch/>
        </p:blipFill>
        <p:spPr>
          <a:xfrm>
            <a:off x="500040" y="1143000"/>
            <a:ext cx="35211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Чтение 1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57800" y="157176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Запишите ваши первые впечат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Какие вопросы вы задаете себе после  чтения начала рассказ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Возникал ли когда-нибудь подобный спор между вами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Какое окончание рассказа вы ожидает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gifok.net/images/2013/03/16/FIZCu.jpg"/>
          <p:cNvPicPr/>
          <p:nvPr/>
        </p:nvPicPr>
        <p:blipFill>
          <a:blip r:embed="rId1"/>
          <a:stretch/>
        </p:blipFill>
        <p:spPr>
          <a:xfrm>
            <a:off x="582480" y="1643040"/>
            <a:ext cx="3451320" cy="3646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143000" y="2071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 думаю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Чтение 2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3880" y="1428840"/>
            <a:ext cx="38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апишите ваши ощущения после прочтения 2 половины рассказ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Совпадает ли окончание рассказа с вашими представления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ожидан ли для вас конец рассказ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marista.edu.br/diocesano/files/2010/03/20.jpg"/>
          <p:cNvPicPr/>
          <p:nvPr/>
        </p:nvPicPr>
        <p:blipFill>
          <a:blip r:embed="rId1"/>
          <a:stretch/>
        </p:blipFill>
        <p:spPr>
          <a:xfrm>
            <a:off x="5214960" y="1571760"/>
            <a:ext cx="29289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288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В каких условиях происходят события произведени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Кто является главным героем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Почему Чехов называет героев по их профессии и не упоминает имен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Что послужило толчком к развитию  создавшейся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С помощью каких приемов характеризует своих героев писатель? (прямая          характеристика, их   реплик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iki.iteach.ru/images/4/4e/Socialr9.jpg"/>
          <p:cNvPicPr/>
          <p:nvPr/>
        </p:nvPicPr>
        <p:blipFill>
          <a:blip r:embed="rId1"/>
          <a:stretch/>
        </p:blipFill>
        <p:spPr>
          <a:xfrm>
            <a:off x="357120" y="1928880"/>
            <a:ext cx="3386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анкир и юрист в момент сп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8760" y="928800"/>
          <a:ext cx="8229600" cy="55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к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5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мертной казни и пожизненному заклю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тавит на 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ение о том, чем закончится п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04:25:55Z</dcterms:created>
  <dc:creator>Татьяна</dc:creator>
  <dc:description/>
  <dc:language>en-US</dc:language>
  <cp:lastModifiedBy>1</cp:lastModifiedBy>
  <dcterms:modified xsi:type="dcterms:W3CDTF">2015-01-12T14:47:11Z</dcterms:modified>
  <cp:revision>70</cp:revision>
  <dc:subject/>
  <dc:title>Урок по русской литературе по рассказу  А.П.Чехова «Пари» (1889)  </dc:title>
</cp:coreProperties>
</file>