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25E-E53B-447C-8C6E-F734F1ED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576-9BC6-4702-A035-78F3E306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507-E405-40F3-A760-C0E31742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F91-FB61-418C-B19A-6CFCDD23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90A-D6C4-44DF-ACE6-EFA64B4A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DE5-7807-4209-B27C-306F0721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5D1-52BD-4747-9D78-08C6E387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CEC-2BB7-4596-A250-5589F17E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DBC-D872-4B45-90CA-AADF231C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F04-C6C2-4BD8-9E9A-C61F91B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877-1257-4E6F-937F-5AF3B50F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3CE-1DA4-4988-8A28-95B52C97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7264-51A8-42B9-BC1C-67C52D4C1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6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ст по драме А.Н.Островского «Гроз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88000" y="645336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брамова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60280"/>
            <a:ext cx="9325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 какой целью Дикой приходит к Кабаних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)поговорить о жизн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)обсудить дела в город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)послушать Феклуш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Где происходит свидание Катерины и Бори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)в сад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)в овраг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)на высоком берегу Волг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 чем идет разговор между Кулигиным и Диким на бульваре ( 4-е действи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о получении Кулигиным денег за рабо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о сооружении громоотв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о благоустройстве общественного са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о сооружении солнечных ча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какой последовательности происходят события, предшествующие публичному раскаянию Катер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появление сумасшедшей бары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Тихон говорит: « Катя, кайся, брат, лучше, коли в чем грешна. Ведь от меня не скроешься, не, шалишь! Все знаю!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«Борис выходит из толпы и раскланивается с Кабановым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2-й говорит: « Уж ты помяни моё слово, что эта гроза даром не пройдет! Верно тебе говорю: потом знаю. Либо уж убьет кого-нибудь, либо дом сгорит; вот увидишь: потому, смотри, какой свет необыкновенный!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)Катерина видит картину Страшного суда, изображенную на стене галереи, и восклицает: « Ах! Ад! Ад! Геенна огненна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8900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герои представлены в последней сцене дра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)Кулигин;                         2)  Кабанов;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Кабаниха;                       3) Борис ;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Варвара ;                        6)    Д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му принадлежат слова: « Вот вам ваша Катерина. Делайте с ней, что хотите! Тело ее здесь, возьмите его; а душа теперь не ваша: она теперь перед судией, который милосерднее вас!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)Тихо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)Бори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)Кулиг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0792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ие пьесы разворачивается 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Моск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волжском го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городе на берегу 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е пьесы открывается русской народной пес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«Из-за острова на стрежень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«Среди долины ровныя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«Лучинуш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0464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у принадлежат следующие репл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«Восторг!.. Пригляделись вы, либо не понимаете, какая красота в природе разлит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«Бла - алепие, милая, бла - алепие! Красота дивная! Да что уж говорить! В обетованной земле живете! И купечество все народ благочестивый, добродетелями многими украшенный!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« Я жила, ни об чем не тужила, точно птичка на воле…Встану я, бывало, рано; коли летом, так схожу на ключок, умоюсь, принесу  с собой водицы и все, все цветы в доме полью. У меня цветов было много, мно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Кудря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Кули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Фекл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Кате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Кабан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ханик, самоучка механ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,- 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нтик, хим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Кудря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Бор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Кули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206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1) « Пронзительный мужик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« Ни за что человека оборвет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« Как с цепи сорвался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 « Унять-то его некому, вот он и воюет»,-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ворят о Д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Кудря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Шап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Кулиг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ть Бориса был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)дворя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купеческой до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)меща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1628640"/>
            <a:ext cx="43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336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«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 на меня как-то дико смотрят, точно я здесь лишний, точно мешаю им. Обычаев я здешних не знаю. Я понимая, что все это наше русское, родное, а все-таки не привыкну никак». Эти слова принадлеж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)Бори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)Шапки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)Кулигину.                                                                                                 8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х поэтов особо почитает Кулиг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)Пушкина и Лермонт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)Рылеева и Радище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)Ломоносова и Держав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1773360"/>
            <a:ext cx="33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112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-м действии Катерина в разговоре с Варварой рассказывает 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)своей любви к Бори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)своей жизни в доме мате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)своей тяжелой жизни в доме Кабан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ому принадлежат следующие реплики, сказанные в ответ на страшные пророчества барыни ( в 1-м действи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)«Вздор все. Очень нужно слушать, что она городи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)«Ах, как она меня испугала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Варв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Катер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ьи реплики сопровождают ремарки авто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)«передразнивая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)«зажмуриваясь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)« с ужасом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Катер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Варва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еклуша рассказывает о странах, в которых правят « салтаны Махнут турецкий и Махнут персидский» и живут люди с песьими голов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)Гла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)Варв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)Кабани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й грех видит за собой Фекл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)сплетни и нав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)чревоугод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)празд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то из героинь рассказывает следующую историю: «Такая уж я зародилась, горячая! Я ещё лет шести была, не больше, так что сделала! Обидели меня чем-то, а дело было к вечеру, уж темно; я выбежала на Волгу, села в лодку и отпихнула её от берега. На другое утро уж нашли, верст за десять!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)Вар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)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)Гл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2421000"/>
            <a:ext cx="46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Феклуше в поездах железных дорог види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)огненный зм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)красный ко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 точки зрения Феклуши, женщины в Москве все худые потому,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)следят за своей фигурой и мало едя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)много ходят пешко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)одержимы нечистой сил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4:51:12Z</dcterms:created>
  <dc:creator>ррр</dc:creator>
  <dc:description/>
  <dc:language>en-US</dc:language>
  <cp:lastModifiedBy>ррр</cp:lastModifiedBy>
  <dcterms:modified xsi:type="dcterms:W3CDTF">2011-11-24T17:27:51Z</dcterms:modified>
  <cp:revision>2</cp:revision>
  <dc:subject/>
  <dc:title>Слайд 1</dc:title>
</cp:coreProperties>
</file>