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CC16-F1BC-4DD6-A02C-C4DF92B0A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C418-A183-4E09-AD71-11216BC45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424-69C5-4AB2-ABB7-CC8E6B66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8B2-A658-48B5-9EEE-442715C8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425-5AB9-4705-B0FB-F1D04D58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1E3-B44A-4CC0-885A-BF73F949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3E1-686D-44A7-AC6E-EA5FFBC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7EC-EBC8-40A8-8481-39B434EE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326-35B3-4AAB-9B9B-F89F259C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3A4-CA94-4442-A0B1-B48D6B0B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DF6-231C-4B95-8497-064D0EE5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FB3-FD45-4EAE-B627-9A2F2312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8ED-979D-4178-91CE-4EC08CA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408-2F08-458D-9289-604B9F3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B551-C429-4D54-920F-3F8E84F17B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000000"/>
                </a:solidFill>
                <a:latin typeface="Monotype Corsiva"/>
              </a:rPr>
              <a:t>Науки разные нужны,</a:t>
            </a:r>
            <a:br>
              <a:rPr sz="8600"/>
            </a:br>
            <a:r>
              <a:rPr b="1" lang="ru-RU" sz="8600" spc="-1" strike="noStrike">
                <a:solidFill>
                  <a:srgbClr val="000000"/>
                </a:solidFill>
                <a:latin typeface="Monotype Corsiva"/>
              </a:rPr>
              <a:t> науки всякие важны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4. Лепидоптеролог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42600" y="1785960"/>
            <a:ext cx="80722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ука о виноградарстве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ука о бабочк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ука, изучающая особенности почерка леворуких людей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. Геотектоник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Учение  о строении земной коры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наука, изучающая горные породы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Учение о рельефе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.Палеонтолог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ние о свойствах климата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ка о водоросля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ка о вымерших организмах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.Петрограф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ние об архитектуре С-Петербурга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ка, изучающая горные породы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ние о графике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.Геохронолог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Изучает возраст, продолжительность, последовательность формирования горных пород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Изучает этапы жизни организмов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Наука, изучающая время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.Геодезия -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ние о графике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ка об определении формы и размеров Земли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ка, изучающая наскальные рисунк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49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. Демограф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ука, изучающая особенности почерка праворуких  людей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Наука о закономерностях воспроизводства населения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Наука о рельефе земной поверх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.Клеоптеролог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ука об осадочных пород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ука  о жук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  Учение о Вселенной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.Краниолог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 Раздел зоологии, изучающий муравьёв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 Раздел зоологии, изучающий млекопитающих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Изучение вариаций размеров и формы череп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.Энтомолог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Наука, изучающая насекомы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Наука, изучающая горные породы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Наука об осадочных породах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.Альгология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13880" y="2071440"/>
            <a:ext cx="7929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ботаники, изучающий водоросли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медицины, изучающий болезни гортани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ука о рельефе земной поверх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85840" y="235728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ка  о растениях засушливых мест обит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ка  о шифрова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ка о  горных пород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143000" y="1000080"/>
            <a:ext cx="66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. Криптография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6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.Кинетика- это разде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857240"/>
            <a:ext cx="77724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ки о перестановке файлов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рганической химии о скорости химической реакции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еографии о материках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. Акустика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57240"/>
            <a:ext cx="7129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ука о кактус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)  Наука о звук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)  Раздел географи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7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. Лихенология-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ука о природе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ука о  химических      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евращения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.   Наука о лишайниках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75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75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ПОЛУФИНАЛ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79120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наны – растение тропиков. Это дерево, пальма, кустарник или тра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76560" y="5105520"/>
            <a:ext cx="37335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Гигантская многолетняя трава до 15 м. высот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9" name="Picture 4" descr="Банан"/>
          <p:cNvPicPr/>
          <p:nvPr/>
        </p:nvPicPr>
        <p:blipFill>
          <a:blip r:embed="rId1"/>
          <a:stretch/>
        </p:blipFill>
        <p:spPr>
          <a:xfrm>
            <a:off x="609480" y="2286000"/>
            <a:ext cx="4038840" cy="3281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Ьан трава"/>
          <p:cNvPicPr/>
          <p:nvPr/>
        </p:nvPicPr>
        <p:blipFill>
          <a:blip r:embed="rId2"/>
          <a:stretch/>
        </p:blipFill>
        <p:spPr>
          <a:xfrm>
            <a:off x="5105520" y="2514600"/>
            <a:ext cx="31813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де созревает арахис: на деревьях, на кустарниках, на земле. Как еще называют эти орех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29000" y="5285880"/>
            <a:ext cx="556272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озревает на земле; это однолетнее бобовое растение; родина полупустыни Южной Америки. Второе название – земляной оре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3" name="Picture 4" descr="Арахис 1"/>
          <p:cNvPicPr/>
          <p:nvPr/>
        </p:nvPicPr>
        <p:blipFill>
          <a:blip r:embed="rId1"/>
          <a:stretch/>
        </p:blipFill>
        <p:spPr>
          <a:xfrm>
            <a:off x="380880" y="2286000"/>
            <a:ext cx="3048120" cy="2568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арахис"/>
          <p:cNvPicPr/>
          <p:nvPr/>
        </p:nvPicPr>
        <p:blipFill>
          <a:blip r:embed="rId2"/>
          <a:stretch/>
        </p:blipFill>
        <p:spPr>
          <a:xfrm>
            <a:off x="5143680" y="2428920"/>
            <a:ext cx="3427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родину киви. Почему эти плоды так назвал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4206960"/>
            <a:ext cx="868680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Это растение было открыто 750 лет назад в Китае. Научное название «антинидия китайская». В 1906 г. антинидия китайская была успешно введена в культуру Новой Зеландии, которая до сих пор является культурным экспортером этих фруктов. Местные экспортеры за отдельное сходство его плодов с живой эмблемой страны – птицей киви – дали аналогичное название и «волосатовидному плоду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7" name="Picture 4" descr="Киви"/>
          <p:cNvPicPr/>
          <p:nvPr/>
        </p:nvPicPr>
        <p:blipFill>
          <a:blip r:embed="rId1"/>
          <a:stretch/>
        </p:blipFill>
        <p:spPr>
          <a:xfrm>
            <a:off x="533520" y="1600200"/>
            <a:ext cx="3817800" cy="251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Киви-птица"/>
          <p:cNvPicPr/>
          <p:nvPr/>
        </p:nvPicPr>
        <p:blipFill>
          <a:blip r:embed="rId2"/>
          <a:stretch/>
        </p:blipFill>
        <p:spPr>
          <a:xfrm>
            <a:off x="4572000" y="1571760"/>
            <a:ext cx="39625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иники – это плоды финиковой пальмы. Она любит, чтобы «ноги были в воде, а голова в огне». В какой природной зоне растет фини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29200" y="5028840"/>
            <a:ext cx="3657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азис тропических пустын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1" name="Picture 5" descr="Фин пальма"/>
          <p:cNvPicPr/>
          <p:nvPr/>
        </p:nvPicPr>
        <p:blipFill>
          <a:blip r:embed="rId1"/>
          <a:stretch/>
        </p:blipFill>
        <p:spPr>
          <a:xfrm>
            <a:off x="5335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. Десмург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1928520"/>
            <a:ext cx="7500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мифологии, изучающий сказания и легенды о бог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синоптики о прогнозах, связанных с перемещением воздушных потоков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хирургии о наложении повязок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зовите родину подсолнечник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85920" y="5600520"/>
            <a:ext cx="23576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Америк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4" name="Picture 4" descr="Подсолнечник"/>
          <p:cNvPicPr/>
          <p:nvPr/>
        </p:nvPicPr>
        <p:blipFill>
          <a:blip r:embed="rId1"/>
          <a:stretch/>
        </p:blipFill>
        <p:spPr>
          <a:xfrm>
            <a:off x="1600200" y="1523880"/>
            <a:ext cx="3057480" cy="407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All Users\Документы\Мои рисунки\баобаб 002.jpg"/>
          <p:cNvPicPr/>
          <p:nvPr/>
        </p:nvPicPr>
        <p:blipFill>
          <a:blip r:embed="rId2"/>
          <a:stretch/>
        </p:blipFill>
        <p:spPr>
          <a:xfrm>
            <a:off x="5786280" y="1623960"/>
            <a:ext cx="19288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веты какого африканского гиганта опыляют не насекомые, а летучие мыши. Поче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785760" y="2643120"/>
            <a:ext cx="5072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Цветы баобаба распускаются на закате, а к утру уже увядают, поэтому их опыляют летучие мыши, которые ночью не спя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8" name="Picture 2" descr="C:\Documents and Settings\All Users\Документы\Мои рисунки\баобаб.jpg"/>
          <p:cNvPicPr/>
          <p:nvPr/>
        </p:nvPicPr>
        <p:blipFill>
          <a:blip r:embed="rId1"/>
          <a:stretch/>
        </p:blipFill>
        <p:spPr>
          <a:xfrm>
            <a:off x="285840" y="2070000"/>
            <a:ext cx="3500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 этой жидкости в организме человека  воды содержится 90%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240" y="4357800"/>
            <a:ext cx="7086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овь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мпатичный зверек – официальный символ Кана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214960" y="4500360"/>
            <a:ext cx="25574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Бобр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3" name="Picture 2" descr="C:\Documents and Settings\All Users\Документы\Мои рисунки\баобаб 001.jpg"/>
          <p:cNvPicPr/>
          <p:nvPr/>
        </p:nvPicPr>
        <p:blipFill>
          <a:blip r:embed="rId1"/>
          <a:stretch/>
        </p:blipFill>
        <p:spPr>
          <a:xfrm>
            <a:off x="685800" y="2124000"/>
            <a:ext cx="4529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охимики шутят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«Жизнь – это одушевленная вода». А сколько воды в организме челове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57520" y="4928760"/>
            <a:ext cx="241452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65-75%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000080" y="3800520"/>
            <a:ext cx="30956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ибольшую площадь среди хвойных лесов на территории России занимают леса  с преобладанием каких деревье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3080" y="3346200"/>
            <a:ext cx="331488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Лиственниц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9" name="Picture 2" descr="D:\Мои документы\Мои рисунки\Larix[1].jpg"/>
          <p:cNvPicPr/>
          <p:nvPr/>
        </p:nvPicPr>
        <p:blipFill>
          <a:blip r:embed="rId1"/>
          <a:stretch/>
        </p:blipFill>
        <p:spPr>
          <a:xfrm>
            <a:off x="685800" y="3346560"/>
            <a:ext cx="2357280" cy="33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Мои документы\Мои рисунки\78bbd88858bba5cdaeca283b35d9fdc6_600[2].jpg"/>
          <p:cNvPicPr/>
          <p:nvPr/>
        </p:nvPicPr>
        <p:blipFill>
          <a:blip r:embed="rId2"/>
          <a:stretch/>
        </p:blipFill>
        <p:spPr>
          <a:xfrm>
            <a:off x="6072120" y="4546440"/>
            <a:ext cx="28576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b0f0"/>
                </a:solidFill>
                <a:latin typeface="Monotype Corsiva"/>
              </a:rPr>
              <a:t>МОЛОДЕЦ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. Малаколог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71680" y="2071440"/>
            <a:ext cx="78580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1) Раздел зоологии, изучающий муравьёв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2) Раздел зоологии, изучающий млекопитающи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3) Раздел зоологии, изучающий моллюсков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38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4. Родолог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28400" y="1857240"/>
            <a:ext cx="83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биологии, описывающий механизмы размножения млекопитающи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ботаники, изучающий розы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Историческая дисциплина, занимающаяся изучением и описанием дворянских титулов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. Миколог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2152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ботаники о гриб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зоологии об одноклеточных организм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анатомии о мышцах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.Аретолог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0160" y="1571400"/>
            <a:ext cx="821520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дел экологии, изучающий, как растения и животные реагируют на негативные факторы окружающей среды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дел медицины, изучающий влияние изменения биоритмов на сон человека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дел этики, изучающий добродетел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. Лимнолог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57120" y="150012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асть оптики, изучающая преломление света через кристаллы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ука об озёр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дел медицины, изучающий болезни кров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. Селенодез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- э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0040" y="1714320"/>
            <a:ext cx="7786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исциплина, изучающая фигуру и размеры Луны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ука об осадочных породах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ука об оболочке Земл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1646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2:18:17Z</dcterms:created>
  <dc:creator>Учитель</dc:creator>
  <dc:description/>
  <dc:language>en-US</dc:language>
  <cp:lastModifiedBy>User</cp:lastModifiedBy>
  <dcterms:modified xsi:type="dcterms:W3CDTF">2010-11-24T21:21:49Z</dcterms:modified>
  <cp:revision>40</cp:revision>
  <dc:subject/>
  <dc:title>Слайд 1</dc:title>
</cp:coreProperties>
</file>