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60FE-581F-47E9-8D04-1CBCB61C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88C5-9E60-4C48-B290-1ED63009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4285-3BD2-4D12-BC0B-08F1874E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C935-3ECB-48A2-BBAE-877091E3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EA88-8B19-482A-A46F-A34CBE92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4367-EC95-4289-B0DE-357613A9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5BD6-A7AD-4682-8C32-1AD24749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B6F8-F0EA-4AB3-A4C7-DB63FA9D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350C-2CED-48D9-9844-432C1726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58A8-CB60-498D-ADDB-C0217480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DE16-314C-4718-A94F-9F8B7983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2A0A-86BD-42CE-AC16-B1D05911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A690-5E5D-4A45-91A6-C9E7E86B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329D-09DE-48A6-B83E-50137C38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1FCE-89BA-4D64-9216-9A2D00BF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9097-5CCC-47DB-9277-B5131CCE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B665-9951-48AF-AC76-7DBBDC7D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CE4-9F86-4758-A97A-76FBA569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17E-BFEE-49D0-B159-A4E5D1F5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12EB-FA7A-45F8-AA70-ABDA7995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0F0-0FA8-4602-8B59-046F8C5E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C8FF-A14B-4C15-A20C-B25F95A4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8CAC-BF2E-4334-AE21-99B8088B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8396-163C-4A26-8617-150C429F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A744-EC10-439F-BEEE-8AE1E52F9D4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9B39-309A-4506-9122-626D3305E00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574040" cy="68929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Из истории Валенка!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Работу выполнила воспитатель подготовительной группы Ярославцева Светлана Викторов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такое вален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знакомиться с историей валено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ссмотреть положительное влияние валенок на здоровье челове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Comic Sans MS"/>
              </a:rPr>
              <a:t>ВАЛЕНК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92360" y="3860640"/>
            <a:ext cx="201456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340000" y="2205000"/>
            <a:ext cx="4319640" cy="4044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518800" y="1989000"/>
            <a:ext cx="32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Любят русские зим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 стужу валенки нос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Мы ж из валенок реш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Чудо - сказку сотвор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Что такое валенки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аленки – удобная и целебная обувь. В валенках не страшны самые лютые морозы. Чистая овечья шерсть, свалянная тёплыми руками мастера, даёт человеку силу и душевный покой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стория вален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В России же валенки приобрели широкое распространение лишь в первой половине XIX века, когда их начали изготовлять промышленным способом. До этого они были достаточно дороги и их могли себе позволить довольно зажиточные люд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10160" y="2243160"/>
            <a:ext cx="435456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-4813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03280" y="6742080"/>
            <a:ext cx="561672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-3960"/>
            <a:ext cx="8820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зготовление валенок – дело не простое, здесь нужна физическая сила и много терпения, на которое способны не многие. Для того, чтобы сделать валенки, нужны сноровка и умение, но самое главное – это любовь мастера к своему делу и к людям, которые будут носить эту обувь. Может, потому так удобно и комфортно носить валенки, что они сохраняют тепло рук своих создателей. Как и прежде, ремесло валяния передаётся от мастера к мастеру из поколения в поко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альщик в былые времена – почитаемый на Руси мастер, и корни его мастерства уходят в века. Валенки не раз спасали русского человека во время невзгод, чему свидетельствуют фотографии времён Великой Отечественной войны. Без валенок было бы невозможно освоение северных регионов, совершение экспедиций на Северный и Южный полю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ы уже знаете, что валенки изготавливаются из овечьей шерсти. После того, как овечку остригли, шерсть моют и вычёсывают, потом прогоняют через шерстобойную машину, в результате получается тонкое мягкое поло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Его долго сглаживают пальцами, чтобы шерсть слиплась. Затем, словно из пластилина, лепят из полученной заготовки форму валенка и вываривают её в кипящей воде, чтобы шерсть свалялась ещё плотнее. Это заготовка уже отдалённа, напоминает по форме валенок, только очень большого разм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том заготовку натягивают на колодку и старательно отбивают со всех сторон деревянной колотушкой, пока изделие не примет форму обычного валенка и нужного разм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-5515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148360" y="3068640"/>
            <a:ext cx="3241440" cy="3147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391280" cy="2925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24000" y="3068640"/>
            <a:ext cx="4246560" cy="3187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179280" y="0"/>
            <a:ext cx="41403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662472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ожительное влияние валенок на здоровье человек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003640" y="3213000"/>
            <a:ext cx="3996000" cy="3214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50920" y="1485360"/>
            <a:ext cx="475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аленки - вещь полезная. Во всех отношениях. А все благодаря 100 % шерсти. Она не только надежно греет, но и лечит. Целебные свойства войлочной обуви были замечены еще во времена Петра I . Валенок охраняет стопу человека не только от холода, но и от жары. Ноги в валенках не потеют, так как волокна шерсти обеспечивают естественную циркуляцию воздуха. Валенки помогают снять нервное напряжение, чувство усталости и тяжести в ногах, боли в спи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2T17:40:32Z</dcterms:created>
  <dc:creator>nikolai</dc:creator>
  <dc:description/>
  <dc:language>en-US</dc:language>
  <cp:lastModifiedBy>nikolai</cp:lastModifiedBy>
  <dcterms:modified xsi:type="dcterms:W3CDTF">2015-01-02T18:35:21Z</dcterms:modified>
  <cp:revision>2</cp:revision>
  <dc:subject/>
  <dc:title>Из истории Валенка!</dc:title>
</cp:coreProperties>
</file>